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BCE-1F14-453A-9F51-1DBC7ECE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04A-FEE0-4F08-8235-605E1B46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4B5-A8CF-49E3-91D8-71AE615F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101-7E83-48BC-A5E4-305FAC68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15BC-7439-47F1-ADCD-EFD8FD2F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0F51-872B-49C6-94E6-C314104B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4F17-E644-4727-AF1F-D0C27DC1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F4A4-49CB-4349-9A43-36799293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507A-EB79-496F-8CF7-237D5E86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4508-91FD-4905-BE97-22CDF8F1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6241-C2C6-4D6A-B5CA-D2E4AEDE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0B7-9DC5-4FD7-8854-C419617D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75C9-B8AE-4D9C-BAC1-8CCD642E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CA8D-3A11-40B3-A216-836C537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86BC-945D-49E0-8E5D-115EB7C3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522B-590D-411F-B035-6A800C41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A8E1-1577-43DB-ACEA-7B5FBB2C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139-E495-4765-9384-F0561EF1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27C-B25A-4929-AE3B-B2A07785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6DF-A35A-407E-9AB0-8F77165F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556-9046-4DC7-9DA5-06085E50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D17-F373-49BB-9A96-D5D19F64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983-2CF4-452C-9A75-7F6A1652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4E1-3769-48DE-835E-4C4D1987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2A4B-ACA7-4E52-AE9B-28AAF1EB9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B5B-8311-47B1-9294-931764A90D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2411280" y="2421000"/>
            <a:ext cx="417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д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хие пл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115920"/>
            <a:ext cx="58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Ленинградская область, Волховский райо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МОБУ «Сясьстройская СОШ №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5013360"/>
            <a:ext cx="504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Состав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Бочкова Ирина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76960" y="333360"/>
            <a:ext cx="228600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. Крылат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90792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Семянки и орешки с крыловидным выро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749680" cy="360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08000" y="4041720"/>
            <a:ext cx="3600360" cy="270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844720" y="4292640"/>
            <a:ext cx="2735280" cy="2160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3598920" cy="2698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2484360" y="981000"/>
            <a:ext cx="2158920" cy="28465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859280" y="2637000"/>
            <a:ext cx="2806920" cy="216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233880" cy="34574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66" name=""/>
          <p:cNvSpPr txBox="1"/>
          <p:nvPr/>
        </p:nvSpPr>
        <p:spPr>
          <a:xfrm>
            <a:off x="3457440" y="115920"/>
            <a:ext cx="507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хие многосемянные пло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580000" y="692280"/>
            <a:ext cx="11905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Боб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19700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Плод из двух створок, к которым прикрепляются се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564000" y="2768760"/>
            <a:ext cx="5327640" cy="3898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51280" y="476280"/>
            <a:ext cx="4381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Стручок и стручочек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1125360"/>
            <a:ext cx="48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Плод из двух створок с перегородкой, к которой прикрепляются се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08000" y="3540240"/>
            <a:ext cx="4176720" cy="3201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3311640" cy="3297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356000" y="2565360"/>
            <a:ext cx="2952720" cy="4176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6804000" y="3284640"/>
            <a:ext cx="2185920" cy="2944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634000" y="115920"/>
            <a:ext cx="2467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Коробоч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620640"/>
            <a:ext cx="46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Круглый  плод, открывающийся крышечкой или отверст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08000" y="3884760"/>
            <a:ext cx="3122640" cy="2857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4920" y="44280"/>
            <a:ext cx="4486320" cy="3365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353280" y="2716200"/>
            <a:ext cx="2682720" cy="4025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348000" y="3141720"/>
            <a:ext cx="2949480" cy="3508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44280"/>
            <a:ext cx="4392720" cy="4162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3500280"/>
            <a:ext cx="500364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Обеспечивает созревание семя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Защищает созревающие сем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ahoma"/>
              </a:rPr>
              <a:t>Способствует распространению семя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067280" y="333360"/>
            <a:ext cx="3483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пл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859280" y="1268280"/>
            <a:ext cx="4105440" cy="5473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00000" y="3213000"/>
            <a:ext cx="7416360" cy="3239280"/>
            <a:chOff x="900000" y="3213000"/>
            <a:chExt cx="7416360" cy="3239280"/>
          </a:xfrm>
        </p:grpSpPr>
        <p:cxnSp>
          <p:nvCxnSpPr>
            <p:cNvPr id="90" name="_s5133"/>
            <p:cNvCxnSpPr>
              <a:stCxn id="91" idx="0"/>
              <a:endCxn id="92" idx="2"/>
            </p:cNvCxnSpPr>
            <p:nvPr/>
          </p:nvCxnSpPr>
          <p:spPr>
            <a:xfrm flipV="1" rot="16200000">
              <a:off x="5281560" y="3833280"/>
              <a:ext cx="648360" cy="199764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5131"/>
            <p:cNvCxnSpPr>
              <a:stCxn id="94" idx="0"/>
              <a:endCxn id="92" idx="2"/>
            </p:cNvCxnSpPr>
            <p:nvPr/>
          </p:nvCxnSpPr>
          <p:spPr>
            <a:xfrm flipH="1" flipV="1" rot="5400000">
              <a:off x="3285360" y="3833640"/>
              <a:ext cx="648360" cy="1996920"/>
            </a:xfrm>
            <a:prstGeom prst="bentConnector3">
              <a:avLst>
                <a:gd name="adj1" fmla="val 2088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5127"/>
            <p:cNvSpPr/>
            <p:nvPr/>
          </p:nvSpPr>
          <p:spPr>
            <a:xfrm>
              <a:off x="2896200" y="3213000"/>
              <a:ext cx="3422880" cy="12956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ahoma"/>
                </a:rPr>
                <a:t>Пло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5128"/>
            <p:cNvSpPr/>
            <p:nvPr/>
          </p:nvSpPr>
          <p:spPr>
            <a:xfrm>
              <a:off x="900000" y="5156640"/>
              <a:ext cx="3422880" cy="12956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ahoma"/>
                </a:rPr>
                <a:t>Околоплодник-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cc"/>
                  </a:solidFill>
                  <a:latin typeface="Tahoma"/>
                </a:rPr>
                <a:t>это наружная часть плода,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cc"/>
                  </a:solidFill>
                  <a:latin typeface="Tahoma"/>
                </a:rPr>
                <a:t>образующаяся из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33cc"/>
                  </a:solidFill>
                  <a:latin typeface="Tahoma"/>
                </a:rPr>
                <a:t>стенок завяз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5130"/>
            <p:cNvSpPr/>
            <p:nvPr/>
          </p:nvSpPr>
          <p:spPr>
            <a:xfrm>
              <a:off x="4893480" y="5156640"/>
              <a:ext cx="3422880" cy="12956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ahoma"/>
                </a:rPr>
                <a:t>Семена –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Tahoma"/>
                </a:rPr>
                <a:t>образуются из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Tahoma"/>
                </a:rPr>
                <a:t>семязачатков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2732040" cy="3238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96" name=""/>
          <p:cNvSpPr/>
          <p:nvPr/>
        </p:nvSpPr>
        <p:spPr>
          <a:xfrm flipH="1" flipV="1">
            <a:off x="1835280" y="2205000"/>
            <a:ext cx="2520720" cy="2872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2410920" y="1628280"/>
            <a:ext cx="151308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1268280"/>
            <a:ext cx="345744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околоплод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443640" y="115920"/>
            <a:ext cx="2570040" cy="3168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0" name=""/>
          <p:cNvSpPr/>
          <p:nvPr/>
        </p:nvSpPr>
        <p:spPr>
          <a:xfrm flipV="1">
            <a:off x="6012000" y="1628280"/>
            <a:ext cx="865080" cy="36036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80000" y="2060280"/>
            <a:ext cx="1440000" cy="43164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84360" y="115920"/>
            <a:ext cx="48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 пл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916360" y="44280"/>
            <a:ext cx="324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пл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692280"/>
            <a:ext cx="180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сты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635280" y="981000"/>
            <a:ext cx="1800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жны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88000" y="620640"/>
            <a:ext cx="1886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плоди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404640"/>
            <a:ext cx="1584360" cy="289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765000"/>
            <a:ext cx="0" cy="2160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333360"/>
            <a:ext cx="1224000" cy="2872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0" y="105264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развиваются, если в цветке один пест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87640" y="141300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развиваются, если в цветке несколько пест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1052640"/>
            <a:ext cx="31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образуются из целого соцветия,  несколько плодов сраст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8000" y="2349360"/>
            <a:ext cx="2879640" cy="2159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132000" y="2421000"/>
            <a:ext cx="2880000" cy="216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492360" y="4292640"/>
            <a:ext cx="2159280" cy="24494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156360" y="2349360"/>
            <a:ext cx="2879640" cy="2160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6443640" y="4221000"/>
            <a:ext cx="2158920" cy="2543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39640" y="4324320"/>
            <a:ext cx="2159280" cy="24177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856720" cy="6553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6659640" y="2133720"/>
            <a:ext cx="108108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866920" y="2133720"/>
            <a:ext cx="36036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2133720"/>
            <a:ext cx="50328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19280" y="2133720"/>
            <a:ext cx="122400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24000" y="260280"/>
            <a:ext cx="5002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ификация пл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5640" y="1197000"/>
            <a:ext cx="799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 По особенностям строения околоплодн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340000" y="1844640"/>
            <a:ext cx="107964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х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724360" y="177336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87280" y="2349360"/>
            <a:ext cx="6842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IПо количеству семян в плод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2836800"/>
            <a:ext cx="1847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осемянны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87640" y="2852640"/>
            <a:ext cx="1733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48360" y="2852640"/>
            <a:ext cx="16095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086600" y="2852640"/>
            <a:ext cx="17334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3429000"/>
            <a:ext cx="208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Зерн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Сем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Оре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рыла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Жёлу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3500280"/>
            <a:ext cx="194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Б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Струч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ороб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500280"/>
            <a:ext cx="22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ост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Многокост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3500280"/>
            <a:ext cx="1944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Я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Ябло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Тыкв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Гесперид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(померане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1640" y="1700280"/>
            <a:ext cx="346716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Кожистый околоплодник срастается с семен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47640" y="333360"/>
            <a:ext cx="604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хие односемянные пло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8000" y="981000"/>
            <a:ext cx="4317840" cy="32385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572000" y="3887640"/>
            <a:ext cx="4392720" cy="28544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979640" y="3068640"/>
            <a:ext cx="3095640" cy="2521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42" name=""/>
          <p:cNvSpPr txBox="1"/>
          <p:nvPr/>
        </p:nvSpPr>
        <p:spPr>
          <a:xfrm>
            <a:off x="5435640" y="1052640"/>
            <a:ext cx="1790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Зерновка</a:t>
            </a:r>
            <a:endParaRPr b="0" i="1" lang="en-US" sz="32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81832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Пшеница, рожь, пыр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овёс, кукуру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048360" y="189000"/>
            <a:ext cx="2124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Семян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836640"/>
            <a:ext cx="324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Кожистый околоплодник не срастается с семе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88000" y="3581280"/>
            <a:ext cx="4213080" cy="3160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083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619280" y="2637000"/>
            <a:ext cx="4608360" cy="30254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227640" y="189000"/>
            <a:ext cx="981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Орех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3440" y="765000"/>
            <a:ext cx="431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Околоплодник деревянистый, не срастается с семе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4186080" cy="5041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27640" y="2451240"/>
            <a:ext cx="4537080" cy="4290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932360" y="476280"/>
            <a:ext cx="1952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Жёлудь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1125360"/>
            <a:ext cx="388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Околоплодник менее жёсткий, чем у ореха. Имеет чашевидную плю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333960" cy="3476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635280" y="3165480"/>
            <a:ext cx="5329440" cy="35431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7:28:38Z</dcterms:created>
  <dc:creator>Бочкова И.А.</dc:creator>
  <dc:description/>
  <dc:language>en-US</dc:language>
  <cp:lastModifiedBy>User</cp:lastModifiedBy>
  <dcterms:modified xsi:type="dcterms:W3CDTF">2012-06-19T17:22:17Z</dcterms:modified>
  <cp:revision>15</cp:revision>
  <dc:subject/>
  <dc:title>Плоды</dc:title>
</cp:coreProperties>
</file>