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9.jpeg" ContentType="image/jpeg"/>
  <Override PartName="/ppt/media/image10.jpeg" ContentType="image/jpeg"/>
  <Override PartName="/ppt/media/image35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D65B-1924-4F4F-9C44-7B5B9D5D9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BD18-8398-4832-AF82-34AA4DF03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43C9-EB44-4B6C-9DC4-50EFC41D1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DD3A-BD72-4836-B6E2-37A9576FF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6FD9C-1B0B-4297-BDB8-64A001FE6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B52FE-DAA5-428C-8525-D73993ED1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6388A-AA76-460A-A2F9-321EB0994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5E026-1BCE-422E-91D1-9B213222A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C6533-AB9B-438A-87AE-922075115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E6913-38B4-4102-A481-66FA4E188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1164D-D1BA-4B2D-9424-A1B2AE53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B70F-8FCD-4E49-97DA-C7B906C52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464D6-B242-433A-9E3C-74F776F3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155B0-795C-41DB-A613-A89AD02F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7910A-EDAE-4D87-940D-C04FBFD26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7159C-4617-4177-90CB-C7A24EC7A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E3D5E-B935-4D50-94BB-FD5D5AA46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87CC-4885-4BF5-94C9-6E507AEF3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6D9A-3407-4F62-916B-D13DAB71D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B053-3D9C-4C13-BA36-1070733C5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718E-9782-4C28-A41B-43FB4F00B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CEC6-5B72-4A7B-A938-0E5235D1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8252-8E73-48D2-9BB2-D1BF5294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80CD-F9D3-4A10-B4DA-798966A2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B15DA-A36C-4EBE-9689-8FCCC57F92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85C57-415C-4AC4-9871-9AE7210A756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79280" y="135000"/>
            <a:ext cx="8785440" cy="658800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82" name=""/>
          <p:cNvSpPr txBox="1"/>
          <p:nvPr/>
        </p:nvSpPr>
        <p:spPr>
          <a:xfrm>
            <a:off x="2411280" y="2421000"/>
            <a:ext cx="417672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лоды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ухие плод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"/>
          <p:cNvSpPr/>
          <p:nvPr/>
        </p:nvSpPr>
        <p:spPr>
          <a:xfrm>
            <a:off x="1835280" y="115920"/>
            <a:ext cx="5832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Ленинградская область, Волховский район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МОБУ «Сясьстройская СОШ №2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5013360"/>
            <a:ext cx="5040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00"/>
                </a:solidFill>
                <a:latin typeface="Tahoma"/>
              </a:rPr>
              <a:t>Составил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00"/>
                </a:solidFill>
                <a:latin typeface="Tahoma"/>
              </a:rPr>
              <a:t>учитель биологии и хим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00"/>
                </a:solidFill>
                <a:latin typeface="Tahoma"/>
              </a:rPr>
              <a:t>высшей квалификационной катего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00"/>
                </a:solidFill>
                <a:latin typeface="Tahoma"/>
              </a:rPr>
              <a:t>Бочкова Ирина Анатоль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5376960" y="333360"/>
            <a:ext cx="228600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. Крылатка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716360" y="907920"/>
            <a:ext cx="41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Семянки и орешки с крыловидным вырост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300720" y="3141720"/>
            <a:ext cx="2749680" cy="360036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108000" y="4041720"/>
            <a:ext cx="3600360" cy="270036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2844720" y="4292640"/>
            <a:ext cx="2735280" cy="216072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108000" y="115920"/>
            <a:ext cx="3598920" cy="269856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63" name="" descr=""/>
          <p:cNvPicPr/>
          <p:nvPr/>
        </p:nvPicPr>
        <p:blipFill>
          <a:blip r:embed="rId6"/>
          <a:stretch/>
        </p:blipFill>
        <p:spPr>
          <a:xfrm>
            <a:off x="2484360" y="981000"/>
            <a:ext cx="2158920" cy="284652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64" name="" descr=""/>
          <p:cNvPicPr/>
          <p:nvPr/>
        </p:nvPicPr>
        <p:blipFill>
          <a:blip r:embed="rId7"/>
          <a:stretch/>
        </p:blipFill>
        <p:spPr>
          <a:xfrm>
            <a:off x="4859280" y="2637000"/>
            <a:ext cx="2806920" cy="216036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3233880" cy="345744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166" name=""/>
          <p:cNvSpPr txBox="1"/>
          <p:nvPr/>
        </p:nvSpPr>
        <p:spPr>
          <a:xfrm>
            <a:off x="3457440" y="115920"/>
            <a:ext cx="5075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ухие многосемянные плоды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580000" y="692280"/>
            <a:ext cx="119052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. Боб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780000" y="1197000"/>
            <a:ext cx="496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Плод из двух створок, к которым прикрепляются семе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3564000" y="2768760"/>
            <a:ext cx="5327640" cy="389880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851280" y="476280"/>
            <a:ext cx="438156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. Стручок и стручочек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24360" y="1125360"/>
            <a:ext cx="489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Плод из двух створок с перегородкой, к которой прикрепляются семе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08000" y="3540240"/>
            <a:ext cx="4176720" cy="320184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108000" y="115920"/>
            <a:ext cx="3311640" cy="329724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4356000" y="2565360"/>
            <a:ext cx="2952720" cy="417672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6804000" y="3284640"/>
            <a:ext cx="2185920" cy="294480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5634000" y="115920"/>
            <a:ext cx="246708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. Коробочка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00720" y="620640"/>
            <a:ext cx="4679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Круглый  плод, открывающийся крышечкой или отверстия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108000" y="3884760"/>
            <a:ext cx="3122640" cy="285732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34920" y="44280"/>
            <a:ext cx="4486320" cy="336564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6353280" y="2716200"/>
            <a:ext cx="2682720" cy="402588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>
            <a:off x="3348000" y="3141720"/>
            <a:ext cx="2949480" cy="350820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08000" y="44280"/>
            <a:ext cx="4392720" cy="416268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-360" y="3500280"/>
            <a:ext cx="500364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Tahoma"/>
              </a:rPr>
              <a:t>Обеспечивает созревание семя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Tahoma"/>
              </a:rPr>
              <a:t>Защищает созревающие семе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Tahoma"/>
              </a:rPr>
              <a:t>Способствует распространению семя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067280" y="333360"/>
            <a:ext cx="3483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начение пло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859280" y="1268280"/>
            <a:ext cx="4105440" cy="547380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900000" y="3213000"/>
            <a:ext cx="7416360" cy="3239280"/>
            <a:chOff x="900000" y="3213000"/>
            <a:chExt cx="7416360" cy="3239280"/>
          </a:xfrm>
        </p:grpSpPr>
        <p:cxnSp>
          <p:nvCxnSpPr>
            <p:cNvPr id="90" name="_s5133"/>
            <p:cNvCxnSpPr>
              <a:stCxn id="91" idx="0"/>
              <a:endCxn id="92" idx="2"/>
            </p:cNvCxnSpPr>
            <p:nvPr/>
          </p:nvCxnSpPr>
          <p:spPr>
            <a:xfrm flipV="1" rot="16200000">
              <a:off x="5281560" y="3833280"/>
              <a:ext cx="648360" cy="1997640"/>
            </a:xfrm>
            <a:prstGeom prst="bentConnector3">
              <a:avLst>
                <a:gd name="adj1" fmla="val 2088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3" name="_s5131"/>
            <p:cNvCxnSpPr>
              <a:stCxn id="94" idx="0"/>
              <a:endCxn id="92" idx="2"/>
            </p:cNvCxnSpPr>
            <p:nvPr/>
          </p:nvCxnSpPr>
          <p:spPr>
            <a:xfrm flipH="1" flipV="1" rot="5400000">
              <a:off x="3285360" y="3833640"/>
              <a:ext cx="648360" cy="1996920"/>
            </a:xfrm>
            <a:prstGeom prst="bentConnector3">
              <a:avLst>
                <a:gd name="adj1" fmla="val 20888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2" name="_s5127"/>
            <p:cNvSpPr/>
            <p:nvPr/>
          </p:nvSpPr>
          <p:spPr>
            <a:xfrm>
              <a:off x="2896200" y="3213000"/>
              <a:ext cx="3422880" cy="129564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ahoma"/>
                </a:rPr>
                <a:t>Плод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_s5128"/>
            <p:cNvSpPr/>
            <p:nvPr/>
          </p:nvSpPr>
          <p:spPr>
            <a:xfrm>
              <a:off x="900000" y="5156640"/>
              <a:ext cx="3422880" cy="129564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ahoma"/>
                </a:rPr>
                <a:t>Околоплодник-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33cc"/>
                  </a:solidFill>
                  <a:latin typeface="Tahoma"/>
                </a:rPr>
                <a:t>это наружная часть плода,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33cc"/>
                  </a:solidFill>
                  <a:latin typeface="Tahoma"/>
                </a:rPr>
                <a:t>образующаяся из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33cc"/>
                  </a:solidFill>
                  <a:latin typeface="Tahoma"/>
                </a:rPr>
                <a:t>стенок завязи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_s5130"/>
            <p:cNvSpPr/>
            <p:nvPr/>
          </p:nvSpPr>
          <p:spPr>
            <a:xfrm>
              <a:off x="4893480" y="5156640"/>
              <a:ext cx="3422880" cy="129564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ahoma"/>
                </a:rPr>
                <a:t>Семена –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cc"/>
                  </a:solidFill>
                  <a:latin typeface="Tahoma"/>
                </a:rPr>
                <a:t>образуются из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cc"/>
                  </a:solidFill>
                  <a:latin typeface="Tahoma"/>
                </a:rPr>
                <a:t>семязачатков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2732040" cy="323856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96" name=""/>
          <p:cNvSpPr/>
          <p:nvPr/>
        </p:nvSpPr>
        <p:spPr>
          <a:xfrm flipH="1" flipV="1">
            <a:off x="1835280" y="2205000"/>
            <a:ext cx="2520720" cy="28728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2410920" y="1628280"/>
            <a:ext cx="1513080" cy="36036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03640" y="1268280"/>
            <a:ext cx="3457440" cy="19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cc"/>
                </a:solidFill>
                <a:latin typeface="Tahoma"/>
              </a:rPr>
              <a:t>околоплодн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cc"/>
                </a:solidFill>
                <a:latin typeface="Tahoma"/>
              </a:rPr>
              <a:t>семе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443640" y="115920"/>
            <a:ext cx="2570040" cy="316872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100" name=""/>
          <p:cNvSpPr/>
          <p:nvPr/>
        </p:nvSpPr>
        <p:spPr>
          <a:xfrm flipV="1">
            <a:off x="6012000" y="1628280"/>
            <a:ext cx="865080" cy="36036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580000" y="2060280"/>
            <a:ext cx="1440000" cy="43164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484360" y="115920"/>
            <a:ext cx="4897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роение пло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2916360" y="44280"/>
            <a:ext cx="3240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иды плодо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24000" y="692280"/>
            <a:ext cx="1800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остые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635280" y="981000"/>
            <a:ext cx="180036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ложные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588000" y="620640"/>
            <a:ext cx="188604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оплодия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186920" y="404640"/>
            <a:ext cx="1584360" cy="28908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00720" y="765000"/>
            <a:ext cx="0" cy="21600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300720" y="333360"/>
            <a:ext cx="1224000" cy="28728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920" y="1052640"/>
            <a:ext cx="287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cc"/>
                </a:solidFill>
                <a:latin typeface="Tahoma"/>
              </a:rPr>
              <a:t>развиваются, если в цветке один пест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987640" y="1413000"/>
            <a:ext cx="324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cc"/>
                </a:solidFill>
                <a:latin typeface="Tahoma"/>
              </a:rPr>
              <a:t>развиваются, если в цветке несколько пестик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12000" y="1052640"/>
            <a:ext cx="313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cc"/>
                </a:solidFill>
                <a:latin typeface="Tahoma"/>
              </a:rPr>
              <a:t>образуются из целого соцветия,  несколько плодов срастаетс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08000" y="2349360"/>
            <a:ext cx="2879640" cy="215928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3132000" y="2421000"/>
            <a:ext cx="2880000" cy="216036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3492360" y="4292640"/>
            <a:ext cx="2159280" cy="244944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6156360" y="2349360"/>
            <a:ext cx="2879640" cy="216072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6443640" y="4221000"/>
            <a:ext cx="2158920" cy="254340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539640" y="4324320"/>
            <a:ext cx="2159280" cy="241776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08000" y="189000"/>
            <a:ext cx="8856720" cy="655308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120" name=""/>
          <p:cNvSpPr/>
          <p:nvPr/>
        </p:nvSpPr>
        <p:spPr>
          <a:xfrm>
            <a:off x="6659640" y="2133720"/>
            <a:ext cx="1081080" cy="71892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5866920" y="2133720"/>
            <a:ext cx="360360" cy="71892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32000" y="2133720"/>
            <a:ext cx="503280" cy="71892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1619280" y="2133720"/>
            <a:ext cx="1224000" cy="71892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124000" y="260280"/>
            <a:ext cx="50022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лассификация плодо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755640" y="1197000"/>
            <a:ext cx="7993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I По особенностям строения околоплодник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340000" y="1844640"/>
            <a:ext cx="1079640" cy="30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ухи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724360" y="1773360"/>
            <a:ext cx="14400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очны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187280" y="2349360"/>
            <a:ext cx="68421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IIПо количеству семян в плодах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50920" y="2836800"/>
            <a:ext cx="18478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дносемянны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987640" y="2852640"/>
            <a:ext cx="173376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ногосемянны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148360" y="2852640"/>
            <a:ext cx="160956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дносемянны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7086600" y="2852640"/>
            <a:ext cx="173340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ногосемянны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5280" y="3429000"/>
            <a:ext cx="20890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ahoma"/>
              </a:rPr>
              <a:t>Зернов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ahoma"/>
              </a:rPr>
              <a:t>Семян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ahoma"/>
              </a:rPr>
              <a:t>Оре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ahoma"/>
              </a:rPr>
              <a:t>Крылат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ahoma"/>
              </a:rPr>
              <a:t>Жёлуд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59280" y="3500280"/>
            <a:ext cx="1944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ahoma"/>
              </a:rPr>
              <a:t>Бо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ahoma"/>
              </a:rPr>
              <a:t>Струч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ahoma"/>
              </a:rPr>
              <a:t>Коробоч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16360" y="3500280"/>
            <a:ext cx="2232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ahoma"/>
              </a:rPr>
              <a:t>Костян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ahoma"/>
              </a:rPr>
              <a:t>Многокостян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948360" y="3500280"/>
            <a:ext cx="19447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ahoma"/>
              </a:rPr>
              <a:t>Яг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ahoma"/>
              </a:rPr>
              <a:t>Яблок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ahoma"/>
              </a:rPr>
              <a:t>Тыкви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ahoma"/>
              </a:rPr>
              <a:t>Гесперид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ahoma"/>
              </a:rPr>
              <a:t>(померанец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1640" y="1700280"/>
            <a:ext cx="346716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Кожистый околоплодник срастается с семене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547640" y="333360"/>
            <a:ext cx="604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ухие односемянные плоды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08000" y="981000"/>
            <a:ext cx="4317840" cy="323856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4572000" y="3887640"/>
            <a:ext cx="4392720" cy="285444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1979640" y="3068640"/>
            <a:ext cx="3095640" cy="252108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142" name=""/>
          <p:cNvSpPr txBox="1"/>
          <p:nvPr/>
        </p:nvSpPr>
        <p:spPr>
          <a:xfrm>
            <a:off x="5435640" y="1052640"/>
            <a:ext cx="179064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. Зерновка</a:t>
            </a:r>
            <a:endParaRPr b="0" i="1" lang="en-US" sz="3200" spc="1" strike="noStrike">
              <a:ln w="9360">
                <a:solidFill>
                  <a:srgbClr val="9933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5818320"/>
            <a:ext cx="367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ahoma"/>
              </a:rPr>
              <a:t>Пшеница, рожь, пырей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ahoma"/>
              </a:rPr>
              <a:t>овёс, кукуруз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6048360" y="189000"/>
            <a:ext cx="212400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. Семянка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435640" y="836640"/>
            <a:ext cx="324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Кожистый околоплодник не срастается с семен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788000" y="3581280"/>
            <a:ext cx="4213080" cy="316080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5040360" cy="308304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1619280" y="2637000"/>
            <a:ext cx="4608360" cy="302544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227640" y="189000"/>
            <a:ext cx="98136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. Орех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73440" y="765000"/>
            <a:ext cx="4319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Околоплодник деревянистый, не срастается с семен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4186080" cy="504180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4427640" y="2451240"/>
            <a:ext cx="4537080" cy="429084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932360" y="476280"/>
            <a:ext cx="195264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4. Жёлудь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11640" y="1125360"/>
            <a:ext cx="3887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Околоплодник менее жёсткий, чем у ореха. Имеет чашевидную плюс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179280" y="981000"/>
            <a:ext cx="3333960" cy="347688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3635280" y="3165480"/>
            <a:ext cx="5329440" cy="354312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0T07:28:38Z</dcterms:created>
  <dc:creator>Бочкова И.А.</dc:creator>
  <dc:description/>
  <dc:language>en-US</dc:language>
  <cp:lastModifiedBy>User</cp:lastModifiedBy>
  <dcterms:modified xsi:type="dcterms:W3CDTF">2012-06-19T17:22:17Z</dcterms:modified>
  <cp:revision>15</cp:revision>
  <dc:subject/>
  <dc:title>Плоды</dc:title>
</cp:coreProperties>
</file>