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D1C-0AED-4807-A353-B5CA3ECB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561-1019-473E-9CB0-2F76B021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7537-2D34-4456-BDAC-6C7FFACC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525-609D-45B5-AE53-46C6E4C5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028-5EFE-4DC4-BE47-B2276EB6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959-B716-499A-9A93-7836AD78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3FC-444C-41C2-8D11-EDFCE751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AB6-A77C-432C-90F8-E4BABA0E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560-7454-40D1-90EC-0A643A17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57E-9B68-49E7-8BDD-77D69F7E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2D3-4F07-47BE-BD9E-C98A3A6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330-8144-41C4-B528-B17B8DCE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4567-1C54-4ADB-ACE2-E302E9366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 по математике на тему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Здоровье» 5-9 клас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Здоровье – не  вс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без здоровья – ничто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авое полушар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  36   42  18  14   11  7  1  14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    А     З    Л    И    Ч  Е   Н  И 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  1   35   25  1  36   48   14 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   Н   Т     О   Н  А     Ц    И 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  7   11  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   Е    Ч   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айдите число по его процентам и расшифруйте, какое чувство появляется у человека, сидящего в комнате со стенами зеленого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число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% его составляют 200 - 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4 % - составляют 11,1 – 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% - составляют 48 –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5 % - составляют 45 – 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% - составляют 35 – 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 % - составляют 5, 6 –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0 % - составляет 66 – 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0 % - составляют 6,75 –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% - составляют 3,6 –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2209680"/>
          <a:ext cx="8229600" cy="1706760"/>
        </p:xfrm>
        <a:graphic>
          <a:graphicData uri="http://schemas.openxmlformats.org/drawingml/2006/table">
            <a:tbl>
              <a:tblPr/>
              <a:tblGrid>
                <a:gridCol w="747720"/>
                <a:gridCol w="749160"/>
                <a:gridCol w="747720"/>
                <a:gridCol w="747720"/>
                <a:gridCol w="747720"/>
                <a:gridCol w="749520"/>
                <a:gridCol w="747720"/>
                <a:gridCol w="747720"/>
                <a:gridCol w="747720"/>
                <a:gridCol w="749160"/>
                <a:gridCol w="747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  1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Задачи на проценты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Решите уравнения и выясните, какие вещества вносят наибольший вклад в образование избыточной массы т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– (4х – 18) = (36 + 4х) + (18 – 6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6х – (х – 2,8) = (0,2х + 1,5) – 0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,5х + 1,2) – (3,6 – 4,5х) = (4,8 – 0,3х)+ (10,5 + 0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х – 7) – 2х + 9 = - 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(х + 3,6) = 3х –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4х + 3 = 0,2 (3х + 1) –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(х -0,8) = 3,8х – 5,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13 – шоколад,  - 13 – кабачки, - 3,5 – копченая колбаса, 3,5 – овсяная каша, - 15,8 – соленая рыба, - 1,58 – баклажаны, - 1,5 – кока-кола, - 5 – консервы, - 1,2 – гречка, - 12 – чип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– попкорн, - 0,3 – кукуру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укты содержащие, сахар, соль, специи способствуют появлению лишнего в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Отрицательные числа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клас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Способность среднего человека запоминать производную информацию составляет 40% от способности тренированн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произвольно названных слов они запомнят вместе, если обычный человек запомнил на 12 слов меньше тренированн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8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ычный человек может удержать в кратковременной памяти приблизительно от 5 до 9 единиц запоминаемого материала, тренированный человек способен удерживать в памяти и воспроизводить при необходимости до 20 единиц информации. При этом способности памяти просто огром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Японии происходят соревнования среди тех, кто смог выучить наибольшее количество знаков «П». Житель Японии в 1987 г. назвал по памяти 40 000 знаков числа «П» на это у него ушло 17 часов 21 м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Решение задач на уравнения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Запишите произведение в виде степени. Четные показатели составьте в порядке убывания, и у Вас получится имя Древнегреческой богини «Здоровь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х –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5,6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37/4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– 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 43,7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43,7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43,7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43,7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–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,3 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7,3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7,3 – 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с –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1,3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-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/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- 6/17)  (- 6/17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 6/17)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у –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41,2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41,23 – 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8 7/12с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-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звание какого из разделов медицины происходит от ее име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 изучается в этом разд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Гигиена – раздел медицины, изучающий условия сохран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Степень с натуральным показателем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Вычисли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5) / 2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7) /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8) /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/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6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 2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/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йдите сумму полученных чисел, удвойте ее и Вы узнаете, до какого размера можно (но не нужно) вырастить человеческий ного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4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хотят иметь аккуратные ногти, но не многие этим могут похвастаться. Хрупкость и расслоение ногтей может быть связано с не сколькими вещами. Возможно в организме не хватает цинка или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Свойство степени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роизведение 2 х последовательных натуральных чисел равно 132. Найдите сумму этих чисел. И вы узнаете, сколько пар хромосом в хромосомном наборе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3 па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Решите уравнения. Расположите корни в порядке возрастания и вы расшифруете стихотво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,5 – в наследство 0,2 отпрыск – 1 – что 2 2/3 – получает – 10 как 3 – сын, 2 – мудрец, 5,5 – талант, 8 – и , 23 – отца, (10 + √ 2) / 7 от (10 - √ 2) / 7 рожд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 + √ 2) – знания, (5 - √ 2) – ж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4а + 16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с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6с + 3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2х - 80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22s - 23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х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36х + 7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у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22у - 3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20z +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у - 25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жаль, что отпрыск неразум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ждается от мудре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получает сын в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лант и знания от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Решение квадратных уравнений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кажите, что при всех допустимых значениях переменных значения выражения не зависит от значения перем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1_____             _____1_____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– 2 а</a:t>
            </a:r>
            <a:r>
              <a:rPr b="0" lang="ru-RU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b</a:t>
            </a:r>
            <a:r>
              <a:rPr b="0" lang="ru-RU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+ b</a:t>
            </a:r>
            <a:r>
              <a:rPr b="0" lang="ru-RU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аb + b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2аb + b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у кого больше волос на голове. Если у Вас получилось – 5, то больше всего волос у брюнетов, если у Вас получилось 4, то больше всего волос у рыжих, если – 4, то самые волосатые блондины, а если – 2, то это шат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685800" y="259092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243828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из важнейших задач, стоящих перед школой, является сохранение здоровья детей. Понятие технологий здорово – сбережения слишком широко, остановимся на том, что на уроках математики ученик может получать знания о сохранение и укрепление своего здоровья через решение задач. В данной статье предоставлены примеры различных задач для учащихся 5 – 9 классов, которые я использую в своей работе. Учащиеся не только с интересом решают такие задачи, но и составляют свои, а для этого им требуется подобрать материал, составить задачу, а потом они с удовольствием представляют ее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циональные дроби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Дана геометрическая прогрессия. Найди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½, q = ½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1, q = 1/10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2,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54, 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ьным ответом соответствуют вещества, которые губят вирус спида при открытом воздей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2 – спирт, 1 000 – ацетон, – 32 – касторовое масло, 0,5 – гидрохлорид натрия, 2 – крем от загара, - 162 – эфи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рус погибает при нагревании до 57 градусов С, на поверхности кожи быстро разрушается под действием защитных ферментом организма и бакте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Геометрическая прогрессия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ешите уравнения методом группировки, найдите сумму всех его кор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умма корней отрицательна, то для зубов полезнее есть сладкое маленькими порциями в течение д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умма корней положительная, то для зубов полезнее 1 раз в день съесть большое количество слад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6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6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 5х + 5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 - √3 + √3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ый образ жизни пока не занимает 1 место в главных ценностях человека в нашем обществе. Но если мы научим детей ценить, беречь, укреплять свое здоровье, то можно надеяться, что они будут здоровы и развиты, не только духовно, но и физи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 клас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Средняя частота пульса у 10-летнего ребенка во время бодрствования 85 ударов в минуту. Сколько приходится в день совершить толчков сердцу, если разбудили его в 7 часов утра, а оторвали от телевизора и сунули под одеяло в 10 часов веч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6 500 уда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тренированнее человек, тем меньше ударов делает его сердце, и тем меньше оно изнашивается, потому что в промежутках между сокращениями, оно успевает отды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Натуральные числа и действия над ни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2514600"/>
          <a:ext cx="8229600" cy="2306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       27 х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      204 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     3 х 4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       280 :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     12 х 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   750 : 1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  216 : 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52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26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   70 х 3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840 : 14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  480 : 4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838080" y="4952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селер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920" y="1447200"/>
            <a:ext cx="86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Расположи ответы примеров в порядке убыв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ы узнаешь, как называется ускорение роста и развития детей и подрос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туральные числа и действия над ними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С помощью признаков делимости на 2, 3, 5 и признаков делимости суммы и разности  найдите истинное высказы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 букв соответствующих истинным высказываниям, составьте слово. Что оно обознач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– 67 009 не кратно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 – 100 является делителем 6 2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 – 264 000 – 780 делится на 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 – 53 622 кратно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 – 92 х 35 000 х 4 кратно 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 – 367 + 24 не делится 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– 31 х 23 х 105 делится на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– 5 не является делителем 23 7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– 200 не кратно 4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: Ст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есс – состояние повышенного нервного напряжения, вызванное таким-то сильным раздражи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(Признаки делимости)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Упрости выражение и найди их значение, при данных значениях переме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оложите ответы в порядке возрастания и вы узнаете, сколько коренных зубов оказывается у человека к 12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,4 + а + (6,38 – 5,38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а = 0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+ 42,6 – (14,567 + 4,43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= 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– (60,13 – (118,27 – 64,64)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= 4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8 шт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рость роста и замена зубов у каждого человека индивидуальна и зависит от наследственности, питания и условия жизни. Обычно зубы заменяются, только один раз в жизни, но известны случаи, когда на одном и том же месте они вырастали 3 и даже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Десятичные дроби)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еловеческий глаз отчетливо воспринимает изображение, мелькающее со скоростью 24 кадра в секунду, что составляет 2/25 от способности насекомых. Сколько картинок может воспринимать  в секунду муха пролетающая над класс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00 кад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человека менее совершен, чем глаз насекомого. Насекомые могут различать до 300 изображений в секунду. Максимальные возможности человека 30 изображений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Обыкновенные дро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Запишите равенства, вставляя вместо букв подходящие числа. Используя основное свойство дроби узнай преимущественные функции правого и левого полушария. . Запишите равенства, вставляя вместо букв подходящие числа. Используя основное свойство дроби узнай преимущественные функции правого и левого полуш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3 = в/6, 24/44 = в/ч, 15/18 = о/30, 28/49 = 8/и, 24/45 = о/в, Е/21 = 1/3, Щ/11 = 30/55, 25/75 = Н/3, 24/З = 8/14, 15/16 = 45/Ц, 16/36 = 8/Л, 7/12 = Т/60, 3/5 = 18/Р, 18/А = 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Левое полушар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 7 11  7  4 25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  Е  Ч   Е В  О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 15  16  7  1 14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   Б    Щ  Е Н  И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9T09:04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