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D05-7CDB-450E-A40C-C8157261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033-A888-4A09-8D6F-D2E40DD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158F-521E-41D3-A451-E0B1296D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C99-6E3B-40AA-92CD-ACB4475C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056C-83C5-47CF-9A20-258E4975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C943-B563-47C8-98BE-A754983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E1D-240C-4323-AD9A-F08C828B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11A0-BD1B-465D-98F4-EF162EA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0AE6-ADB0-4C09-9162-6D540423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02C4-4C4C-4B7A-9BC0-1144CCB7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DF38-4371-41C9-87A8-A6F8F49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D28-81A1-414D-B5F8-6479C086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491-D6B2-46F2-B678-AA84522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C835-89D0-4C57-BB11-0C97FDE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B594-8CF4-4AB2-A912-6F882057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A10A-6654-4EDD-ACEC-55177A74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9C54-8C97-4551-A576-FB0CC6F7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CE7-FE7B-4536-9413-67B0802A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CAE-F382-4FFE-BBD3-26585F01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A8C-1BAD-45D1-B460-B626A035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DF5-AC4E-4E39-9D0C-A35169D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5DD-3547-4F78-96E9-569E104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3C6-13A9-4D44-BC5F-04E30044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48A-C926-43A1-8D18-62005CA0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560-7800-4EFB-95AE-BF9AC9867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BEE4-7201-4F7C-9704-3BBB27E67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6200" y="836640"/>
            <a:ext cx="82468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 Black"/>
              </a:rPr>
              <a:t>Лоскутная пластика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5640" y="2565360"/>
            <a:ext cx="67834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Диванная под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924360" y="4221000"/>
            <a:ext cx="47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а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МОВА  АЛЁ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ца 7 к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ь: ЛУГИНИНА НАТАЛЬЯ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У СОШ №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Тв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Фото-0006_e1"/>
          <p:cNvPicPr/>
          <p:nvPr/>
        </p:nvPicPr>
        <p:blipFill>
          <a:blip r:embed="rId1"/>
          <a:stretch/>
        </p:blipFill>
        <p:spPr>
          <a:xfrm>
            <a:off x="0" y="3213000"/>
            <a:ext cx="370692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3040" y="549360"/>
            <a:ext cx="82375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ткани к раскро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обранную ткань взять и отутю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лоскутки в коробочки по ц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езать кр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лоскутки не подходят по цвету, то их можно выкрасить в один 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всего составлять узор 2-4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я изделия нужно стараться гармонично подбирать ткани разных по насыщенности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511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обое внимание в лоскутной технике уделяется цвету и его сочетаниям. Все цвета условно делятся на тёплые (красный, жёлтый, оранжевый) и холодные (синий фиолетовый, зелёный), они же ахроматические цвета. Так же  нейтральные (хроматические) белый, чёрный, сер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7" descr="Рисунок11"/>
          <p:cNvPicPr/>
          <p:nvPr/>
        </p:nvPicPr>
        <p:blipFill>
          <a:blip r:embed="rId1"/>
          <a:stretch/>
        </p:blipFill>
        <p:spPr>
          <a:xfrm>
            <a:off x="6012000" y="1844640"/>
            <a:ext cx="313200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280" y="1419120"/>
            <a:ext cx="504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асный, жёлтый, синий – основные цвета, которые при смешивании дают все остальные цвета, подобрать ткани по цвету для выполнения изделия из лоскутков поможет цветовой круг. Сочетаются цвета напротив друг друга и через 1(гармония триады), в большом круге через 3 ц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Рисунок12"/>
          <p:cNvPicPr/>
          <p:nvPr/>
        </p:nvPicPr>
        <p:blipFill>
          <a:blip r:embed="rId1"/>
          <a:stretch/>
        </p:blipFill>
        <p:spPr>
          <a:xfrm>
            <a:off x="5724360" y="184464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Подбор лоскутков по цвету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4248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армония три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рная г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ственная гармо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754360" y="39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3033720" y="56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4572000" y="141300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ркость двух цветов, расположенных рядом, смягчается, помещающимися между ними нейтральными цв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2"/>
          <p:cNvSpPr/>
          <p:nvPr/>
        </p:nvSpPr>
        <p:spPr>
          <a:xfrm>
            <a:off x="6411960" y="534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4402080" y="328464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белом фоне ахроматические цвета кажутся темнее, а на черном яр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648648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4427640" y="4869000"/>
            <a:ext cx="47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нейтральном фоне темные цвета выступают вперед, а холодные уходят на второй пл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0" descr="Рисунок13"/>
          <p:cNvPicPr/>
          <p:nvPr/>
        </p:nvPicPr>
        <p:blipFill>
          <a:blip r:embed="rId1"/>
          <a:stretch/>
        </p:blipFill>
        <p:spPr>
          <a:xfrm>
            <a:off x="250920" y="1989000"/>
            <a:ext cx="3935160" cy="868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Рисунок14"/>
          <p:cNvPicPr/>
          <p:nvPr/>
        </p:nvPicPr>
        <p:blipFill>
          <a:blip r:embed="rId2"/>
          <a:stretch/>
        </p:blipFill>
        <p:spPr>
          <a:xfrm>
            <a:off x="611280" y="3860640"/>
            <a:ext cx="27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2" descr="Рисунок15"/>
          <p:cNvPicPr/>
          <p:nvPr/>
        </p:nvPicPr>
        <p:blipFill>
          <a:blip r:embed="rId3"/>
          <a:stretch/>
        </p:blipFill>
        <p:spPr>
          <a:xfrm>
            <a:off x="179280" y="5877000"/>
            <a:ext cx="3908520" cy="796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3" descr="Рисунок16"/>
          <p:cNvPicPr/>
          <p:nvPr/>
        </p:nvPicPr>
        <p:blipFill>
          <a:blip r:embed="rId4"/>
          <a:stretch/>
        </p:blipFill>
        <p:spPr>
          <a:xfrm>
            <a:off x="5364000" y="2421000"/>
            <a:ext cx="2252880" cy="92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4" descr="Рисунок17"/>
          <p:cNvPicPr/>
          <p:nvPr/>
        </p:nvPicPr>
        <p:blipFill>
          <a:blip r:embed="rId5"/>
          <a:stretch/>
        </p:blipFill>
        <p:spPr>
          <a:xfrm>
            <a:off x="5148360" y="4005360"/>
            <a:ext cx="2514600" cy="81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5" descr="Рисунок18"/>
          <p:cNvPicPr/>
          <p:nvPr/>
        </p:nvPicPr>
        <p:blipFill>
          <a:blip r:embed="rId6"/>
          <a:stretch/>
        </p:blipFill>
        <p:spPr>
          <a:xfrm>
            <a:off x="6659640" y="5635800"/>
            <a:ext cx="1886040" cy="122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Изготовление шаблонов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904760"/>
            <a:ext cx="8018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чертить сетку чертеж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нести линии рисунка, продумывая и учитывая пропор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ть шаблоны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ea00ea"/>
                </a:solidFill>
                <a:latin typeface="Arial Black"/>
              </a:rPr>
              <a:t>Для изделий для лоскутков, шаблоны должны быть трех видо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миллиметровой бум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ка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з кар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Arial Black"/>
              </a:rPr>
              <a:t>Раскрой деталей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907560"/>
            <a:ext cx="5689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направление нити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овнять с помощью треугольника один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езать кр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детали кроя по цв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ить шаблоны по ткани так, чтобы одна из его сторон проходила по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между крупными деталями мел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ожить крупные детали на ткани и сколоть, соблюдая направление Н.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али шаблонов прикладывать к изнаночной стороне, надписанной стороной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 обвести карандаш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припуски на швы !-!,5 см с каждой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езать детали по линии при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Рисунок19"/>
          <p:cNvPicPr/>
          <p:nvPr/>
        </p:nvPicPr>
        <p:blipFill>
          <a:blip r:embed="rId1"/>
          <a:stretch/>
        </p:blipFill>
        <p:spPr>
          <a:xfrm>
            <a:off x="6059520" y="1989000"/>
            <a:ext cx="3084480" cy="1841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Рисунок20"/>
          <p:cNvPicPr/>
          <p:nvPr/>
        </p:nvPicPr>
        <p:blipFill>
          <a:blip r:embed="rId2"/>
          <a:stretch/>
        </p:blipFill>
        <p:spPr>
          <a:xfrm>
            <a:off x="6012000" y="4724280"/>
            <a:ext cx="28764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Способы изготовления изнаночной сторон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672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резать 2 прямоугольника размером 42 на 27 с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единить детали между собой по длине втачивая «молния» в ш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жить лицевую и изнаночную стороны, лицевой стороной внутрь и обтачать по периметру на 1 см от сре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вернуть изделие на лицевую сторону, через отверстие «молнии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2" descr="Рисунок21"/>
          <p:cNvPicPr/>
          <p:nvPr/>
        </p:nvPicPr>
        <p:blipFill>
          <a:blip r:embed="rId1"/>
          <a:stretch/>
        </p:blipFill>
        <p:spPr>
          <a:xfrm>
            <a:off x="6012000" y="1989000"/>
            <a:ext cx="2395440" cy="2005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Рисунок22"/>
          <p:cNvPicPr/>
          <p:nvPr/>
        </p:nvPicPr>
        <p:blipFill>
          <a:blip r:embed="rId2"/>
          <a:stretch/>
        </p:blipFill>
        <p:spPr>
          <a:xfrm>
            <a:off x="5940360" y="4292640"/>
            <a:ext cx="2487600" cy="1974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Последовательность стачивания рисун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Рисунок 8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590560" cy="257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Фото-0003_e1"/>
          <p:cNvPicPr/>
          <p:nvPr/>
        </p:nvPicPr>
        <p:blipFill>
          <a:blip r:embed="rId2"/>
          <a:stretch/>
        </p:blipFill>
        <p:spPr>
          <a:xfrm>
            <a:off x="0" y="2492280"/>
            <a:ext cx="3132000" cy="3168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Фото-0004_e1 - копия"/>
          <p:cNvPicPr/>
          <p:nvPr/>
        </p:nvPicPr>
        <p:blipFill>
          <a:blip r:embed="rId3"/>
          <a:stretch/>
        </p:blipFill>
        <p:spPr>
          <a:xfrm>
            <a:off x="5940360" y="2492280"/>
            <a:ext cx="32036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2041560" cy="20894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" descr=""/>
          <p:cNvPicPr/>
          <p:nvPr/>
        </p:nvPicPr>
        <p:blipFill>
          <a:blip r:embed="rId2"/>
          <a:stretch/>
        </p:blipFill>
        <p:spPr>
          <a:xfrm>
            <a:off x="3492360" y="692280"/>
            <a:ext cx="2024280" cy="20890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10" descr=""/>
          <p:cNvPicPr/>
          <p:nvPr/>
        </p:nvPicPr>
        <p:blipFill>
          <a:blip r:embed="rId3"/>
          <a:stretch/>
        </p:blipFill>
        <p:spPr>
          <a:xfrm>
            <a:off x="6227640" y="620640"/>
            <a:ext cx="2109960" cy="215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2" descr=""/>
          <p:cNvPicPr/>
          <p:nvPr/>
        </p:nvPicPr>
        <p:blipFill>
          <a:blip r:embed="rId4"/>
          <a:stretch/>
        </p:blipFill>
        <p:spPr>
          <a:xfrm>
            <a:off x="900000" y="3789360"/>
            <a:ext cx="214308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3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016000" cy="2000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4" descr=""/>
          <p:cNvPicPr/>
          <p:nvPr/>
        </p:nvPicPr>
        <p:blipFill>
          <a:blip r:embed="rId6"/>
          <a:stretch/>
        </p:blipFill>
        <p:spPr>
          <a:xfrm>
            <a:off x="6084720" y="3860640"/>
            <a:ext cx="2087640" cy="2054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Экономические расче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125360"/>
          <a:ext cx="8229600" cy="4967640"/>
        </p:xfrm>
        <a:graphic>
          <a:graphicData uri="http://schemas.openxmlformats.org/drawingml/2006/table">
            <a:tbl>
              <a:tblPr/>
              <a:tblGrid>
                <a:gridCol w="874800"/>
                <a:gridCol w="2376360"/>
                <a:gridCol w="792360"/>
                <a:gridCol w="1800000"/>
                <a:gridCol w="1295640"/>
                <a:gridCol w="1090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 матер. на издел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а за ед.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ма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ламен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п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р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р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см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Обоснован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ушка может стать отличным украшением квартиры или отдельной комнаты. На уроке технологии  я решила сшить подушку в лоскутной технике. Поскольку надежны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жищ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сле трудового дня является див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ресл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вот здесь необходима удобная и красивая диванная подуш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Фото-0008"/>
          <p:cNvPicPr/>
          <p:nvPr/>
        </p:nvPicPr>
        <p:blipFill>
          <a:blip r:embed="rId1"/>
          <a:stretch/>
        </p:blipFill>
        <p:spPr>
          <a:xfrm>
            <a:off x="4932360" y="1916280"/>
            <a:ext cx="3914640" cy="3817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385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Готовое изделие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96720" y="349992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Фото-0001_e2"/>
          <p:cNvPicPr/>
          <p:nvPr/>
        </p:nvPicPr>
        <p:blipFill>
          <a:blip r:embed="rId1"/>
          <a:stretch/>
        </p:blipFill>
        <p:spPr>
          <a:xfrm>
            <a:off x="0" y="836640"/>
            <a:ext cx="3059280" cy="2592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Фото-0005_e1"/>
          <p:cNvPicPr/>
          <p:nvPr/>
        </p:nvPicPr>
        <p:blipFill>
          <a:blip r:embed="rId2"/>
          <a:stretch/>
        </p:blipFill>
        <p:spPr>
          <a:xfrm>
            <a:off x="3059280" y="256536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Фото-0001_e1"/>
          <p:cNvPicPr/>
          <p:nvPr/>
        </p:nvPicPr>
        <p:blipFill>
          <a:blip r:embed="rId3"/>
          <a:stretch/>
        </p:blipFill>
        <p:spPr>
          <a:xfrm>
            <a:off x="5940360" y="907920"/>
            <a:ext cx="3203640" cy="252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Фото-0003_e1"/>
          <p:cNvPicPr/>
          <p:nvPr/>
        </p:nvPicPr>
        <p:blipFill>
          <a:blip r:embed="rId4"/>
          <a:stretch/>
        </p:blipFill>
        <p:spPr>
          <a:xfrm>
            <a:off x="5940360" y="4221000"/>
            <a:ext cx="320364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Фото-0004_e1 - копия"/>
          <p:cNvPicPr/>
          <p:nvPr/>
        </p:nvPicPr>
        <p:blipFill>
          <a:blip r:embed="rId5"/>
          <a:stretch/>
        </p:blipFill>
        <p:spPr>
          <a:xfrm>
            <a:off x="0" y="4292640"/>
            <a:ext cx="3059280" cy="230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755640" y="765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Спасиб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9600" spc="-1" strike="noStrike">
                <a:solidFill>
                  <a:srgbClr val="ff00ff"/>
                </a:solidFill>
                <a:latin typeface="Arial"/>
              </a:rPr>
              <a:t>за внимание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Схема работы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780000" y="200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4067280" y="55897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084720" y="200664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е ра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804000" y="3645000"/>
            <a:ext cx="206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и, 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77080" y="5229360"/>
            <a:ext cx="155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и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755640" y="5373720"/>
            <a:ext cx="204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иль интер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39600" y="3716280"/>
            <a:ext cx="25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1"/>
          <p:cNvGrpSpPr/>
          <p:nvPr/>
        </p:nvGrpSpPr>
        <p:grpSpPr>
          <a:xfrm>
            <a:off x="2195280" y="2491920"/>
            <a:ext cx="4969080" cy="3097800"/>
            <a:chOff x="2195280" y="2491920"/>
            <a:chExt cx="4969080" cy="3097800"/>
          </a:xfrm>
        </p:grpSpPr>
        <p:grpSp>
          <p:nvGrpSpPr>
            <p:cNvPr id="114" name="Group 30"/>
            <p:cNvGrpSpPr/>
            <p:nvPr/>
          </p:nvGrpSpPr>
          <p:grpSpPr>
            <a:xfrm>
              <a:off x="2195280" y="2491920"/>
              <a:ext cx="4969080" cy="3097800"/>
              <a:chOff x="2195280" y="2491920"/>
              <a:chExt cx="4969080" cy="3097800"/>
            </a:xfrm>
          </p:grpSpPr>
          <p:sp>
            <p:nvSpPr>
              <p:cNvPr id="115" name="Line 6"/>
              <p:cNvSpPr/>
              <p:nvPr/>
            </p:nvSpPr>
            <p:spPr>
              <a:xfrm>
                <a:off x="4643280" y="501336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7"/>
              <p:cNvSpPr/>
              <p:nvPr/>
            </p:nvSpPr>
            <p:spPr>
              <a:xfrm flipV="1">
                <a:off x="4643280" y="2491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8"/>
              <p:cNvSpPr/>
              <p:nvPr/>
            </p:nvSpPr>
            <p:spPr>
              <a:xfrm>
                <a:off x="6443640" y="407664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"/>
              <p:cNvSpPr/>
              <p:nvPr/>
            </p:nvSpPr>
            <p:spPr>
              <a:xfrm flipH="1">
                <a:off x="2195280" y="4076640"/>
                <a:ext cx="64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3"/>
              <p:cNvSpPr/>
              <p:nvPr/>
            </p:nvSpPr>
            <p:spPr>
              <a:xfrm flipV="1">
                <a:off x="6300720" y="2852280"/>
                <a:ext cx="503280" cy="2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5"/>
              <p:cNvSpPr/>
              <p:nvPr/>
            </p:nvSpPr>
            <p:spPr>
              <a:xfrm>
                <a:off x="6300720" y="4941720"/>
                <a:ext cx="71928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7"/>
              <p:cNvSpPr/>
              <p:nvPr/>
            </p:nvSpPr>
            <p:spPr>
              <a:xfrm flipH="1" flipV="1">
                <a:off x="2339640" y="2708280"/>
                <a:ext cx="57636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 flipH="1">
                <a:off x="2339640" y="4941720"/>
                <a:ext cx="576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29"/>
            <p:cNvGrpSpPr/>
            <p:nvPr/>
          </p:nvGrpSpPr>
          <p:grpSpPr>
            <a:xfrm>
              <a:off x="2843280" y="3068640"/>
              <a:ext cx="3600360" cy="1944720"/>
              <a:chOff x="2843280" y="3068640"/>
              <a:chExt cx="3600360" cy="1944720"/>
            </a:xfrm>
          </p:grpSpPr>
          <p:sp>
            <p:nvSpPr>
              <p:cNvPr id="124" name="AutoShape 4"/>
              <p:cNvSpPr/>
              <p:nvPr/>
            </p:nvSpPr>
            <p:spPr>
              <a:xfrm>
                <a:off x="2843280" y="3068640"/>
                <a:ext cx="3600360" cy="1944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66"/>
                  </a:gs>
                  <a:gs pos="50000">
                    <a:srgbClr val="00ffff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27"/>
              <p:cNvSpPr/>
              <p:nvPr/>
            </p:nvSpPr>
            <p:spPr>
              <a:xfrm>
                <a:off x="3564000" y="3645000"/>
                <a:ext cx="223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иванная подушк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28"/>
          <p:cNvSpPr/>
          <p:nvPr/>
        </p:nvSpPr>
        <p:spPr>
          <a:xfrm>
            <a:off x="1042920" y="2006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История возникновени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477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дивительное рукоделие - лоскутная техника - своими корнями уходит глубоко в древ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лчком для ее создания послужили обыкновенные заплаты, которые становились на еще крепкие, но слегка потертые вещи. Заплаты имели разнообразные формы и расцветки. Это навело мастериц на мысль о возможности создания изделий из лоск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сканирование0004"/>
          <p:cNvPicPr/>
          <p:nvPr/>
        </p:nvPicPr>
        <p:blipFill>
          <a:blip r:embed="rId1"/>
          <a:stretch/>
        </p:blipFill>
        <p:spPr>
          <a:xfrm>
            <a:off x="5651640" y="3789360"/>
            <a:ext cx="3492360" cy="306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matr"/>
          <p:cNvPicPr/>
          <p:nvPr/>
        </p:nvPicPr>
        <p:blipFill>
          <a:blip r:embed="rId2"/>
          <a:stretch/>
        </p:blipFill>
        <p:spPr>
          <a:xfrm>
            <a:off x="6443640" y="1916280"/>
            <a:ext cx="19051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Инструменты и принадлежности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анд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не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л портн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тновские бул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нтиметровая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кламе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ы для наби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вейная маш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 Black"/>
              </a:rPr>
              <a:t>Материалы для шабло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ллиметровая бум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ь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6"/>
          <p:cNvGrpSpPr/>
          <p:nvPr/>
        </p:nvGrpSpPr>
        <p:grpSpPr>
          <a:xfrm>
            <a:off x="3492360" y="1268280"/>
            <a:ext cx="5259600" cy="5199120"/>
            <a:chOff x="3492360" y="1268280"/>
            <a:chExt cx="5259600" cy="5199120"/>
          </a:xfrm>
        </p:grpSpPr>
        <p:pic>
          <p:nvPicPr>
            <p:cNvPr id="134" name="Picture 20" descr="Рисунок3"/>
            <p:cNvPicPr/>
            <p:nvPr/>
          </p:nvPicPr>
          <p:blipFill>
            <a:blip r:embed="rId1"/>
            <a:stretch/>
          </p:blipFill>
          <p:spPr>
            <a:xfrm>
              <a:off x="3492360" y="1268280"/>
              <a:ext cx="172584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1" descr="Рисунок5"/>
            <p:cNvPicPr/>
            <p:nvPr/>
          </p:nvPicPr>
          <p:blipFill>
            <a:blip r:embed="rId2"/>
            <a:stretch/>
          </p:blipFill>
          <p:spPr>
            <a:xfrm>
              <a:off x="5435640" y="1268280"/>
              <a:ext cx="150984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2" descr="Рисунок6"/>
            <p:cNvPicPr/>
            <p:nvPr/>
          </p:nvPicPr>
          <p:blipFill>
            <a:blip r:embed="rId3"/>
            <a:stretch/>
          </p:blipFill>
          <p:spPr>
            <a:xfrm>
              <a:off x="7093080" y="1268280"/>
              <a:ext cx="153828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23" descr="Рисунок7"/>
            <p:cNvPicPr/>
            <p:nvPr/>
          </p:nvPicPr>
          <p:blipFill>
            <a:blip r:embed="rId4"/>
            <a:stretch/>
          </p:blipFill>
          <p:spPr>
            <a:xfrm>
              <a:off x="4140360" y="2997360"/>
              <a:ext cx="230976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4" descr="Рисунок8"/>
            <p:cNvPicPr/>
            <p:nvPr/>
          </p:nvPicPr>
          <p:blipFill>
            <a:blip r:embed="rId5"/>
            <a:stretch/>
          </p:blipFill>
          <p:spPr>
            <a:xfrm>
              <a:off x="6516720" y="2997360"/>
              <a:ext cx="223524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5" descr="Рисунок9"/>
            <p:cNvPicPr/>
            <p:nvPr/>
          </p:nvPicPr>
          <p:blipFill>
            <a:blip r:embed="rId6"/>
            <a:stretch/>
          </p:blipFill>
          <p:spPr>
            <a:xfrm>
              <a:off x="5508720" y="5373720"/>
              <a:ext cx="1952640" cy="109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 Black"/>
              </a:rPr>
              <a:t>        </a:t>
            </a:r>
            <a:r>
              <a:rPr b="0" lang="ru-RU" sz="4400" spc="-1" strike="noStrike">
                <a:solidFill>
                  <a:srgbClr val="ff00ff"/>
                </a:solidFill>
                <a:latin typeface="Arial Black"/>
              </a:rPr>
              <a:t>Рабочее место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9280" y="836280"/>
            <a:ext cx="428472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работы свет должен падать с левой стороны или с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 время работы нужно сидеть прямо, на всей поверхности стула, слегка наклонив корпус и голову вперё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делие должно находится на расстоянии 30 – 40 см от глаз работаю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ение изделий из лоскутков складывается из следующих опера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с ножницами, ручной иглой и булав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на швейной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абота с  утю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0920" y="836280"/>
            <a:ext cx="468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бочее место при выполнении лоскутной техники делится на 3 зон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Стол с инструментами, приспособлениями, материал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Швейная маш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 Black"/>
              </a:rPr>
              <a:t>Гладильная доска с утюг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бочее место не должно быть загорожен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собое место нужно уделить рабочему стол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добно когда инструменты и приспособления располагаются по правую руку от работающего, а материалы – по левую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нструменты следует хранить в рабочей коробк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шаблонов и рисунков нужна пап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атериалы удобнее всего держать в полиэтиленовых пакета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Рисунок10"/>
          <p:cNvPicPr/>
          <p:nvPr/>
        </p:nvPicPr>
        <p:blipFill>
          <a:blip r:embed="rId1"/>
          <a:stretch/>
        </p:blipFill>
        <p:spPr>
          <a:xfrm>
            <a:off x="5435640" y="5084640"/>
            <a:ext cx="3708360" cy="1773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Diagram 4"/>
          <p:cNvGrpSpPr/>
          <p:nvPr/>
        </p:nvGrpSpPr>
        <p:grpSpPr>
          <a:xfrm>
            <a:off x="823680" y="1354680"/>
            <a:ext cx="7642080" cy="4835160"/>
            <a:chOff x="823680" y="1354680"/>
            <a:chExt cx="7642080" cy="4835160"/>
          </a:xfrm>
        </p:grpSpPr>
        <p:sp>
          <p:nvSpPr>
            <p:cNvPr id="145" name="_s1028"/>
            <p:cNvSpPr/>
            <p:nvPr/>
          </p:nvSpPr>
          <p:spPr>
            <a:xfrm flipH="1">
              <a:off x="2800440" y="4700520"/>
              <a:ext cx="92556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823680" y="4702320"/>
              <a:ext cx="2124000" cy="1487520"/>
            </a:xfrm>
            <a:prstGeom prst="ellipse">
              <a:avLst/>
            </a:prstGeom>
            <a:solidFill>
              <a:srgbClr val="ffe1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интеп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кламели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>
              <a:off x="5559840" y="4700520"/>
              <a:ext cx="922680" cy="37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6341400" y="4702320"/>
              <a:ext cx="2124360" cy="1487520"/>
            </a:xfrm>
            <a:prstGeom prst="ellipse">
              <a:avLst/>
            </a:prstGeom>
            <a:solidFill>
              <a:srgbClr val="ffdb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сьма-мол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 flipV="1">
              <a:off x="4643280" y="2840040"/>
              <a:ext cx="0" cy="74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3582360" y="1354680"/>
              <a:ext cx="2124000" cy="1487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х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б, набивные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3582360" y="3587040"/>
              <a:ext cx="2124000" cy="1487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материал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2"/>
          <p:cNvSpPr/>
          <p:nvPr/>
        </p:nvSpPr>
        <p:spPr>
          <a:xfrm>
            <a:off x="250920" y="189000"/>
            <a:ext cx="8385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ff"/>
                </a:solidFill>
                <a:latin typeface="Arial Black"/>
              </a:rPr>
              <a:t>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37520" cy="137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йст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работы с лоскутной мозаикой идеально подходят ткани х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, льняные тка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just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ля всех изделий лучше всего подбирать ткани, близкие по качеству. Подбирая для изделия ткани с различными свойствами, надо учитывать их толщину и плотность, при необходимости наклеить флизелин или простегать их с другой ткан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3040" y="266400"/>
            <a:ext cx="8237520" cy="13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 Black"/>
              </a:rPr>
              <a:t>Подготовка материалов к работе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окрас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ткани, тесьму, ленты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оч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шнуры предварительно  подвергают на прочность о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сборке деталей на швейной машине лучше сшивать ткани и лоскутки, а особенно удобно стачивать мелкие лоску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3" descr="звезды 8"/>
          <p:cNvPicPr/>
          <p:nvPr/>
        </p:nvPicPr>
        <p:blipFill>
          <a:blip r:embed="rId1"/>
          <a:stretch/>
        </p:blipFill>
        <p:spPr>
          <a:xfrm>
            <a:off x="5292720" y="4149720"/>
            <a:ext cx="38512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8:05:07Z</dcterms:created>
  <dc:creator>Алексей</dc:creator>
  <dc:description/>
  <dc:language>en-US</dc:language>
  <cp:lastModifiedBy>Customer</cp:lastModifiedBy>
  <dcterms:modified xsi:type="dcterms:W3CDTF">2012-06-19T19:23:30Z</dcterms:modified>
  <cp:revision>37</cp:revision>
  <dc:subject/>
  <dc:title>Лоскутная пластика</dc:title>
</cp:coreProperties>
</file>