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952-85C5-45A7-A0EB-E2DEAA99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863-0DD4-4991-BC7D-FC8DA006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875-8BFB-441B-BE21-C3B41058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AB3-FFDB-47F6-BE1D-58D21D30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279B-3BAC-479D-ADEE-D712D79D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7CF5-4750-450D-B03F-ACB08258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D3DF-ED86-452D-B81C-52171658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9039-C40F-4EB7-AB11-D130BD4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A5F7-F99F-47BA-B31F-53C8A2CA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A28-1466-498E-93FD-61DA7DB8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63E8-7DFD-4B22-9860-8A7AE8F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05F-1A11-4AF0-8C94-17FFDF6C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26AC-4DD9-4592-8B30-F00D844E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7130-A193-479A-A255-9FDFE5E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7B9-81E7-4AB7-A826-13CB7A1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50B6-A285-4124-BA21-B0E12A3F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4873-2E9E-4124-BCE6-F8AD0080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4D8-50EA-4C9B-9736-40911E3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9BF-123C-4AEB-A40B-CC0E6BD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0FA-35C9-443A-A786-26FBE81B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7FF-AE58-427F-985A-ED94906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88F-792E-4B65-A680-BC7531D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355-9469-473E-BD3E-6C221B6E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E9E-57F9-4900-9DD9-D596304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E04-A4D4-4798-8312-52B6F4D2A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0914-9A09-445A-8DB9-5E7F2C1A2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200" y="836640"/>
            <a:ext cx="82468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 Black"/>
              </a:rPr>
              <a:t>Лоскутная пластик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5640" y="2565360"/>
            <a:ext cx="6783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Диванная под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924360" y="4221000"/>
            <a:ext cx="47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МОВА  АЛЁ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ца 7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ЛУГИНИНА НАТАЛЬ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Т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Фото-0006_e1"/>
          <p:cNvPicPr/>
          <p:nvPr/>
        </p:nvPicPr>
        <p:blipFill>
          <a:blip r:embed="rId1"/>
          <a:stretch/>
        </p:blipFill>
        <p:spPr>
          <a:xfrm>
            <a:off x="0" y="3213000"/>
            <a:ext cx="370692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549360"/>
            <a:ext cx="82375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Подготовка материалов к работе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ткани к раск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обранную ткань взять и отутю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лоскутки в коробочки по цв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езать кр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лоскутки не подходят по цвету, то их можно выкрасить в один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 всего составлять узор 2-4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я изделия нужно стараться гармонично подбирать ткани разных по насыщенности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Подбор лоскутков по цвет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511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ое внимание в лоскутной технике уделяется цвету и его сочетаниям. Все цвета условно делятся на тёплые (красный, жёлтый, оранжевый) и холодные (синий фиолетовый, зелёный), они же ахроматические цвета. Так же  нейтральные (хроматические) белый, чёрный, сер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Рисунок11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Подбор лоскутков по цвет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419120"/>
            <a:ext cx="504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ый, жёлтый, синий – основные цвета, которые при смешивании дают все остальные цвета, подобрать ткани по цвету для выполнения изделия из лоскутков поможет цветовой круг. Сочетаются цвета напротив друг друга и через 1(гармония триады), в большом круге через 3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Рисунок12"/>
          <p:cNvPicPr/>
          <p:nvPr/>
        </p:nvPicPr>
        <p:blipFill>
          <a:blip r:embed="rId1"/>
          <a:stretch/>
        </p:blipFill>
        <p:spPr>
          <a:xfrm>
            <a:off x="5724360" y="184464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 Black"/>
              </a:rPr>
              <a:t>Подбор лоскутков по цвет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248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армония три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рная гар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ственная гар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754360" y="39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3033720" y="566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572000" y="141300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ость двух цветов, расположенных рядом, смягчается, помещающимися между ними нейтральными цв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6411960" y="534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4402080" y="328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елом фоне ахроматические цвета кажутся темнее, а на черном яр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648648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4427640" y="4869000"/>
            <a:ext cx="47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ейтральном фоне темные цвета выступают вперед, а холодные уходят на второй п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0" descr="Рисунок13"/>
          <p:cNvPicPr/>
          <p:nvPr/>
        </p:nvPicPr>
        <p:blipFill>
          <a:blip r:embed="rId1"/>
          <a:stretch/>
        </p:blipFill>
        <p:spPr>
          <a:xfrm>
            <a:off x="250920" y="1989000"/>
            <a:ext cx="3935160" cy="86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Рисунок14"/>
          <p:cNvPicPr/>
          <p:nvPr/>
        </p:nvPicPr>
        <p:blipFill>
          <a:blip r:embed="rId2"/>
          <a:stretch/>
        </p:blipFill>
        <p:spPr>
          <a:xfrm>
            <a:off x="611280" y="3860640"/>
            <a:ext cx="27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2" descr="Рисунок15"/>
          <p:cNvPicPr/>
          <p:nvPr/>
        </p:nvPicPr>
        <p:blipFill>
          <a:blip r:embed="rId3"/>
          <a:stretch/>
        </p:blipFill>
        <p:spPr>
          <a:xfrm>
            <a:off x="179280" y="5877000"/>
            <a:ext cx="3908520" cy="796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3" descr="Рисунок16"/>
          <p:cNvPicPr/>
          <p:nvPr/>
        </p:nvPicPr>
        <p:blipFill>
          <a:blip r:embed="rId4"/>
          <a:stretch/>
        </p:blipFill>
        <p:spPr>
          <a:xfrm>
            <a:off x="5364000" y="2421000"/>
            <a:ext cx="2252880" cy="92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4" descr="Рисунок17"/>
          <p:cNvPicPr/>
          <p:nvPr/>
        </p:nvPicPr>
        <p:blipFill>
          <a:blip r:embed="rId5"/>
          <a:stretch/>
        </p:blipFill>
        <p:spPr>
          <a:xfrm>
            <a:off x="5148360" y="4005360"/>
            <a:ext cx="2514600" cy="81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5" descr="Рисунок18"/>
          <p:cNvPicPr/>
          <p:nvPr/>
        </p:nvPicPr>
        <p:blipFill>
          <a:blip r:embed="rId6"/>
          <a:stretch/>
        </p:blipFill>
        <p:spPr>
          <a:xfrm>
            <a:off x="6659640" y="5635800"/>
            <a:ext cx="1886040" cy="122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Изготовление шаблон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8018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чертить сетку черте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нести линии рисунка, продумывая и учитывая 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шаблоны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a00ea"/>
                </a:solidFill>
                <a:latin typeface="Arial Black"/>
              </a:rPr>
              <a:t>Для изделий для лоскутков, шаблоны должны быть трех видо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миллиметров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ка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кар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 Black"/>
              </a:rPr>
              <a:t>Раскрой деталей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5689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направление нити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овнять с помощью треугольника один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езать кр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детали кроя по цв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ить шаблоны по ткани так, чтобы одна из его сторон проходила по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между крупными деталями мел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крупные детали на ткани и сколоть, соблюдая направление Н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али шаблонов прикладывать к изнаночной стороне, надписанной стороной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 обвести карандаш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ть припуски на швы !-!,5 см с каждой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езать детали по линии при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Рисунок19"/>
          <p:cNvPicPr/>
          <p:nvPr/>
        </p:nvPicPr>
        <p:blipFill>
          <a:blip r:embed="rId1"/>
          <a:stretch/>
        </p:blipFill>
        <p:spPr>
          <a:xfrm>
            <a:off x="6059520" y="1989000"/>
            <a:ext cx="3084480" cy="1841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Рисунок20"/>
          <p:cNvPicPr/>
          <p:nvPr/>
        </p:nvPicPr>
        <p:blipFill>
          <a:blip r:embed="rId2"/>
          <a:stretch/>
        </p:blipFill>
        <p:spPr>
          <a:xfrm>
            <a:off x="6012000" y="4724280"/>
            <a:ext cx="2876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Способы изготовления изнаночной сторон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6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езать 2 прямоугольника размером 42 на 27 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единить детали между собой по длине втачивая «молния» в ш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жить лицевую и изнаночную стороны, лицевой стороной внутрь и обтачать по периметру на 1 см от ср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вернуть изделие на лицевую сторону, через отверстие «молн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Рисунок21"/>
          <p:cNvPicPr/>
          <p:nvPr/>
        </p:nvPicPr>
        <p:blipFill>
          <a:blip r:embed="rId1"/>
          <a:stretch/>
        </p:blipFill>
        <p:spPr>
          <a:xfrm>
            <a:off x="6012000" y="1989000"/>
            <a:ext cx="2395440" cy="200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Рисунок22"/>
          <p:cNvPicPr/>
          <p:nvPr/>
        </p:nvPicPr>
        <p:blipFill>
          <a:blip r:embed="rId2"/>
          <a:stretch/>
        </p:blipFill>
        <p:spPr>
          <a:xfrm>
            <a:off x="5940360" y="4292640"/>
            <a:ext cx="248760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Последовательность стачивания рисун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590560" cy="257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Фото-0003_e1"/>
          <p:cNvPicPr/>
          <p:nvPr/>
        </p:nvPicPr>
        <p:blipFill>
          <a:blip r:embed="rId2"/>
          <a:stretch/>
        </p:blipFill>
        <p:spPr>
          <a:xfrm>
            <a:off x="0" y="2492280"/>
            <a:ext cx="3132000" cy="316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Фото-0004_e1 - копия"/>
          <p:cNvPicPr/>
          <p:nvPr/>
        </p:nvPicPr>
        <p:blipFill>
          <a:blip r:embed="rId3"/>
          <a:stretch/>
        </p:blipFill>
        <p:spPr>
          <a:xfrm>
            <a:off x="5940360" y="2492280"/>
            <a:ext cx="32036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041560" cy="20894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"/>
          <p:cNvPicPr/>
          <p:nvPr/>
        </p:nvPicPr>
        <p:blipFill>
          <a:blip r:embed="rId2"/>
          <a:stretch/>
        </p:blipFill>
        <p:spPr>
          <a:xfrm>
            <a:off x="3492360" y="692280"/>
            <a:ext cx="2024280" cy="20890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"/>
          <p:cNvPicPr/>
          <p:nvPr/>
        </p:nvPicPr>
        <p:blipFill>
          <a:blip r:embed="rId3"/>
          <a:stretch/>
        </p:blipFill>
        <p:spPr>
          <a:xfrm>
            <a:off x="6227640" y="620640"/>
            <a:ext cx="2109960" cy="215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2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214308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3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2016000" cy="2000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4" descr=""/>
          <p:cNvPicPr/>
          <p:nvPr/>
        </p:nvPicPr>
        <p:blipFill>
          <a:blip r:embed="rId6"/>
          <a:stretch/>
        </p:blipFill>
        <p:spPr>
          <a:xfrm>
            <a:off x="6084720" y="3860640"/>
            <a:ext cx="208764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Экономические расчет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125360"/>
          <a:ext cx="8229600" cy="4967640"/>
        </p:xfrm>
        <a:graphic>
          <a:graphicData uri="http://schemas.openxmlformats.org/drawingml/2006/table">
            <a:tbl>
              <a:tblPr/>
              <a:tblGrid>
                <a:gridCol w="874800"/>
                <a:gridCol w="2376360"/>
                <a:gridCol w="792360"/>
                <a:gridCol w="1800000"/>
                <a:gridCol w="1295640"/>
                <a:gridCol w="1090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матер. на издел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ед.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ма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ламен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п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р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р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м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Обоснов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шка может стать отличным украшением квартиры или отдельной комнаты. На уроке технологии  я решила сшить подушку в лоскутной технике. Поскольку надежны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жищ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ле трудового дня является див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ресл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от здесь необходима удобная и красивая диванная подуш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Фото-0008"/>
          <p:cNvPicPr/>
          <p:nvPr/>
        </p:nvPicPr>
        <p:blipFill>
          <a:blip r:embed="rId1"/>
          <a:stretch/>
        </p:blipFill>
        <p:spPr>
          <a:xfrm>
            <a:off x="4932360" y="1916280"/>
            <a:ext cx="3914640" cy="381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Готовое издел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96720" y="349992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Фото-0001_e2"/>
          <p:cNvPicPr/>
          <p:nvPr/>
        </p:nvPicPr>
        <p:blipFill>
          <a:blip r:embed="rId1"/>
          <a:stretch/>
        </p:blipFill>
        <p:spPr>
          <a:xfrm>
            <a:off x="0" y="836640"/>
            <a:ext cx="3059280" cy="2592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Фото-0005_e1"/>
          <p:cNvPicPr/>
          <p:nvPr/>
        </p:nvPicPr>
        <p:blipFill>
          <a:blip r:embed="rId2"/>
          <a:stretch/>
        </p:blipFill>
        <p:spPr>
          <a:xfrm>
            <a:off x="3059280" y="256536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Фото-0001_e1"/>
          <p:cNvPicPr/>
          <p:nvPr/>
        </p:nvPicPr>
        <p:blipFill>
          <a:blip r:embed="rId3"/>
          <a:stretch/>
        </p:blipFill>
        <p:spPr>
          <a:xfrm>
            <a:off x="5940360" y="907920"/>
            <a:ext cx="3203640" cy="252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Фото-0003_e1"/>
          <p:cNvPicPr/>
          <p:nvPr/>
        </p:nvPicPr>
        <p:blipFill>
          <a:blip r:embed="rId4"/>
          <a:stretch/>
        </p:blipFill>
        <p:spPr>
          <a:xfrm>
            <a:off x="5940360" y="4221000"/>
            <a:ext cx="320364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Фото-0004_e1 - копия"/>
          <p:cNvPicPr/>
          <p:nvPr/>
        </p:nvPicPr>
        <p:blipFill>
          <a:blip r:embed="rId5"/>
          <a:stretch/>
        </p:blipFill>
        <p:spPr>
          <a:xfrm>
            <a:off x="0" y="4292640"/>
            <a:ext cx="30592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755640" y="765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Спасиб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за внимание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Схема работ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780000" y="200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067280" y="558972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084720" y="200664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е ра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804000" y="3645000"/>
            <a:ext cx="20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и, 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77080" y="522936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и 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755640" y="5373720"/>
            <a:ext cx="204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интер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9600" y="3716280"/>
            <a:ext cx="25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1"/>
          <p:cNvGrpSpPr/>
          <p:nvPr/>
        </p:nvGrpSpPr>
        <p:grpSpPr>
          <a:xfrm>
            <a:off x="2195280" y="2491920"/>
            <a:ext cx="4969080" cy="3097800"/>
            <a:chOff x="2195280" y="2491920"/>
            <a:chExt cx="4969080" cy="3097800"/>
          </a:xfrm>
        </p:grpSpPr>
        <p:grpSp>
          <p:nvGrpSpPr>
            <p:cNvPr id="114" name="Group 30"/>
            <p:cNvGrpSpPr/>
            <p:nvPr/>
          </p:nvGrpSpPr>
          <p:grpSpPr>
            <a:xfrm>
              <a:off x="2195280" y="2491920"/>
              <a:ext cx="4969080" cy="3097800"/>
              <a:chOff x="2195280" y="2491920"/>
              <a:chExt cx="4969080" cy="3097800"/>
            </a:xfrm>
          </p:grpSpPr>
          <p:sp>
            <p:nvSpPr>
              <p:cNvPr id="115" name="Line 6"/>
              <p:cNvSpPr/>
              <p:nvPr/>
            </p:nvSpPr>
            <p:spPr>
              <a:xfrm>
                <a:off x="4643280" y="501336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7"/>
              <p:cNvSpPr/>
              <p:nvPr/>
            </p:nvSpPr>
            <p:spPr>
              <a:xfrm flipV="1">
                <a:off x="4643280" y="2491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8"/>
              <p:cNvSpPr/>
              <p:nvPr/>
            </p:nvSpPr>
            <p:spPr>
              <a:xfrm>
                <a:off x="6443640" y="407664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"/>
              <p:cNvSpPr/>
              <p:nvPr/>
            </p:nvSpPr>
            <p:spPr>
              <a:xfrm flipH="1">
                <a:off x="2195280" y="40766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3"/>
              <p:cNvSpPr/>
              <p:nvPr/>
            </p:nvSpPr>
            <p:spPr>
              <a:xfrm flipV="1">
                <a:off x="6300720" y="2852280"/>
                <a:ext cx="50328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5"/>
              <p:cNvSpPr/>
              <p:nvPr/>
            </p:nvSpPr>
            <p:spPr>
              <a:xfrm>
                <a:off x="6300720" y="4941720"/>
                <a:ext cx="71928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 flipH="1" flipV="1">
                <a:off x="2339640" y="2708280"/>
                <a:ext cx="57636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 flipH="1">
                <a:off x="2339640" y="4941720"/>
                <a:ext cx="5763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29"/>
            <p:cNvGrpSpPr/>
            <p:nvPr/>
          </p:nvGrpSpPr>
          <p:grpSpPr>
            <a:xfrm>
              <a:off x="2843280" y="3068640"/>
              <a:ext cx="3600360" cy="1944720"/>
              <a:chOff x="2843280" y="3068640"/>
              <a:chExt cx="3600360" cy="1944720"/>
            </a:xfrm>
          </p:grpSpPr>
          <p:sp>
            <p:nvSpPr>
              <p:cNvPr id="124" name="AutoShape 4"/>
              <p:cNvSpPr/>
              <p:nvPr/>
            </p:nvSpPr>
            <p:spPr>
              <a:xfrm>
                <a:off x="2843280" y="3068640"/>
                <a:ext cx="3600360" cy="1944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66"/>
                  </a:gs>
                  <a:gs pos="5000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7"/>
              <p:cNvSpPr/>
              <p:nvPr/>
            </p:nvSpPr>
            <p:spPr>
              <a:xfrm>
                <a:off x="3564000" y="3645000"/>
                <a:ext cx="22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иванная подуш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28"/>
          <p:cNvSpPr/>
          <p:nvPr/>
        </p:nvSpPr>
        <p:spPr>
          <a:xfrm>
            <a:off x="1042920" y="200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История возникновени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477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дивительное рукоделие - лоскутная техника - своими корнями уходит глубоко в древ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лчком для ее создания послужили обыкновенные заплаты, которые становились на еще крепкие, но слегка потертые вещи. Заплаты имели разнообразные формы и расцветки. Это навело мастериц на мысль о возможности создания изделий из лоск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сканирование0004"/>
          <p:cNvPicPr/>
          <p:nvPr/>
        </p:nvPicPr>
        <p:blipFill>
          <a:blip r:embed="rId1"/>
          <a:stretch/>
        </p:blipFill>
        <p:spPr>
          <a:xfrm>
            <a:off x="5651640" y="3789360"/>
            <a:ext cx="3492360" cy="306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atr"/>
          <p:cNvPicPr/>
          <p:nvPr/>
        </p:nvPicPr>
        <p:blipFill>
          <a:blip r:embed="rId2"/>
          <a:stretch/>
        </p:blipFill>
        <p:spPr>
          <a:xfrm>
            <a:off x="6443640" y="1916280"/>
            <a:ext cx="190512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 Black"/>
              </a:rPr>
              <a:t>Инструменты и принадлежност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л портн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тновские бул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тиметровая л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кламе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 для наби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ейная маш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 Black"/>
              </a:rPr>
              <a:t>Материалы для шабло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ллиметровая бум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6"/>
          <p:cNvGrpSpPr/>
          <p:nvPr/>
        </p:nvGrpSpPr>
        <p:grpSpPr>
          <a:xfrm>
            <a:off x="3492360" y="1268280"/>
            <a:ext cx="5259600" cy="5199120"/>
            <a:chOff x="3492360" y="1268280"/>
            <a:chExt cx="5259600" cy="5199120"/>
          </a:xfrm>
        </p:grpSpPr>
        <p:pic>
          <p:nvPicPr>
            <p:cNvPr id="134" name="Picture 20" descr="Рисунок3"/>
            <p:cNvPicPr/>
            <p:nvPr/>
          </p:nvPicPr>
          <p:blipFill>
            <a:blip r:embed="rId1"/>
            <a:stretch/>
          </p:blipFill>
          <p:spPr>
            <a:xfrm>
              <a:off x="3492360" y="1268280"/>
              <a:ext cx="1725840" cy="15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1" descr="Рисунок5"/>
            <p:cNvPicPr/>
            <p:nvPr/>
          </p:nvPicPr>
          <p:blipFill>
            <a:blip r:embed="rId2"/>
            <a:stretch/>
          </p:blipFill>
          <p:spPr>
            <a:xfrm>
              <a:off x="5435640" y="1268280"/>
              <a:ext cx="150984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2" descr="Рисунок6"/>
            <p:cNvPicPr/>
            <p:nvPr/>
          </p:nvPicPr>
          <p:blipFill>
            <a:blip r:embed="rId3"/>
            <a:stretch/>
          </p:blipFill>
          <p:spPr>
            <a:xfrm>
              <a:off x="7093080" y="1268280"/>
              <a:ext cx="153828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3" descr="Рисунок7"/>
            <p:cNvPicPr/>
            <p:nvPr/>
          </p:nvPicPr>
          <p:blipFill>
            <a:blip r:embed="rId4"/>
            <a:stretch/>
          </p:blipFill>
          <p:spPr>
            <a:xfrm>
              <a:off x="4140360" y="2997360"/>
              <a:ext cx="230976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4" descr="Рисунок8"/>
            <p:cNvPicPr/>
            <p:nvPr/>
          </p:nvPicPr>
          <p:blipFill>
            <a:blip r:embed="rId5"/>
            <a:stretch/>
          </p:blipFill>
          <p:spPr>
            <a:xfrm>
              <a:off x="6516720" y="2997360"/>
              <a:ext cx="223524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5" descr="Рисунок9"/>
            <p:cNvPicPr/>
            <p:nvPr/>
          </p:nvPicPr>
          <p:blipFill>
            <a:blip r:embed="rId6"/>
            <a:stretch/>
          </p:blipFill>
          <p:spPr>
            <a:xfrm>
              <a:off x="5508720" y="5373720"/>
              <a:ext cx="1952640" cy="109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 Black"/>
              </a:rPr>
              <a:t>        </a:t>
            </a:r>
            <a:r>
              <a:rPr b="0" lang="ru-RU" sz="4400" spc="-1" strike="noStrike">
                <a:solidFill>
                  <a:srgbClr val="ff00ff"/>
                </a:solidFill>
                <a:latin typeface="Arial Black"/>
              </a:rPr>
              <a:t>Рабочее место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9280" y="836280"/>
            <a:ext cx="428472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работы свет должен падать с левой стороны или с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работы нужно сидеть прямо, на всей поверхности стула, слегка наклонив корпус и голову вперё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лие должно находится на расстоянии 30 – 40 см от глаз работ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 изделий из лоскутков складывается из следующих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абота с ножницами, ручной иглой и була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абота на швейной м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абота с  утю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0920" y="836280"/>
            <a:ext cx="468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бочее место при выполнении лоскутной техники делится на 3 зон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Стол с инструментами, приспособлениями, материал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Швейная маш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Гладильная доска с утюг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бочее место не должно быть загорожен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собое место нужно уделить рабочему стол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добно когда инструменты и приспособления располагаются по правую руку от работающего, а материалы – по левую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нструменты следует хранить в рабочей коробк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шаблонов и рисунков нужна пап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атериалы удобнее всего держать в полиэтиленовых пакета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Рисунок10"/>
          <p:cNvPicPr/>
          <p:nvPr/>
        </p:nvPicPr>
        <p:blipFill>
          <a:blip r:embed="rId1"/>
          <a:stretch/>
        </p:blipFill>
        <p:spPr>
          <a:xfrm>
            <a:off x="5435640" y="5084640"/>
            <a:ext cx="370836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Diagram 4"/>
          <p:cNvGrpSpPr/>
          <p:nvPr/>
        </p:nvGrpSpPr>
        <p:grpSpPr>
          <a:xfrm>
            <a:off x="823680" y="1354680"/>
            <a:ext cx="7642080" cy="4835160"/>
            <a:chOff x="823680" y="1354680"/>
            <a:chExt cx="7642080" cy="4835160"/>
          </a:xfrm>
        </p:grpSpPr>
        <p:sp>
          <p:nvSpPr>
            <p:cNvPr id="145" name="_s1028"/>
            <p:cNvSpPr/>
            <p:nvPr/>
          </p:nvSpPr>
          <p:spPr>
            <a:xfrm flipH="1">
              <a:off x="2800440" y="4700520"/>
              <a:ext cx="92556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>
              <a:off x="823680" y="4702320"/>
              <a:ext cx="2124000" cy="1487520"/>
            </a:xfrm>
            <a:prstGeom prst="ellipse">
              <a:avLst/>
            </a:prstGeom>
            <a:solidFill>
              <a:srgbClr val="ffe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интеп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кламел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>
              <a:off x="5559840" y="4700520"/>
              <a:ext cx="922680" cy="37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31"/>
            <p:cNvSpPr/>
            <p:nvPr/>
          </p:nvSpPr>
          <p:spPr>
            <a:xfrm>
              <a:off x="6341400" y="4702320"/>
              <a:ext cx="2124360" cy="1487520"/>
            </a:xfrm>
            <a:prstGeom prst="ellipse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сьма-мол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 flipV="1">
              <a:off x="4643280" y="2840040"/>
              <a:ext cx="0" cy="74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3582360" y="1354680"/>
              <a:ext cx="2124000" cy="1487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х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, набивные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4"/>
            <p:cNvSpPr/>
            <p:nvPr/>
          </p:nvSpPr>
          <p:spPr>
            <a:xfrm>
              <a:off x="3582360" y="3587040"/>
              <a:ext cx="2124000" cy="148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материал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"/>
          <p:cNvSpPr/>
          <p:nvPr/>
        </p:nvSpPr>
        <p:spPr>
          <a:xfrm>
            <a:off x="250920" y="189000"/>
            <a:ext cx="8385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3752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Подготовка материалов к работ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йст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работы с лоскутной мозаикой идеально подходят ткани х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, льняные тка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всех изделий лучше всего подбирать ткани, близкие по качеству. Подбирая для изделия ткани с различными свойствами, надо учитывать их толщину и плотность, при необходимости наклеить флизелин или простегать их с другой ткан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3040" y="266400"/>
            <a:ext cx="8237520" cy="13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Подготовка материалов к работ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крас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ткани, тесьму, ленты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оч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шнуры предварительно  подвергают на прочность о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борке деталей на швейной машине лучше сшивать ткани и лоскутки, а особенно удобно стачивать мелкие лоску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звезды 8"/>
          <p:cNvPicPr/>
          <p:nvPr/>
        </p:nvPicPr>
        <p:blipFill>
          <a:blip r:embed="rId1"/>
          <a:stretch/>
        </p:blipFill>
        <p:spPr>
          <a:xfrm>
            <a:off x="5292720" y="4149720"/>
            <a:ext cx="38512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8:05:07Z</dcterms:created>
  <dc:creator>Алексей</dc:creator>
  <dc:description/>
  <dc:language>en-US</dc:language>
  <cp:lastModifiedBy>Customer</cp:lastModifiedBy>
  <dcterms:modified xsi:type="dcterms:W3CDTF">2012-06-19T19:23:30Z</dcterms:modified>
  <cp:revision>37</cp:revision>
  <dc:subject/>
  <dc:title>Лоскутная пластика</dc:title>
</cp:coreProperties>
</file>