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.jpeg" ContentType="image/jpeg"/>
  <Override PartName="/ppt/media/image36.jpeg" ContentType="image/jpeg"/>
  <Override PartName="/ppt/media/image20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4AD-267A-4791-A715-DFD8B01F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A60-18E9-4EDE-A5F1-3719117B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6C8-E367-471F-99DF-4B8AFEEE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728-5A4B-4EC8-964C-7E0AB109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B7E-6C46-4E61-8F7C-413256A8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657-45BF-4487-8907-0491BE6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DF5-AC35-4C45-9C38-914C4C27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378-266D-42D2-B54E-795E3792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78A-6A62-4DE6-A297-64020D36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11F-53B9-4D64-B1D9-AFCC5B82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D87-4951-4283-B14F-ED7C579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47E-D387-4B9E-BDE5-2C5C69D5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533F-2E9F-4778-AFE7-645343310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ce-scream.ru/images/img/whale09.jpg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то 8 030"/>
          <p:cNvPicPr/>
          <p:nvPr/>
        </p:nvPicPr>
        <p:blipFill>
          <a:blip r:embed="rId1"/>
          <a:stretch/>
        </p:blipFill>
        <p:spPr>
          <a:xfrm>
            <a:off x="3995640" y="1557360"/>
            <a:ext cx="4643640" cy="4392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24000" y="2276280"/>
            <a:ext cx="47880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ическая химия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нтез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Триглицерид (2274 байт)"/>
          <p:cNvPicPr/>
          <p:nvPr/>
        </p:nvPicPr>
        <p:blipFill>
          <a:blip r:embed="rId1"/>
          <a:stretch/>
        </p:blipFill>
        <p:spPr>
          <a:xfrm>
            <a:off x="468360" y="2276640"/>
            <a:ext cx="82598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имические свойства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олиз (в присутствии катализатор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Протекает обрат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6985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имические свойства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Щелочной гидролиз (омыление). Необратимый процесс. Имеет практическ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81360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g_tmn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250920" y="189000"/>
            <a:ext cx="3492360" cy="216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Омыление жиров"/>
          <p:cNvPicPr/>
          <p:nvPr/>
        </p:nvPicPr>
        <p:blipFill>
          <a:blip r:embed="rId2"/>
          <a:stretch/>
        </p:blipFill>
        <p:spPr>
          <a:xfrm>
            <a:off x="1116000" y="2565360"/>
            <a:ext cx="7257960" cy="250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pht009609"/>
          <p:cNvPicPr/>
          <p:nvPr/>
        </p:nvPicPr>
        <p:blipFill>
          <a:blip r:embed="rId3">
            <a:alphaModFix amt="86000"/>
          </a:blip>
          <a:stretch/>
        </p:blipFill>
        <p:spPr>
          <a:xfrm>
            <a:off x="5940360" y="5157720"/>
            <a:ext cx="2544840" cy="1579680"/>
          </a:xfrm>
          <a:prstGeom prst="rect">
            <a:avLst/>
          </a:prstGeom>
          <a:ln w="0">
            <a:noFill/>
          </a:ln>
        </p:spPr>
      </p:pic>
      <p:cxnSp>
        <p:nvCxnSpPr>
          <p:cNvPr id="84" name="AutoShape 8"/>
          <p:cNvCxnSpPr/>
          <p:nvPr/>
        </p:nvCxnSpPr>
        <p:spPr>
          <a:xfrm>
            <a:off x="3492360" y="1080720"/>
            <a:ext cx="1253520" cy="1485000"/>
          </a:xfrm>
          <a:prstGeom prst="curvedConnector2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5" name="AutoShape 10"/>
          <p:cNvCxnSpPr/>
          <p:nvPr/>
        </p:nvCxnSpPr>
        <p:spPr>
          <a:xfrm>
            <a:off x="4572000" y="5084640"/>
            <a:ext cx="1224720" cy="984960"/>
          </a:xfrm>
          <a:prstGeom prst="curvedConnector5">
            <a:avLst>
              <a:gd name="adj1" fmla="val 49926"/>
              <a:gd name="adj2" fmla="val 49981"/>
              <a:gd name="adj3" fmla="val 49926"/>
            </a:avLst>
          </a:prstGeom>
          <a:ln w="6048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имические свойства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Гидр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Гидрогенизация жидких жиров"/>
          <p:cNvPicPr/>
          <p:nvPr/>
        </p:nvPicPr>
        <p:blipFill>
          <a:blip r:embed="rId1"/>
          <a:stretch/>
        </p:blipFill>
        <p:spPr>
          <a:xfrm>
            <a:off x="755640" y="2708280"/>
            <a:ext cx="76676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и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водится в специальных автоклавах. Используется этот процесс для получения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маргар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1912 год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ль Сабать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152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нение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щев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рье в производстве марг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оизводстве м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см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лаках и крас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Применение жи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1903320" cy="194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6659640" y="4581360"/>
            <a:ext cx="2220840" cy="187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108000" y="3213000"/>
            <a:ext cx="2544840" cy="222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4716360" y="836640"/>
            <a:ext cx="1762200" cy="2343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4859280" y="3284640"/>
            <a:ext cx="1251000" cy="1508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6948360" y="2997360"/>
            <a:ext cx="1803600" cy="125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7"/>
          <a:stretch/>
        </p:blipFill>
        <p:spPr>
          <a:xfrm>
            <a:off x="3851280" y="4581360"/>
            <a:ext cx="2665440" cy="212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8"/>
          <a:stretch/>
        </p:blipFill>
        <p:spPr>
          <a:xfrm>
            <a:off x="2771640" y="3141720"/>
            <a:ext cx="1943280" cy="142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2338560" cy="155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10"/>
          <a:stretch/>
        </p:blipFill>
        <p:spPr>
          <a:xfrm>
            <a:off x="250920" y="836640"/>
            <a:ext cx="205272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фото 8 031"/>
          <p:cNvPicPr/>
          <p:nvPr/>
        </p:nvPicPr>
        <p:blipFill>
          <a:blip r:embed="rId11"/>
          <a:stretch/>
        </p:blipFill>
        <p:spPr>
          <a:xfrm>
            <a:off x="6588000" y="981000"/>
            <a:ext cx="2448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330720" cy="315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6300720" y="436572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940360" y="115920"/>
            <a:ext cx="3002040" cy="3645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179280" y="3500280"/>
            <a:ext cx="2603520" cy="314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2571840" y="2786040"/>
            <a:ext cx="3743280" cy="21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6"/>
          <a:stretch/>
        </p:blipFill>
        <p:spPr>
          <a:xfrm>
            <a:off x="3635280" y="333360"/>
            <a:ext cx="1978200" cy="227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4067280" y="4929120"/>
            <a:ext cx="890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Картинка 1 из 3145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197000"/>
            <a:ext cx="6780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Животные жиры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ивочное масло, животное сало, рыбий 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астительные жиры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вковое , подсолнечное , кукурузно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вое , пальмовое ма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ziri"/>
          <p:cNvPicPr/>
          <p:nvPr/>
        </p:nvPicPr>
        <p:blipFill>
          <a:blip r:embed="rId1"/>
          <a:stretch/>
        </p:blipFill>
        <p:spPr>
          <a:xfrm>
            <a:off x="6877080" y="2708280"/>
            <a:ext cx="19051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ры растительного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L21p2p06m"/>
          <p:cNvPicPr/>
          <p:nvPr/>
        </p:nvPicPr>
        <p:blipFill>
          <a:blip r:embed="rId1"/>
          <a:stretch/>
        </p:blipFill>
        <p:spPr>
          <a:xfrm>
            <a:off x="4211640" y="1916280"/>
            <a:ext cx="177156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L06w4p05"/>
          <p:cNvPicPr/>
          <p:nvPr/>
        </p:nvPicPr>
        <p:blipFill>
          <a:blip r:embed="rId2"/>
          <a:stretch/>
        </p:blipFill>
        <p:spPr>
          <a:xfrm>
            <a:off x="179280" y="37162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042920" y="1844640"/>
            <a:ext cx="2009880" cy="1503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2692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21p2p00"/>
          <p:cNvPicPr/>
          <p:nvPr/>
        </p:nvPicPr>
        <p:blipFill>
          <a:blip r:embed="rId1"/>
          <a:stretch/>
        </p:blipFill>
        <p:spPr>
          <a:xfrm>
            <a:off x="4284720" y="3141720"/>
            <a:ext cx="4537080" cy="34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744720" cy="398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L22p2p04"/>
          <p:cNvPicPr/>
          <p:nvPr/>
        </p:nvPicPr>
        <p:blipFill>
          <a:blip r:embed="rId3"/>
          <a:stretch/>
        </p:blipFill>
        <p:spPr>
          <a:xfrm>
            <a:off x="4932360" y="4046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24717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ры животного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L22p1p05"/>
          <p:cNvPicPr/>
          <p:nvPr/>
        </p:nvPicPr>
        <p:blipFill>
          <a:blip r:embed="rId1"/>
          <a:stretch/>
        </p:blipFill>
        <p:spPr>
          <a:xfrm>
            <a:off x="3348000" y="263700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473280" cy="261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2770200" cy="2068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4"/>
          <a:stretch/>
        </p:blipFill>
        <p:spPr>
          <a:xfrm>
            <a:off x="179280" y="1197000"/>
            <a:ext cx="3492720" cy="1830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15-1551_IMG"/>
          <p:cNvPicPr/>
          <p:nvPr/>
        </p:nvPicPr>
        <p:blipFill>
          <a:blip r:embed="rId5"/>
          <a:stretch/>
        </p:blipFill>
        <p:spPr>
          <a:xfrm>
            <a:off x="6156360" y="1484280"/>
            <a:ext cx="2592360" cy="228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6"/>
          <a:stretch/>
        </p:blipFill>
        <p:spPr>
          <a:xfrm>
            <a:off x="3348000" y="4653000"/>
            <a:ext cx="1590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свойства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растворяю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воряются в органических растворителях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их меньше 1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ри комнатной температуре они имеют твердое агрегатное состояние, то их называют жирами, а если жидкое, то – мас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ры – это сложные эфиры , образованные трехатомным спиртом –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глицери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одноосновными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карбоновыми кислот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121480" y="3027600"/>
            <a:ext cx="47311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-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радика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ысш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рбоновых кисло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 природных триглицеридов входят оста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насыщен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исло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ьмитиновой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15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31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ариновой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17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35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ненасыщен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исл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еиновой -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17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33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олевой -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17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31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оленовой -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17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29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54г французский химик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Марселен Берт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провел реакцию этерификации между глицерином и жирными кислотами и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первые</a:t>
            </a: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 синтезировал ж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132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07:30:38Z</dcterms:created>
  <dc:creator>Наталия</dc:creator>
  <dc:description/>
  <dc:language>en-US</dc:language>
  <cp:lastModifiedBy>Master_1</cp:lastModifiedBy>
  <dcterms:modified xsi:type="dcterms:W3CDTF">2012-05-22T14:01:55Z</dcterms:modified>
  <cp:revision>61</cp:revision>
  <dc:subject/>
  <dc:title>Органическая химия: «Жиры»</dc:title>
</cp:coreProperties>
</file>