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wind.wav" ContentType="audio/x-wav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3B5-5B62-4783-8104-096D0907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700-3F8B-44E7-91B5-4B65993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FCA-4A8B-4D44-8523-6DCD5CC0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AD5-CC50-430F-BD65-FDEED8ED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61C2-1F70-4D55-A661-2781B669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0CF-EBCA-421E-A044-7AC25F6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3C1-607C-4E89-97E6-103263CE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1D8-DB90-4F03-8601-579912F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1EAC-A5B2-448A-BBE7-66AD3D1E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E1C-4475-491E-AC71-40E0AF7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B356-8C50-46CA-BC3F-B37DB57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347-09F3-4180-8204-D717BD96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76BD-52A0-4F22-84F0-A1A44CCA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AA5C-2068-4FA2-B0D0-5EB6444C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0A11-9B69-4151-9512-40AC3738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5444-A409-422F-ACB1-442467C1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A9F-E86E-4688-BFE5-545113A7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3089-6C21-43B3-9315-F25AAA59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79B0-50CE-46AC-99C5-4A638A0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F122-514F-4116-9769-92A84BE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F0B2-EE8C-4796-81A0-0E3E59C1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6AE6-44A0-4DF0-BD7F-F407B612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A53-EB05-4FC9-B543-820E0CD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DB397-116F-4667-9E18-BC1B8359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F714-4A8C-4242-81AB-1EC6A403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EE20-466A-4997-9D5C-10FE752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AA95-5216-4BAC-B3A0-36877C7E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E55E-75FC-4E4B-8042-402C1396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C20E-8FBE-4A69-B14D-866528E5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E8CC-1983-4D52-B2B9-90987D45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69E26-8C3A-47A0-B190-6A717714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029D-D528-4B1A-9D44-1D983031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A663-D4F0-494E-92A4-E3A168A2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5E7-C937-411E-8F46-DDA179B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5991-AD46-43A4-AB8A-6330C71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7F83-42E4-4FC1-9B75-66C3A73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DF7E-AF95-4323-A2A9-E35BCD8A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3992-E9F9-40A7-BB34-5182CE3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C26B-0671-4BF0-B1BB-8BF5A13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A4F2-ECA3-40E5-9040-A2A7427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8E8C-A053-42DB-9E2A-F6F51471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BDDD-137E-45E2-AB66-35917421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946F-E4A4-4787-B432-E4C0F1B2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7955-9743-4330-B818-8A89B146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285-DD3D-4CD0-8438-3A75178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3DC2-B8E2-4E67-A8C2-1020BA2E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D4A9-B379-4AC8-868D-D8580B2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363D-58FD-4C2F-B132-2B35DBD0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91A10-DEF9-4A08-8710-DFEB7DE5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E6B6-B727-4BB3-A59E-5968793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4483-8F66-4F7A-9AA7-6EF16AF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3E17-3530-4DD1-83B9-15BCADC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701EB-4B23-401D-8F61-6E90F6D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4E49-DD90-4236-9319-6237DD8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0C2F-3E61-4C6A-B5BE-13184060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B30-9FBC-45BD-8E79-F4B10A8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F9C31-1D5A-4B93-86DB-13EA56D2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A69-CEDD-448A-A83E-7972F30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85B-2DEF-4657-AEEC-1B726DD2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B73-44D6-4A73-9619-175EB75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61FF-4D41-49AE-BE02-DD6F85802F5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7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7338-440D-4AE2-94A5-8A3E905B546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7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88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FD3-0139-4C67-8EDD-56A63DB9971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A4C-0788-4A83-814B-F0869C53F3D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одним скругленным углом 7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7EA-CE3F-4F98-86A5-56D169112E3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8d3e"/>
                </a:solidFill>
                <a:latin typeface="Arial"/>
              </a:rPr>
              <a:t>Исследовательская работа по экологии</a:t>
            </a:r>
            <a:endParaRPr b="1" lang="en-US" sz="29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ма: «Исследова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ловий окружающей сре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микрорайоне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У СОШ №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.Павловский По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тиев Влади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 9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ководитель: Максимова М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010-2011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Arial"/>
              </a:rPr>
              <a:t>Зависимость автотранспортной нагрузки от времени суток. Пост №1: «Деметра»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44" name="Содержимое 3" descr=""/>
          <p:cNvPicPr/>
          <p:nvPr/>
        </p:nvPicPr>
        <p:blipFill>
          <a:blip r:embed="rId1"/>
          <a:stretch/>
        </p:blipFill>
        <p:spPr>
          <a:xfrm>
            <a:off x="214200" y="4071960"/>
            <a:ext cx="8183520" cy="278604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4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8183520" cy="2214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790440" y="1285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3791880" y="37148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Arial"/>
              </a:rPr>
              <a:t>Зависимость автотранспортной нагрузки от времени суток. Пост №2: «Торговый центр»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49" name="Диаграмма 5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7715160" cy="2357640"/>
          </a:xfrm>
          <a:prstGeom prst="rect">
            <a:avLst/>
          </a:prstGeom>
          <a:ln w="0">
            <a:noFill/>
          </a:ln>
        </p:spPr>
      </p:pic>
      <p:pic>
        <p:nvPicPr>
          <p:cNvPr id="250" name="Диаграмма 6" descr=""/>
          <p:cNvPicPr/>
          <p:nvPr/>
        </p:nvPicPr>
        <p:blipFill>
          <a:blip r:embed="rId2"/>
          <a:stretch/>
        </p:blipFill>
        <p:spPr>
          <a:xfrm>
            <a:off x="0" y="4500720"/>
            <a:ext cx="8429760" cy="2357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3647520" y="142884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3648960" y="40719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Зависимость автотранспортной нагрузки от времени суток Пост №3: 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Школа №6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54" name="Диаграмма 3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8358480" cy="2071800"/>
          </a:xfrm>
          <a:prstGeom prst="rect">
            <a:avLst/>
          </a:prstGeom>
          <a:ln w="0">
            <a:noFill/>
          </a:ln>
        </p:spPr>
      </p:pic>
      <p:pic>
        <p:nvPicPr>
          <p:cNvPr id="255" name="Диаграмма 4" descr=""/>
          <p:cNvPicPr/>
          <p:nvPr/>
        </p:nvPicPr>
        <p:blipFill>
          <a:blip r:embed="rId2"/>
          <a:stretch/>
        </p:blipFill>
        <p:spPr>
          <a:xfrm>
            <a:off x="285840" y="4286160"/>
            <a:ext cx="8286840" cy="25718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3647520" y="17146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3648960" y="4000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Arial"/>
              </a:rPr>
              <a:t>Количество вредных веществ выделенных из топлива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71720" y="714240"/>
          <a:ext cx="6929280" cy="4071960"/>
        </p:xfrm>
        <a:graphic>
          <a:graphicData uri="http://schemas.openxmlformats.org/drawingml/2006/table">
            <a:tbl>
              <a:tblPr/>
              <a:tblGrid>
                <a:gridCol w="1214280"/>
                <a:gridCol w="1143000"/>
                <a:gridCol w="1287360"/>
                <a:gridCol w="1784520"/>
                <a:gridCol w="150012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НЫХ УГЛЕ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ЩЕСТВ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>
    <p:wheel spokes="3"/>
    <p:sndAc>
      <p:stSnd>
        <p:snd r:embed="rId1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Расход топлива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214280" y="785880"/>
          <a:ext cx="6645600" cy="4572000"/>
        </p:xfrm>
        <a:graphic>
          <a:graphicData uri="http://schemas.openxmlformats.org/drawingml/2006/table">
            <a:tbl>
              <a:tblPr/>
              <a:tblGrid>
                <a:gridCol w="1643400"/>
                <a:gridCol w="1680840"/>
                <a:gridCol w="1659240"/>
                <a:gridCol w="1662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Н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ГК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З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13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>
    <p:wheel spokes="3"/>
    <p:sndAc>
      <p:stSnd>
        <p:snd r:embed="rId1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Расчет количества автомобилей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071720" y="642960"/>
          <a:ext cx="6929280" cy="4143240"/>
        </p:xfrm>
        <a:graphic>
          <a:graphicData uri="http://schemas.openxmlformats.org/drawingml/2006/table">
            <a:tbl>
              <a:tblPr/>
              <a:tblGrid>
                <a:gridCol w="1733400"/>
                <a:gridCol w="1733400"/>
                <a:gridCol w="1730520"/>
                <a:gridCol w="17319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ИЙ П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ГК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 000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З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00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00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00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Выделение вредных веществ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16040" y="928800"/>
          <a:ext cx="7715160" cy="4071960"/>
        </p:xfrm>
        <a:graphic>
          <a:graphicData uri="http://schemas.openxmlformats.org/drawingml/2006/table">
            <a:tbl>
              <a:tblPr/>
              <a:tblGrid>
                <a:gridCol w="1542960"/>
                <a:gridCol w="1542960"/>
                <a:gridCol w="1543320"/>
                <a:gridCol w="1542960"/>
                <a:gridCol w="154296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ТОЯ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 ВРЕДНЫХ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гр/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гр/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Н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р/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u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760" y="1642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Исходя из таблиц мы видим, что число автомобилей растет, вместе с этим растет и валовой выброс вредных продуктов в атмосферу. Применение  этилированного бензина, имеющего в своем составе соединения свинца, вызывают загрязнения воздуха весьма токсичными соединениями. При сжигание топлива образуется сернистый газ, который раздражает слизистые оболочки глаз и дыхательны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Автомобиль в среднем за один км пробега выбрасывает в атмосферу 30г. угарного газа; 4г. диоксида азота; 2г. бенз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Выхлопные газы негативно отражаются на окружающей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Нельзя сказать, что по вопросу загрязнения транспортом не уделяется никакого внимания. Все больше обычные поезда заменяются электровозами, разрабатываются и уже выпускаются автомобили на аккумуляторных батаре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Охрана природы - задача нашего ве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Arial"/>
              </a:rPr>
              <a:t>Влияние  загрязнения атмосферы на снеговой покров.</a:t>
            </a:r>
            <a:endParaRPr b="1" lang="en-US" sz="41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24000" y="6649560"/>
            <a:ext cx="12571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Мониторинг кислотных осадков.Результат исследовательской работы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87360" y="1000080"/>
          <a:ext cx="6853320" cy="3603600"/>
        </p:xfrm>
        <a:graphic>
          <a:graphicData uri="http://schemas.openxmlformats.org/drawingml/2006/table">
            <a:tbl>
              <a:tblPr/>
              <a:tblGrid>
                <a:gridCol w="1193760"/>
                <a:gridCol w="1733760"/>
                <a:gridCol w="1136520"/>
                <a:gridCol w="2789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72" name="Прямоугольник 9"/>
          <p:cNvSpPr/>
          <p:nvPr/>
        </p:nvSpPr>
        <p:spPr>
          <a:xfrm>
            <a:off x="716040" y="428760"/>
            <a:ext cx="77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) рН атмосферных осадков в микрорайон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184960" cy="34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Провести мониторинг автотранспортной нагрузки. Определить РН снегового покрова. Кислотность осадков. Загрязнение атмосферы пылевыми частицами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Цель: определить чистоту воздуха  микрорайона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8d3e"/>
                </a:solidFill>
                <a:latin typeface="Verdana"/>
              </a:rPr>
              <a:t>Мониторинг кислотных осадков. Результат исследовательской работы.</a:t>
            </a:r>
            <a:endParaRPr b="1" lang="en-US" sz="29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85880" y="928800"/>
          <a:ext cx="7500960" cy="3687480"/>
        </p:xfrm>
        <a:graphic>
          <a:graphicData uri="http://schemas.openxmlformats.org/drawingml/2006/table">
            <a:tbl>
              <a:tblPr/>
              <a:tblGrid>
                <a:gridCol w="1295280"/>
                <a:gridCol w="2368440"/>
                <a:gridCol w="1336680"/>
                <a:gridCol w="25005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642960" y="500040"/>
            <a:ext cx="77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)рН атмосферных осадков по ул.Карп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wind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Загрязнение атмосферы пылевыми частицами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ель: изучение пылевого загрязнения воздуха в микрорайоне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500040" y="571680"/>
          <a:ext cx="7858080" cy="5630760"/>
        </p:xfrm>
        <a:graphic>
          <a:graphicData uri="http://schemas.openxmlformats.org/drawingml/2006/table">
            <a:tbl>
              <a:tblPr/>
              <a:tblGrid>
                <a:gridCol w="2455920"/>
                <a:gridCol w="2259000"/>
                <a:gridCol w="1571760"/>
                <a:gridCol w="1571400"/>
              </a:tblGrid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асположения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авнительная степень запылё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7922d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тороны жилых до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7922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автостр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лубине пришкольной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</p:spTree>
  </p:cSld>
  <p:transition>
    <p:wheel spokes="3"/>
    <p:sndAc>
      <p:stSnd>
        <p:snd r:embed="rId1" name="wind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f09"/>
                </a:solidFill>
                <a:latin typeface="Arial"/>
              </a:rPr>
              <a:t>Количество оседающей пыли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680" y="235728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оль:15х34=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н:11х33=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ень:6х11=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е количество оседающей пыли на контрольном участке – 939 кг пы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утки – 90х24=216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d3e"/>
                </a:solidFill>
                <a:latin typeface="Arial"/>
              </a:rPr>
              <a:t>Исходя из проделанной исследовательской  работы, мы можем сказать, что воздух в микрорайоне школы загрязнен выхлопами автомобилей. А классные кабинеты пылью и микроорганизмами. Необходимо проветривать классные комнаты, носить сменную обувь, проводить влажные уборки в классе после уроков и между сменами. Продолжить озеленение кабинетов. Вырубить большие деревья около школы и посадить и посадить молодые деревья и кустарники, которые будут очищать воздух от выхлопных газов автомобилей.</a:t>
            </a:r>
            <a:endParaRPr b="1" lang="en-US" sz="2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520" cy="145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храна природы и здоровья человека - задача нашего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wind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20908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1.     В.И.Цыбасова.Биология.9 класс. Проектная деятельность. Торговый дом Корифей.Волгоград.2005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2.    Экология Подмосковья. Энциклопедическое пособие. Современные тетради.2005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3.    С.Е.Мансурова,О.А.Шклярова. Здоровье и окружающая среда. Элективный курс.Санкт-Петербург.2006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4.    Т.А.Ашихмина. Школьный экологический мониторинг. «Рондеву-АМ», «Агар».2000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5.     С.В.Алексеева,Н.В.Груздева,Э.В.Пущина. Экологический практикум школьника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6.     Экология России.Хрестоматия.АО МДС.1995</a:t>
            </a:r>
            <a:endParaRPr b="1" lang="en-US" sz="20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18352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d3e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8d3e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Основные вещества загрязняющие воздух и их влияние на здоровье человека.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Исследование загрязнения воздуха в микрорайоне школы: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а)Автотранспортная нагрузка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б)Влияние загрязнения атмосферы на снеговой покров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в)Кислотные осадки, количество кислотных осадков 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г)Загрязнение атмосферы пылевыми частицами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3f04"/>
                </a:solidFill>
                <a:latin typeface="Arial"/>
              </a:rPr>
              <a:t>Загрязнение воздуха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Различные вещества, загрязняющие воздух, по разному влияют на состояние здоровья человека, вызывая различные болезни. Вдыхание воздуха, в котором присутствуют продукты горения ,разреженный выхлоп дизельного двигателя, даже в течение непродолжительного времени, например, увеличивают риск получить ишемическую болезнь сердц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Промышленные предприятия и автотранспорт выбрасывают чёрный дым и зеленовато-жёлтый диоксид, которые повышают риск ранней смерти. Даже сравнительно низкая концентрация этих веществ в атмосфере вызывают от 4 до 22 процентов смертей до сорока лет. Выхлопы автомобильного транспорта, а также выбросы предприятий, сжигающих уголь, насыщают воздух крошечными частицами загрязнений, способных вызывать повышение свёртываемости крови и образование тромбов в кровеносной системе человека. Загрязнённый воздух приводит также повышению давления. Это вызвано тем, загрязнение атмосферы приводит к изменению той части нервной системы, которая контролирует уровень кровяного давления. Из-за загрязнения воздуха в крупных городах происходит примерно пять процентов случаев госпитализ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Нередко крупные промышленные города накрывает густой туман – смог. Это очень сильное загрязнение воздуха, представляющее собой густой туман с примесями дыма и газовых отходов или пелену едких газов и аэрозолей повышенной концентрации. Такое явление обычно наблюдается в безветренную погоду. Это очень большая проблема крупных городов, которая отрицательно влияет на здоровье человека. Особенно опасен смог для детей и пожилых людей с ослабленным организмом, страдающих сердечно-сосудистыми заболеваниями и заболеваниями дыхательной системы. Он может стать причиной затруднения дыхания или даже его остановкой, вызывает воспаление слизистых оболочек. Наибольшая концентрация вредных веществ в приземном воздухе наблюдается утром, в течение дня смог поднимается вверх под воздействием восходящих потоков воздуха. Напрямую связана с загрязнением воздуха бронхиальная астм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Очень опасным симптомом для человечества является то, что загрязнение воздуха повышает вероятность рождения детей с пороками развития. Запредельная концентрация вредных веществ в атмосфере вызывает преждевременные роды, новорождённые имеют малый вес, иногда рождаются мёртвые дети. Если беременная женщина дышит воздухом, содержащим повышенные концентрации озона и окиси углерода, особенно во второй месяц беременности, у неё в три раза повышается возможность родить ребёнка с таким пороком развития, как заячья губа, волчья пасть, дефектами сердечного клапан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8d3e"/>
                </a:solidFill>
                <a:latin typeface="Verdana"/>
              </a:rPr>
              <a:t>Исследова</a:t>
            </a:r>
            <a:r>
              <a:rPr b="1" lang="en-US" sz="3700" spc="-1" strike="noStrike">
                <a:solidFill>
                  <a:srgbClr val="ff8d3e"/>
                </a:solidFill>
                <a:latin typeface="Arial"/>
              </a:rPr>
              <a:t>ние</a:t>
            </a:r>
            <a:r>
              <a:rPr b="1" lang="en-US" sz="3700" spc="-1" strike="noStrike">
                <a:solidFill>
                  <a:srgbClr val="ff8d3e"/>
                </a:solidFill>
                <a:latin typeface="Verdana"/>
              </a:rPr>
              <a:t> загрязнени</a:t>
            </a:r>
            <a:r>
              <a:rPr b="1" lang="en-US" sz="37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en-US" sz="3700" spc="-1" strike="noStrike">
                <a:solidFill>
                  <a:srgbClr val="ff8d3e"/>
                </a:solidFill>
                <a:latin typeface="Verdana"/>
              </a:rPr>
              <a:t> воздуха в микрорайоне школы.</a:t>
            </a:r>
            <a:endParaRPr b="1" lang="en-US" sz="37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42920" y="6613920"/>
            <a:ext cx="13305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9766f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f04"/>
                </a:solidFill>
                <a:latin typeface="Arial"/>
              </a:rPr>
              <a:t>Основной загрязнитель воздуха автомобильный транспорт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9840" y="1857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5f07"/>
                </a:solidFill>
                <a:latin typeface="Verdana"/>
              </a:rPr>
              <a:t>Все виды транспорта наносят большой ущерб биосфере, но наиболее опасен для нее автомобильный транспорт. Автомобили расходуют огромное количество топлива. А особенно быстро тают запасы нефти, её транспортировки и переработке на нефтеперерабатывающих предприятиях загрязняются почвы, воды,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5f07"/>
                </a:solidFill>
                <a:latin typeface="Verdana"/>
              </a:rPr>
              <a:t>Охрана природы -задача  нашего века, проблема, ставшая соци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5f07"/>
                </a:solidFill>
                <a:latin typeface="Verdana"/>
              </a:rPr>
              <a:t>Наша школа проводит мониторинг автотранспортной нагрузки уже несколько лет. Мы ведем подсчеты на двух постах: пост № 1-«Деметра», пост № 2-«Торговый центр» на вокзале». Подсчет проводится в разное время суток(утром, днём, вечером) и в разные сезоны года(зима и весна) и исследуется разнообразный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Arial"/>
              </a:rPr>
              <a:t>Мониторинг видов автотранспортной нагрузки. Пост № 1: «Деметра»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29" name="Содержимое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183520" cy="3786480"/>
          </a:xfrm>
          <a:prstGeom prst="rect">
            <a:avLst/>
          </a:prstGeom>
          <a:ln w="0">
            <a:noFill/>
          </a:ln>
        </p:spPr>
      </p:pic>
      <p:pic>
        <p:nvPicPr>
          <p:cNvPr id="230" name="Диаграмма 5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8001000" cy="26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2714760" y="1071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429000" y="39290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Arial"/>
              </a:rPr>
              <a:t>Мониторинг видов автотранспортной нагрузки. Пост № 2: «Торговый центр»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34" name="Содержимое 4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183520" cy="2112840"/>
          </a:xfrm>
          <a:prstGeom prst="rect">
            <a:avLst/>
          </a:prstGeom>
          <a:ln w="0">
            <a:noFill/>
          </a:ln>
        </p:spPr>
      </p:pic>
      <p:pic>
        <p:nvPicPr>
          <p:cNvPr id="235" name="Диаграмма 5" descr=""/>
          <p:cNvPicPr/>
          <p:nvPr/>
        </p:nvPicPr>
        <p:blipFill>
          <a:blip r:embed="rId2"/>
          <a:stretch/>
        </p:blipFill>
        <p:spPr>
          <a:xfrm>
            <a:off x="500040" y="4095720"/>
            <a:ext cx="8286840" cy="2762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357720" y="128592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3286080" y="37148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  <p:sndAc>
      <p:stSnd>
        <p:snd r:embed="rId3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22d"/>
                </a:solidFill>
                <a:latin typeface="Arial"/>
              </a:rPr>
              <a:t>Зависимость автотранспортной нагрузки Пост №3: Школа №6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39" name="Диаграмма 3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286840" cy="2214360"/>
          </a:xfrm>
          <a:prstGeom prst="rect">
            <a:avLst/>
          </a:prstGeom>
          <a:ln w="0">
            <a:noFill/>
          </a:ln>
        </p:spPr>
      </p:pic>
      <p:pic>
        <p:nvPicPr>
          <p:cNvPr id="240" name="Диаграмма 4" descr=""/>
          <p:cNvPicPr/>
          <p:nvPr/>
        </p:nvPicPr>
        <p:blipFill>
          <a:blip r:embed="rId2"/>
          <a:stretch/>
        </p:blipFill>
        <p:spPr>
          <a:xfrm>
            <a:off x="0" y="4429080"/>
            <a:ext cx="8358120" cy="2428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"/>
          <p:cNvSpPr/>
          <p:nvPr/>
        </p:nvSpPr>
        <p:spPr>
          <a:xfrm>
            <a:off x="3571920" y="1285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576240" y="40006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5:43:29Z</dcterms:created>
  <dc:creator>Ольга</dc:creator>
  <dc:description/>
  <dc:language>en-US</dc:language>
  <cp:lastModifiedBy>Максимов Евгений Эдуардович</cp:lastModifiedBy>
  <dcterms:modified xsi:type="dcterms:W3CDTF">1999-12-31T22:02:36Z</dcterms:modified>
  <cp:revision>65</cp:revision>
  <dc:subject/>
  <dc:title>Конкурс «Свидетели» Исследовательский проект «Чистый воздух»</dc:title>
</cp:coreProperties>
</file>