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png" ContentType="image/png"/>
  <Override PartName="/ppt/media/image13.png" ContentType="image/png"/>
  <Override PartName="/ppt/media/image1.png" ContentType="image/png"/>
  <Override PartName="/ppt/media/image2.png" ContentType="image/png"/>
  <Override PartName="/ppt/media/wind.wav" ContentType="audio/x-wav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F190-A554-462F-906B-63D9C86D1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64BD-C5AA-48AB-BF25-5B9BB37C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8EE7-F34E-437E-B7CC-7C28F9B55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9650-D779-4EBA-98D6-2E7F69CD9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81B9-9A04-432C-94FB-E35020C54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8D19A-5D20-4FCC-A160-2524DE04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2B3B-0699-441A-9405-BBC46400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F701-286E-4845-9DDA-A14FE286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035A-FB66-4E17-B372-6C1C4FA5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B940-EA11-41ED-BC28-3F8365EA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5120-71B8-49B7-9A8C-08CA6A29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B793-18A5-4DE1-A98F-29B222195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7A2CC-18DA-4863-A061-8E58C086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48EC-1FD7-4059-AF94-880D4F47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9644-F610-4524-9D37-3D2F26AF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091FC-03DA-44E0-8C50-01F4FEA80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2A4E-0EC4-4723-A164-8A93DB0D4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A7551-3CCA-4790-9855-BD4CA8BB9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5F49F-E2FB-4BAE-BEC0-29E19FE6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769C2-F39D-451E-8830-168BC139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8FD08-E300-4084-A765-059636E3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2C7D5-8F19-42C3-AAFC-41E5A476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8777-18E0-4B94-BA51-DBD59240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4A4D1-0B8D-4D43-B05D-2DDE0A24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5B465-0D82-4AA2-AFD3-B4865A82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66E50-F807-46B6-B11C-1C6653CF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69F32-DA3C-49EB-AB02-5319446B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71AE2-36E0-4E2D-9197-5D4C390C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C7B15-DF19-4B5A-A45A-7139B2574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BF5ED-A01A-4E6C-A1D7-07993D6C6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38A45-FE3B-4286-BC82-549F5C125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C718C-CDD0-4C05-8055-6F772D7D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A2763-B9B8-4256-97CD-9C6AE910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B2E0-EA59-48AE-A02B-D1322DCD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AD789-A719-4C06-B344-84D8FFCA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19417-785D-479D-8ECB-89DFE422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422DD-3B68-4529-8676-865B59F8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99429-FDCF-49BE-B7F4-7341B68C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5AD08-F371-4835-B41E-10BA020A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D2A2A-9D43-4605-8B99-3ECF1FD0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B8131-D8A8-4447-AB66-98CA19F1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55350-4A69-4EBC-8FF6-2AFEFAD4B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1A5E1-8A23-434E-88B0-F93E896E1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BB86C-B30A-4187-953F-7ECECA054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7DE4-BDC3-483D-A9B0-BE459BFF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4FC18-7379-4AB9-86FF-FE8A358B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74D5D-642D-4D23-9748-53977542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A529C-EF40-445D-9DCA-7A9EB62A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7CAD2-BF98-435A-B65B-381B3170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4F96C-C436-4127-9D65-FF54128C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EE3B7-CC41-4403-9787-39DFEA05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3C8FA-F424-41A8-BCBE-F4E12D5B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98F1F-9DA1-4D37-AE87-B2322737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7841D-1822-423E-90D4-370679A6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C3977-543F-4219-A5B6-30D2ED05E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96DF-774A-4ACB-867E-99825DC5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1FDF2-9C5F-4539-B45F-0275AA828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3D10-8EEC-4684-9304-283E7DB4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3987-E368-475D-AF32-EF50D9C1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4B26-D109-4A0E-8E12-ABFC027C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A35B-D012-4CB2-A1B5-18D97550B38C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Скругленный прямоугольник 7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3" name="Скругленный 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91B7-D6FA-402A-96A1-9938AE1C5982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Скругленный прямоугольник 7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88" name="Скругленный 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7D79-7880-4BFD-8AAA-F6EFBAFF11C8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3A67-AA2F-43E9-A8C6-78365F0F4F32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с одним скругленным углом 7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6804-9005-4C23-9DD5-956FED478D85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8d3e"/>
                </a:solidFill>
                <a:latin typeface="Arial"/>
              </a:rPr>
              <a:t>Исследовательская работа по экологии</a:t>
            </a:r>
            <a:endParaRPr b="1" lang="en-US" sz="29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68000" y="2205000"/>
            <a:ext cx="8280360" cy="417672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ема: «Исследован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словий окружающей сред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микрорайоне школ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У СОШ №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.Павловский Поса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ыполнил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лотиев Владими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еник 9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уководитель: Максимова М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010-2011 г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  <p:sndAc>
      <p:stSnd>
        <p:snd r:embed="rId1" name="win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1680" y="50004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Arial"/>
              </a:rPr>
              <a:t>Зависимость автотранспортной нагрузки от времени суток. Пост №1: «Деметра».</a:t>
            </a:r>
            <a:endParaRPr b="1" lang="en-US" sz="3200" spc="-1" strike="noStrike">
              <a:solidFill>
                <a:srgbClr val="ff8d3e"/>
              </a:solidFill>
              <a:latin typeface="Arial"/>
            </a:endParaRPr>
          </a:p>
        </p:txBody>
      </p:sp>
      <p:pic>
        <p:nvPicPr>
          <p:cNvPr id="244" name="Содержимое 3" descr=""/>
          <p:cNvPicPr/>
          <p:nvPr/>
        </p:nvPicPr>
        <p:blipFill>
          <a:blip r:embed="rId1"/>
          <a:stretch/>
        </p:blipFill>
        <p:spPr>
          <a:xfrm>
            <a:off x="214200" y="4071960"/>
            <a:ext cx="8183520" cy="2786040"/>
          </a:xfrm>
          <a:prstGeom prst="rect">
            <a:avLst/>
          </a:prstGeom>
          <a:ln w="0">
            <a:noFill/>
          </a:ln>
        </p:spPr>
      </p:pic>
      <p:pic>
        <p:nvPicPr>
          <p:cNvPr id="245" name="Object 4" descr=""/>
          <p:cNvPicPr/>
          <p:nvPr/>
        </p:nvPicPr>
        <p:blipFill>
          <a:blip r:embed="rId2"/>
          <a:stretch/>
        </p:blipFill>
        <p:spPr>
          <a:xfrm>
            <a:off x="285840" y="1571760"/>
            <a:ext cx="8183520" cy="2214360"/>
          </a:xfrm>
          <a:prstGeom prst="rect">
            <a:avLst/>
          </a:prstGeom>
          <a:ln w="0">
            <a:noFill/>
          </a:ln>
        </p:spPr>
      </p:pic>
      <p:sp>
        <p:nvSpPr>
          <p:cNvPr id="246" name="TextBox 5"/>
          <p:cNvSpPr/>
          <p:nvPr/>
        </p:nvSpPr>
        <p:spPr>
          <a:xfrm>
            <a:off x="3790440" y="1285920"/>
            <a:ext cx="7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6"/>
          <p:cNvSpPr/>
          <p:nvPr/>
        </p:nvSpPr>
        <p:spPr>
          <a:xfrm>
            <a:off x="3791880" y="371484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с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  <p:sndAc>
      <p:stSnd>
        <p:snd r:embed="rId3" name="wind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18352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Arial"/>
              </a:rPr>
              <a:t>Зависимость автотранспортной нагрузки от времени суток. Пост №2: «Торговый центр».</a:t>
            </a:r>
            <a:endParaRPr b="1" lang="en-US" sz="3200" spc="-1" strike="noStrike">
              <a:solidFill>
                <a:srgbClr val="ff8d3e"/>
              </a:solidFill>
              <a:latin typeface="Arial"/>
            </a:endParaRPr>
          </a:p>
        </p:txBody>
      </p:sp>
      <p:pic>
        <p:nvPicPr>
          <p:cNvPr id="249" name="Диаграмма 5" descr=""/>
          <p:cNvPicPr/>
          <p:nvPr/>
        </p:nvPicPr>
        <p:blipFill>
          <a:blip r:embed="rId1"/>
          <a:stretch/>
        </p:blipFill>
        <p:spPr>
          <a:xfrm>
            <a:off x="428760" y="1643040"/>
            <a:ext cx="7715160" cy="2357640"/>
          </a:xfrm>
          <a:prstGeom prst="rect">
            <a:avLst/>
          </a:prstGeom>
          <a:ln w="0">
            <a:noFill/>
          </a:ln>
        </p:spPr>
      </p:pic>
      <p:pic>
        <p:nvPicPr>
          <p:cNvPr id="250" name="Диаграмма 6" descr=""/>
          <p:cNvPicPr/>
          <p:nvPr/>
        </p:nvPicPr>
        <p:blipFill>
          <a:blip r:embed="rId2"/>
          <a:stretch/>
        </p:blipFill>
        <p:spPr>
          <a:xfrm>
            <a:off x="0" y="4500720"/>
            <a:ext cx="8429760" cy="2357280"/>
          </a:xfrm>
          <a:prstGeom prst="rect">
            <a:avLst/>
          </a:prstGeom>
          <a:ln w="0">
            <a:noFill/>
          </a:ln>
        </p:spPr>
      </p:pic>
      <p:sp>
        <p:nvSpPr>
          <p:cNvPr id="251" name="TextBox 7"/>
          <p:cNvSpPr/>
          <p:nvPr/>
        </p:nvSpPr>
        <p:spPr>
          <a:xfrm>
            <a:off x="3647520" y="1428840"/>
            <a:ext cx="7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8"/>
          <p:cNvSpPr/>
          <p:nvPr/>
        </p:nvSpPr>
        <p:spPr>
          <a:xfrm>
            <a:off x="3648960" y="40719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с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  <p:sndAc>
      <p:stSnd>
        <p:snd r:embed="rId3" name="wind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28760" y="1071720"/>
            <a:ext cx="8183520" cy="6760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7f09"/>
                </a:solidFill>
                <a:latin typeface="Arial"/>
              </a:rPr>
              <a:t>Зависимость автотранспортной нагрузки от времени суток Пост №3: </a:t>
            </a:r>
            <a:r>
              <a:rPr b="1" lang="en-US" sz="3200" spc="-1" strike="noStrike">
                <a:solidFill>
                  <a:srgbClr val="f07f0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07f0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07f0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07f09"/>
                </a:solidFill>
                <a:latin typeface="Arial"/>
              </a:rPr>
              <a:t>Школа №6</a:t>
            </a:r>
            <a:endParaRPr b="1" lang="en-US" sz="3200" spc="-1" strike="noStrike">
              <a:solidFill>
                <a:srgbClr val="ff8d3e"/>
              </a:solidFill>
              <a:latin typeface="Arial"/>
            </a:endParaRPr>
          </a:p>
        </p:txBody>
      </p:sp>
      <p:pic>
        <p:nvPicPr>
          <p:cNvPr id="254" name="Диаграмма 3" descr=""/>
          <p:cNvPicPr/>
          <p:nvPr/>
        </p:nvPicPr>
        <p:blipFill>
          <a:blip r:embed="rId1"/>
          <a:stretch/>
        </p:blipFill>
        <p:spPr>
          <a:xfrm>
            <a:off x="214200" y="2000160"/>
            <a:ext cx="8358480" cy="2071800"/>
          </a:xfrm>
          <a:prstGeom prst="rect">
            <a:avLst/>
          </a:prstGeom>
          <a:ln w="0">
            <a:noFill/>
          </a:ln>
        </p:spPr>
      </p:pic>
      <p:pic>
        <p:nvPicPr>
          <p:cNvPr id="255" name="Диаграмма 4" descr=""/>
          <p:cNvPicPr/>
          <p:nvPr/>
        </p:nvPicPr>
        <p:blipFill>
          <a:blip r:embed="rId2"/>
          <a:stretch/>
        </p:blipFill>
        <p:spPr>
          <a:xfrm>
            <a:off x="285840" y="4286160"/>
            <a:ext cx="8286840" cy="2571840"/>
          </a:xfrm>
          <a:prstGeom prst="rect">
            <a:avLst/>
          </a:prstGeom>
          <a:ln w="0">
            <a:noFill/>
          </a:ln>
        </p:spPr>
      </p:pic>
      <p:sp>
        <p:nvSpPr>
          <p:cNvPr id="256" name="TextBox 5"/>
          <p:cNvSpPr/>
          <p:nvPr/>
        </p:nvSpPr>
        <p:spPr>
          <a:xfrm>
            <a:off x="3647520" y="1714680"/>
            <a:ext cx="7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6"/>
          <p:cNvSpPr/>
          <p:nvPr/>
        </p:nvSpPr>
        <p:spPr>
          <a:xfrm>
            <a:off x="3648960" y="40006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с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  <p:sndAc>
      <p:stSnd>
        <p:snd r:embed="rId3" name="wind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Arial"/>
              </a:rPr>
              <a:t>Количество вредных веществ выделенных из топлива.</a:t>
            </a:r>
            <a:endParaRPr b="1" lang="en-US" sz="3200" spc="-1" strike="noStrike">
              <a:solidFill>
                <a:srgbClr val="ff8d3e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071720" y="714240"/>
          <a:ext cx="6929280" cy="4071960"/>
        </p:xfrm>
        <a:graphic>
          <a:graphicData uri="http://schemas.openxmlformats.org/drawingml/2006/table">
            <a:tbl>
              <a:tblPr/>
              <a:tblGrid>
                <a:gridCol w="1214280"/>
                <a:gridCol w="1143000"/>
                <a:gridCol w="1287360"/>
                <a:gridCol w="1784520"/>
                <a:gridCol w="1500120"/>
              </a:tblGrid>
              <a:tr h="101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И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УММА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Л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РЕДНЫХ УГЛЕР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ЕЩЕСТВ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ЕНЗ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101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З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101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9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p:transition>
    <p:wheel spokes="3"/>
    <p:sndAc>
      <p:stSnd>
        <p:snd r:embed="rId1" name="wind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Расход топлива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1214280" y="785880"/>
          <a:ext cx="6645600" cy="4572000"/>
        </p:xfrm>
        <a:graphic>
          <a:graphicData uri="http://schemas.openxmlformats.org/drawingml/2006/table">
            <a:tbl>
              <a:tblPr/>
              <a:tblGrid>
                <a:gridCol w="1643400"/>
                <a:gridCol w="1680840"/>
                <a:gridCol w="1659240"/>
                <a:gridCol w="1662120"/>
              </a:tblGrid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И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ЕНЗ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З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ЕГКОВ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РУЗОВ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ВТОБУ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З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Т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ум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 139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p:transition>
    <p:wheel spokes="3"/>
    <p:sndAc>
      <p:stSnd>
        <p:snd r:embed="rId1" name="wind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Расчет количества автомобилей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071720" y="642960"/>
          <a:ext cx="6929280" cy="4143240"/>
        </p:xfrm>
        <a:graphic>
          <a:graphicData uri="http://schemas.openxmlformats.org/drawingml/2006/table">
            <a:tbl>
              <a:tblPr/>
              <a:tblGrid>
                <a:gridCol w="1733400"/>
                <a:gridCol w="1733400"/>
                <a:gridCol w="1730520"/>
                <a:gridCol w="173196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И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 М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ЧА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ЩИЙ ПУ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ЕГКОВ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0 000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РУЗОВ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 000 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ВТОБУ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 000 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З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 000 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p:transition spd="slow">
    <p:wheel spokes="8"/>
    <p:sndAc>
      <p:stSnd>
        <p:snd r:embed="rId1" name="wind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Выделение вредных веществ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716040" y="928800"/>
          <a:ext cx="7715160" cy="4071960"/>
        </p:xfrm>
        <a:graphic>
          <a:graphicData uri="http://schemas.openxmlformats.org/drawingml/2006/table">
            <a:tbl>
              <a:tblPr/>
              <a:tblGrid>
                <a:gridCol w="1542960"/>
                <a:gridCol w="1542960"/>
                <a:gridCol w="1543320"/>
                <a:gridCol w="1542960"/>
                <a:gridCol w="1542960"/>
              </a:tblGrid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И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Л-ВО Г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Л-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В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ССТОЯ-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 ВРЕДНЫХ ВЕЩЕСТ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93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 гр/к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к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101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гр/к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к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4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101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ЕНЗ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гр/к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к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7 кг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p:transition spd="slow">
    <p:cover dir="u"/>
    <p:sndAc>
      <p:stSnd>
        <p:snd r:embed="rId1" name="wind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Заключение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28760" y="16426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45f07"/>
                </a:solidFill>
                <a:latin typeface="Arial"/>
              </a:rPr>
              <a:t>Исходя из таблиц мы видим, что число автомобилей растет, вместе с этим растет и валовой выброс вредных продуктов в атмосферу. Применение  этилированного бензина, имеющего в своем составе соединения свинца, вызывают загрязнения воздуха весьма токсичными соединениями. При сжигание топлива образуется сернистый газ, который раздражает слизистые оболочки глаз и дыхательных пу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45f07"/>
                </a:solidFill>
                <a:latin typeface="Arial"/>
              </a:rPr>
              <a:t>Автомобиль в среднем за один км пробега выбрасывает в атмосферу 30г. угарного газа; 4г. диоксида азота; 2г. бенз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45f07"/>
                </a:solidFill>
                <a:latin typeface="Arial"/>
              </a:rPr>
              <a:t>Выхлопные газы негативно отражаются на окружающей природ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45f07"/>
                </a:solidFill>
                <a:latin typeface="Arial"/>
              </a:rPr>
              <a:t>Нельзя сказать, что по вопросу загрязнения транспортом не уделяется никакого внимания. Все больше обычные поезда заменяются электровозами, разрабатываются и уже выпускаются автомобили на аккумуляторных батаре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45f07"/>
                </a:solidFill>
                <a:latin typeface="Arial"/>
              </a:rPr>
              <a:t>Охрана природы - задача нашего ве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  <p:sndAc>
      <p:stSnd>
        <p:snd r:embed="rId1" name="wind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8d3e"/>
                </a:solidFill>
                <a:latin typeface="Arial"/>
              </a:rPr>
              <a:t>Влияние  загрязнения атмосферы на снеговой покров.</a:t>
            </a:r>
            <a:endParaRPr b="1" lang="en-US" sz="41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324000" y="6649560"/>
            <a:ext cx="1257120" cy="6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766f"/>
              </a:solidFill>
              <a:latin typeface="Arial"/>
            </a:endParaRPr>
          </a:p>
        </p:txBody>
      </p:sp>
    </p:spTree>
  </p:cSld>
  <p:transition>
    <p:wheel spokes="3"/>
    <p:sndAc>
      <p:stSnd>
        <p:snd r:embed="rId1" name="wind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Arial"/>
              </a:rPr>
              <a:t>Мониторинг кислотных осадков.Результат исследовательской работы.</a:t>
            </a:r>
            <a:endParaRPr b="1" lang="en-US" sz="2800" spc="-1" strike="noStrike">
              <a:solidFill>
                <a:srgbClr val="ff8d3e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287360" y="1000080"/>
          <a:ext cx="6853320" cy="3603600"/>
        </p:xfrm>
        <a:graphic>
          <a:graphicData uri="http://schemas.openxmlformats.org/drawingml/2006/table">
            <a:tbl>
              <a:tblPr/>
              <a:tblGrid>
                <a:gridCol w="1193760"/>
                <a:gridCol w="1733760"/>
                <a:gridCol w="1136520"/>
                <a:gridCol w="2789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пы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ре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1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 февра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абокисл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41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 февра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абокисл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 февра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абокисл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 февра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абокисл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 февра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абокисл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41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 февра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абокисл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 февра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абокисл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  <p:sp>
        <p:nvSpPr>
          <p:cNvPr id="272" name="Прямоугольник 9"/>
          <p:cNvSpPr/>
          <p:nvPr/>
        </p:nvSpPr>
        <p:spPr>
          <a:xfrm>
            <a:off x="716040" y="428760"/>
            <a:ext cx="778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) рН атмосферных осадков в микрорайоне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  <p:sndAc>
      <p:stSnd>
        <p:snd r:embed="rId1" name="wi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184960" cy="34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Провести мониторинг автотранспортной нагрузки. Определить РН снегового покрова. Кислотность осадков. Загрязнение атмосферы пылевыми частицами.</a:t>
            </a:r>
            <a:endParaRPr b="1" lang="en-US" sz="32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9806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Цель: определить чистоту воздуха  микрорайона шко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  <p:sndAc>
      <p:stSnd>
        <p:snd r:embed="rId1" name="wind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8d3e"/>
                </a:solidFill>
                <a:latin typeface="Verdana"/>
              </a:rPr>
              <a:t>Мониторинг кислотных осадков. Результат исследовательской работы.</a:t>
            </a:r>
            <a:endParaRPr b="1" lang="en-US" sz="2900" spc="-1" strike="noStrike">
              <a:solidFill>
                <a:srgbClr val="ff8d3e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785880" y="928800"/>
          <a:ext cx="7500960" cy="3687480"/>
        </p:xfrm>
        <a:graphic>
          <a:graphicData uri="http://schemas.openxmlformats.org/drawingml/2006/table">
            <a:tbl>
              <a:tblPr/>
              <a:tblGrid>
                <a:gridCol w="1295280"/>
                <a:gridCol w="2368440"/>
                <a:gridCol w="1336680"/>
                <a:gridCol w="2500560"/>
              </a:tblGrid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пы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ре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 февра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абокисл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 февра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абокисл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 февра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абокисл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 февра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абокисл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 февра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абокисл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 февра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абокисл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 февра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абокисл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  <p:sp>
        <p:nvSpPr>
          <p:cNvPr id="275" name="Прямоугольник 4"/>
          <p:cNvSpPr/>
          <p:nvPr/>
        </p:nvSpPr>
        <p:spPr>
          <a:xfrm>
            <a:off x="642960" y="500040"/>
            <a:ext cx="77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)рН атмосферных осадков по ул.Карпов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1" name="wind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Загрязнение атмосферы пылевыми частицами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1128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Цель: изучение пылевого загрязнения воздуха в микрорайоне шк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  <p:sndAc>
      <p:stSnd>
        <p:snd r:embed="rId1" name="wind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8" name=""/>
          <p:cNvGraphicFramePr/>
          <p:nvPr/>
        </p:nvGraphicFramePr>
        <p:xfrm>
          <a:off x="500040" y="571680"/>
          <a:ext cx="7858080" cy="5630760"/>
        </p:xfrm>
        <a:graphic>
          <a:graphicData uri="http://schemas.openxmlformats.org/drawingml/2006/table">
            <a:tbl>
              <a:tblPr/>
              <a:tblGrid>
                <a:gridCol w="2455920"/>
                <a:gridCol w="2259000"/>
                <a:gridCol w="1571760"/>
                <a:gridCol w="1571400"/>
              </a:tblGrid>
              <a:tr h="16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сто расположения раст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1985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авнительная степень запылё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1985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d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d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d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7922d"/>
                      </a:solidFill>
                    </a:lnB>
                    <a:solidFill>
                      <a:srgbClr val="e9ddd1"/>
                    </a:solidFill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 стороны жилых дом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7922d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fea"/>
                    </a:solidFill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автостра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d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d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d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dd1"/>
                    </a:solidFill>
                  </a:tcPr>
                </a:tc>
              </a:tr>
              <a:tr h="13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глубине пришкольной террито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4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4efea"/>
                    </a:solidFill>
                  </a:tcPr>
                </a:tc>
              </a:tr>
            </a:tbl>
          </a:graphicData>
        </a:graphic>
      </p:graphicFrame>
    </p:spTree>
  </p:cSld>
  <p:transition>
    <p:wheel spokes="3"/>
    <p:sndAc>
      <p:stSnd>
        <p:snd r:embed="rId1" name="wind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1680" y="642960"/>
            <a:ext cx="8183520" cy="6760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f09"/>
                </a:solidFill>
                <a:latin typeface="Arial"/>
              </a:rPr>
              <a:t>Количество оседающей пыли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71680" y="2357280"/>
            <a:ext cx="8183520" cy="228600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поль:15х34=5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лен:11х33=3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рень:6х11=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щее количество оседающей пыли на контрольном участке – 939 кг пы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сутки – 90х24=2160 к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  <p:sndAc>
      <p:stSnd>
        <p:snd r:embed="rId1" name="wind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9640" y="1773360"/>
            <a:ext cx="8136000" cy="446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8d3e"/>
                </a:solidFill>
                <a:latin typeface="Arial"/>
              </a:rPr>
              <a:t>Исходя из проделанной исследовательской  работы, мы можем сказать, что воздух в микрорайоне школы загрязнен выхлопами автомобилей. А классные кабинеты пылью и микроорганизмами. Необходимо проветривать классные комнаты, носить сменную обувь, проводить влажные уборки в классе после уроков и между сменами. Продолжить озеленение кабинетов. Вырубить большие деревья около школы и посадить и посадить молодые деревья и кустарники, которые будут очищать воздух от выхлопных газов автомобилей.</a:t>
            </a:r>
            <a:endParaRPr b="1" lang="en-US" sz="22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8183520" cy="1458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храна природы и здоровья человека - задача нашего 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1" name="wind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280" y="1484280"/>
            <a:ext cx="8209080" cy="388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d3e"/>
                </a:solidFill>
                <a:latin typeface="Arial"/>
              </a:rPr>
              <a:t>           </a:t>
            </a:r>
            <a:r>
              <a:rPr b="1" lang="ru-RU" sz="2000" spc="-1" strike="noStrike">
                <a:solidFill>
                  <a:srgbClr val="ff8d3e"/>
                </a:solidFill>
                <a:latin typeface="Arial"/>
              </a:rPr>
              <a:t>1.     В.И.Цыбасова.Биология.9 класс. Проектная деятельность. Торговый дом Корифей.Волгоград.2005</a:t>
            </a:r>
            <a:br>
              <a:rPr sz="2000"/>
            </a:br>
            <a:r>
              <a:rPr b="1" lang="ru-RU" sz="2000" spc="-1" strike="noStrike">
                <a:solidFill>
                  <a:srgbClr val="ff8d3e"/>
                </a:solidFill>
                <a:latin typeface="Arial"/>
              </a:rPr>
              <a:t>2.    Экология Подмосковья. Энциклопедическое пособие. Современные тетради.2005</a:t>
            </a:r>
            <a:br>
              <a:rPr sz="2000"/>
            </a:br>
            <a:r>
              <a:rPr b="1" lang="ru-RU" sz="2000" spc="-1" strike="noStrike">
                <a:solidFill>
                  <a:srgbClr val="ff8d3e"/>
                </a:solidFill>
                <a:latin typeface="Arial"/>
              </a:rPr>
              <a:t>3.    С.Е.Мансурова,О.А.Шклярова. Здоровье и окружающая среда. Элективный курс.Санкт-Петербург.2006</a:t>
            </a:r>
            <a:br>
              <a:rPr sz="2000"/>
            </a:br>
            <a:r>
              <a:rPr b="1" lang="ru-RU" sz="2000" spc="-1" strike="noStrike">
                <a:solidFill>
                  <a:srgbClr val="ff8d3e"/>
                </a:solidFill>
                <a:latin typeface="Arial"/>
              </a:rPr>
              <a:t>4.    Т.А.Ашихмина. Школьный экологический мониторинг. «Рондеву-АМ», «Агар».2000</a:t>
            </a:r>
            <a:br>
              <a:rPr sz="2000"/>
            </a:br>
            <a:r>
              <a:rPr b="1" lang="ru-RU" sz="2000" spc="-1" strike="noStrike">
                <a:solidFill>
                  <a:srgbClr val="ff8d3e"/>
                </a:solidFill>
                <a:latin typeface="Arial"/>
              </a:rPr>
              <a:t>5.     С.В.Алексеева,Н.В.Груздева,Э.В.Пущина. Экологический практикум школьника</a:t>
            </a:r>
            <a:br>
              <a:rPr sz="2000"/>
            </a:br>
            <a:r>
              <a:rPr b="1" lang="ru-RU" sz="2000" spc="-1" strike="noStrike">
                <a:solidFill>
                  <a:srgbClr val="ff8d3e"/>
                </a:solidFill>
                <a:latin typeface="Arial"/>
              </a:rPr>
              <a:t>6.     Экология России.Хрестоматия.АО МДС.1995</a:t>
            </a:r>
            <a:endParaRPr b="1" lang="en-US" sz="20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9640" y="549360"/>
            <a:ext cx="8183520" cy="666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исок используемой литерату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  <p:sndAc>
      <p:stSnd>
        <p:snd r:embed="rId1" name="wind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07280" cy="453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d3e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ff8d3e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f8d3e"/>
                </a:solidFill>
                <a:latin typeface="Verdana"/>
              </a:rPr>
              <a:t>Основные вещества загрязняющие воздух и их влияние на здоровье человека.</a:t>
            </a:r>
            <a:br>
              <a:rPr sz="2400"/>
            </a:br>
            <a:r>
              <a:rPr b="1" lang="en-US" sz="2400" spc="-1" strike="noStrike">
                <a:solidFill>
                  <a:srgbClr val="ff8d3e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f8d3e"/>
                </a:solidFill>
                <a:latin typeface="Verdana"/>
              </a:rPr>
              <a:t>Исследование загрязнения воздуха в микрорайоне школы:</a:t>
            </a:r>
            <a:br>
              <a:rPr sz="2400"/>
            </a:br>
            <a:r>
              <a:rPr b="1" lang="en-US" sz="2400" spc="-1" strike="noStrike">
                <a:solidFill>
                  <a:srgbClr val="ff8d3e"/>
                </a:solidFill>
                <a:latin typeface="Verdana"/>
              </a:rPr>
              <a:t> а)Автотранспортная нагрузка</a:t>
            </a:r>
            <a:br>
              <a:rPr sz="2400"/>
            </a:br>
            <a:r>
              <a:rPr b="1" lang="en-US" sz="2400" spc="-1" strike="noStrike">
                <a:solidFill>
                  <a:srgbClr val="ff8d3e"/>
                </a:solidFill>
                <a:latin typeface="Verdana"/>
              </a:rPr>
              <a:t> б)Влияние загрязнения атмосферы на снеговой покров</a:t>
            </a:r>
            <a:br>
              <a:rPr sz="2400"/>
            </a:br>
            <a:r>
              <a:rPr b="1" lang="en-US" sz="2400" spc="-1" strike="noStrike">
                <a:solidFill>
                  <a:srgbClr val="ff8d3e"/>
                </a:solidFill>
                <a:latin typeface="Verdana"/>
              </a:rPr>
              <a:t> в)Кислотные осадки, количество кислотных осадков </a:t>
            </a:r>
            <a:br>
              <a:rPr sz="2400"/>
            </a:br>
            <a:r>
              <a:rPr b="1" lang="en-US" sz="2400" spc="-1" strike="noStrike">
                <a:solidFill>
                  <a:srgbClr val="ff8d3e"/>
                </a:solidFill>
                <a:latin typeface="Verdana"/>
              </a:rPr>
              <a:t>г)Загрязнение атмосферы пылевыми частицами</a:t>
            </a:r>
            <a:br>
              <a:rPr sz="2400"/>
            </a:br>
            <a:r>
              <a:rPr b="1" lang="en-US" sz="2400" spc="-1" strike="noStrike">
                <a:solidFill>
                  <a:srgbClr val="ff8d3e"/>
                </a:solidFill>
                <a:latin typeface="Verdan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640" y="4042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Пл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  <p:sndAc>
      <p:stSnd>
        <p:snd r:embed="rId1" name="wind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83f04"/>
                </a:solidFill>
                <a:latin typeface="Arial"/>
              </a:rPr>
              <a:t>Загрязнение воздуха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45f07"/>
                </a:solidFill>
                <a:latin typeface="Verdana"/>
              </a:rPr>
              <a:t>Различные вещества, загрязняющие воздух, по разному влияют на состояние здоровья человека, вызывая различные болезни. Вдыхание воздуха, в котором присутствуют продукты горения ,разреженный выхлоп дизельного двигателя, даже в течение непродолжительного времени, например, увеличивают риск получить ишемическую болезнь сердца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45f07"/>
                </a:solidFill>
                <a:latin typeface="Verdana"/>
              </a:rPr>
              <a:t>Промышленные предприятия и автотранспорт выбрасывают чёрный дым и зеленовато-жёлтый диоксид, которые повышают риск ранней смерти. Даже сравнительно низкая концентрация этих веществ в атмосфере вызывают от 4 до 22 процентов смертей до сорока лет. Выхлопы автомобильного транспорта, а также выбросы предприятий, сжигающих уголь, насыщают воздух крошечными частицами загрязнений, способных вызывать повышение свёртываемости крови и образование тромбов в кровеносной системе человека. Загрязнённый воздух приводит также повышению давления. Это вызвано тем, загрязнение атмосферы приводит к изменению той части нервной системы, которая контролирует уровень кровяного давления. Из-за загрязнения воздуха в крупных городах происходит примерно пять процентов случаев госпитализаци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45f07"/>
                </a:solidFill>
                <a:latin typeface="Verdana"/>
              </a:rPr>
              <a:t>Нередко крупные промышленные города накрывает густой туман – смог. Это очень сильное загрязнение воздуха, представляющее собой густой туман с примесями дыма и газовых отходов или пелену едких газов и аэрозолей повышенной концентрации. Такое явление обычно наблюдается в безветренную погоду. Это очень большая проблема крупных городов, которая отрицательно влияет на здоровье человека. Особенно опасен смог для детей и пожилых людей с ослабленным организмом, страдающих сердечно-сосудистыми заболеваниями и заболеваниями дыхательной системы. Он может стать причиной затруднения дыхания или даже его остановкой, вызывает воспаление слизистых оболочек. Наибольшая концентрация вредных веществ в приземном воздухе наблюдается утром, в течение дня смог поднимается вверх под воздействием восходящих потоков воздуха. Напрямую связана с загрязнением воздуха бронхиальная астм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45f07"/>
                </a:solidFill>
                <a:latin typeface="Verdana"/>
              </a:rPr>
              <a:t>Очень опасным симптомом для человечества является то, что загрязнение воздуха повышает вероятность рождения детей с пороками развития. Запредельная концентрация вредных веществ в атмосфере вызывает преждевременные роды, новорождённые имеют малый вес, иногда рождаются мёртвые дети. Если беременная женщина дышит воздухом, содержащим повышенные концентрации озона и окиси углерода, особенно во второй месяц беременности, у неё в три раза повышается возможность родить ребёнка с таким пороком развития, как заячья губа, волчья пасть, дефектами сердечного клапан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  <p:sndAc>
      <p:stSnd>
        <p:snd r:embed="rId1" name="wind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r>
              <a:rPr b="1" lang="en-US" sz="3700" spc="-1" strike="noStrike">
                <a:solidFill>
                  <a:srgbClr val="ff8d3e"/>
                </a:solidFill>
                <a:latin typeface="Verdana"/>
              </a:rPr>
              <a:t>Исследова</a:t>
            </a:r>
            <a:r>
              <a:rPr b="1" lang="en-US" sz="3700" spc="-1" strike="noStrike">
                <a:solidFill>
                  <a:srgbClr val="ff8d3e"/>
                </a:solidFill>
                <a:latin typeface="Arial"/>
              </a:rPr>
              <a:t>ние</a:t>
            </a:r>
            <a:r>
              <a:rPr b="1" lang="en-US" sz="3700" spc="-1" strike="noStrike">
                <a:solidFill>
                  <a:srgbClr val="ff8d3e"/>
                </a:solidFill>
                <a:latin typeface="Verdana"/>
              </a:rPr>
              <a:t> загрязнени</a:t>
            </a:r>
            <a:r>
              <a:rPr b="1" lang="en-US" sz="3700" spc="-1" strike="noStrike">
                <a:solidFill>
                  <a:srgbClr val="ff8d3e"/>
                </a:solidFill>
                <a:latin typeface="Arial"/>
              </a:rPr>
              <a:t>я</a:t>
            </a:r>
            <a:r>
              <a:rPr b="1" lang="en-US" sz="3700" spc="-1" strike="noStrike">
                <a:solidFill>
                  <a:srgbClr val="ff8d3e"/>
                </a:solidFill>
                <a:latin typeface="Verdana"/>
              </a:rPr>
              <a:t> воздуха в микрорайоне школы.</a:t>
            </a:r>
            <a:endParaRPr b="1" lang="en-US" sz="37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042920" y="6613920"/>
            <a:ext cx="133056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9766f"/>
              </a:solidFill>
              <a:latin typeface="Arial"/>
            </a:endParaRPr>
          </a:p>
        </p:txBody>
      </p:sp>
    </p:spTree>
  </p:cSld>
  <p:transition>
    <p:wheel spokes="3"/>
    <p:sndAc>
      <p:stSnd>
        <p:snd r:embed="rId1" name="win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9680" y="642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3f04"/>
                </a:solidFill>
                <a:latin typeface="Arial"/>
              </a:rPr>
              <a:t>Основной загрязнитель воздуха автомобильный транспорт.</a:t>
            </a:r>
            <a:endParaRPr b="1" lang="en-US" sz="28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29840" y="18572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45f07"/>
                </a:solidFill>
                <a:latin typeface="Verdana"/>
              </a:rPr>
              <a:t>Все виды транспорта наносят большой ущерб биосфере, но наиболее опасен для нее автомобильный транспорт. Автомобили расходуют огромное количество топлива. А особенно быстро тают запасы нефти, её транспортировки и переработке на нефтеперерабатывающих предприятиях загрязняются почвы, воды, атмосф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45f07"/>
                </a:solidFill>
                <a:latin typeface="Verdana"/>
              </a:rPr>
              <a:t>Охрана природы -задача  нашего века, проблема, ставшая социальн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45f07"/>
                </a:solidFill>
                <a:latin typeface="Verdana"/>
              </a:rPr>
              <a:t>Наша школа проводит мониторинг автотранспортной нагрузки уже несколько лет. Мы ведем подсчеты на двух постах: пост № 1-«Деметра», пост № 2-«Торговый центр» на вокзале». Подсчет проводится в разное время суток(утром, днём, вечером) и в разные сезоны года(зима и весна) и исследуется разнообразный транспор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  <p:sndAc>
      <p:stSnd>
        <p:snd r:embed="rId1" name="wind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d3e"/>
                </a:solidFill>
                <a:latin typeface="Arial"/>
              </a:rPr>
              <a:t>Мониторинг видов автотранспортной нагрузки. Пост № 1: «Деметра».</a:t>
            </a:r>
            <a:endParaRPr b="1" lang="en-US" sz="2800" spc="-1" strike="noStrike">
              <a:solidFill>
                <a:srgbClr val="ff8d3e"/>
              </a:solidFill>
              <a:latin typeface="Arial"/>
            </a:endParaRPr>
          </a:p>
        </p:txBody>
      </p:sp>
      <p:pic>
        <p:nvPicPr>
          <p:cNvPr id="229" name="Содержимое 4" descr=""/>
          <p:cNvPicPr/>
          <p:nvPr/>
        </p:nvPicPr>
        <p:blipFill>
          <a:blip r:embed="rId1"/>
          <a:stretch/>
        </p:blipFill>
        <p:spPr>
          <a:xfrm>
            <a:off x="428760" y="1357200"/>
            <a:ext cx="8183520" cy="3786480"/>
          </a:xfrm>
          <a:prstGeom prst="rect">
            <a:avLst/>
          </a:prstGeom>
          <a:ln w="0">
            <a:noFill/>
          </a:ln>
        </p:spPr>
      </p:pic>
      <p:pic>
        <p:nvPicPr>
          <p:cNvPr id="230" name="Диаграмма 5" descr=""/>
          <p:cNvPicPr/>
          <p:nvPr/>
        </p:nvPicPr>
        <p:blipFill>
          <a:blip r:embed="rId2"/>
          <a:stretch/>
        </p:blipFill>
        <p:spPr>
          <a:xfrm>
            <a:off x="500040" y="4214880"/>
            <a:ext cx="8001000" cy="2643120"/>
          </a:xfrm>
          <a:prstGeom prst="rect">
            <a:avLst/>
          </a:prstGeom>
          <a:ln w="0">
            <a:noFill/>
          </a:ln>
        </p:spPr>
      </p:pic>
      <p:sp>
        <p:nvSpPr>
          <p:cNvPr id="231" name="TextBox 7"/>
          <p:cNvSpPr/>
          <p:nvPr/>
        </p:nvSpPr>
        <p:spPr>
          <a:xfrm>
            <a:off x="2714760" y="107172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с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8"/>
          <p:cNvSpPr/>
          <p:nvPr/>
        </p:nvSpPr>
        <p:spPr>
          <a:xfrm>
            <a:off x="3429000" y="3929040"/>
            <a:ext cx="15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  <p:sndAc>
      <p:stSnd>
        <p:snd r:embed="rId3" name="wind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18352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d3e"/>
                </a:solidFill>
                <a:latin typeface="Arial"/>
              </a:rPr>
              <a:t>Мониторинг видов автотранспортной нагрузки. Пост № 2: «Торговый центр».</a:t>
            </a:r>
            <a:endParaRPr b="1" lang="en-US" sz="2800" spc="-1" strike="noStrike">
              <a:solidFill>
                <a:srgbClr val="ff8d3e"/>
              </a:solidFill>
              <a:latin typeface="Arial"/>
            </a:endParaRPr>
          </a:p>
        </p:txBody>
      </p:sp>
      <p:pic>
        <p:nvPicPr>
          <p:cNvPr id="234" name="Содержимое 4" descr=""/>
          <p:cNvPicPr/>
          <p:nvPr/>
        </p:nvPicPr>
        <p:blipFill>
          <a:blip r:embed="rId1"/>
          <a:stretch/>
        </p:blipFill>
        <p:spPr>
          <a:xfrm>
            <a:off x="285840" y="1571760"/>
            <a:ext cx="8183520" cy="2112840"/>
          </a:xfrm>
          <a:prstGeom prst="rect">
            <a:avLst/>
          </a:prstGeom>
          <a:ln w="0">
            <a:noFill/>
          </a:ln>
        </p:spPr>
      </p:pic>
      <p:pic>
        <p:nvPicPr>
          <p:cNvPr id="235" name="Диаграмма 5" descr=""/>
          <p:cNvPicPr/>
          <p:nvPr/>
        </p:nvPicPr>
        <p:blipFill>
          <a:blip r:embed="rId2"/>
          <a:stretch/>
        </p:blipFill>
        <p:spPr>
          <a:xfrm>
            <a:off x="500040" y="4095720"/>
            <a:ext cx="8286840" cy="2762280"/>
          </a:xfrm>
          <a:prstGeom prst="rect">
            <a:avLst/>
          </a:prstGeom>
          <a:ln w="0">
            <a:noFill/>
          </a:ln>
        </p:spPr>
      </p:pic>
      <p:sp>
        <p:nvSpPr>
          <p:cNvPr id="236" name="TextBox 6"/>
          <p:cNvSpPr/>
          <p:nvPr/>
        </p:nvSpPr>
        <p:spPr>
          <a:xfrm>
            <a:off x="3357720" y="1285920"/>
            <a:ext cx="24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7"/>
          <p:cNvSpPr/>
          <p:nvPr/>
        </p:nvSpPr>
        <p:spPr>
          <a:xfrm>
            <a:off x="3286080" y="371484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с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  <p:sndAc>
      <p:stSnd>
        <p:snd r:embed="rId3" name="wind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183520" cy="6760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922d"/>
                </a:solidFill>
                <a:latin typeface="Arial"/>
              </a:rPr>
              <a:t>Зависимость автотранспортной нагрузки Пост №3: Школа №6</a:t>
            </a:r>
            <a:endParaRPr b="1" lang="en-US" sz="3200" spc="-1" strike="noStrike">
              <a:solidFill>
                <a:srgbClr val="ff8d3e"/>
              </a:solidFill>
              <a:latin typeface="Arial"/>
            </a:endParaRPr>
          </a:p>
        </p:txBody>
      </p:sp>
      <p:pic>
        <p:nvPicPr>
          <p:cNvPr id="239" name="Диаграмма 3" descr=""/>
          <p:cNvPicPr/>
          <p:nvPr/>
        </p:nvPicPr>
        <p:blipFill>
          <a:blip r:embed="rId1"/>
          <a:stretch/>
        </p:blipFill>
        <p:spPr>
          <a:xfrm>
            <a:off x="285840" y="1571760"/>
            <a:ext cx="8286840" cy="2214360"/>
          </a:xfrm>
          <a:prstGeom prst="rect">
            <a:avLst/>
          </a:prstGeom>
          <a:ln w="0">
            <a:noFill/>
          </a:ln>
        </p:spPr>
      </p:pic>
      <p:pic>
        <p:nvPicPr>
          <p:cNvPr id="240" name="Диаграмма 4" descr=""/>
          <p:cNvPicPr/>
          <p:nvPr/>
        </p:nvPicPr>
        <p:blipFill>
          <a:blip r:embed="rId2"/>
          <a:stretch/>
        </p:blipFill>
        <p:spPr>
          <a:xfrm>
            <a:off x="0" y="4429080"/>
            <a:ext cx="8358120" cy="2428920"/>
          </a:xfrm>
          <a:prstGeom prst="rect">
            <a:avLst/>
          </a:prstGeom>
          <a:ln w="0">
            <a:noFill/>
          </a:ln>
        </p:spPr>
      </p:pic>
      <p:sp>
        <p:nvSpPr>
          <p:cNvPr id="241" name="TextBox 5"/>
          <p:cNvSpPr/>
          <p:nvPr/>
        </p:nvSpPr>
        <p:spPr>
          <a:xfrm>
            <a:off x="3571920" y="128592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с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6"/>
          <p:cNvSpPr/>
          <p:nvPr/>
        </p:nvSpPr>
        <p:spPr>
          <a:xfrm>
            <a:off x="3576240" y="4000680"/>
            <a:ext cx="7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  <p:sndAc>
      <p:stSnd>
        <p:snd r:embed="rId3" name="wind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4T05:43:29Z</dcterms:created>
  <dc:creator>Ольга</dc:creator>
  <dc:description/>
  <dc:language>en-US</dc:language>
  <cp:lastModifiedBy>Максимов Евгений Эдуардович</cp:lastModifiedBy>
  <dcterms:modified xsi:type="dcterms:W3CDTF">1999-12-31T22:02:36Z</dcterms:modified>
  <cp:revision>65</cp:revision>
  <dc:subject/>
  <dc:title>Конкурс «Свидетели» Исследовательский проект «Чистый воздух»</dc:title>
</cp:coreProperties>
</file>