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766-F054-428A-BE3F-1DC2145F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715-134A-40B8-B7C8-64D49407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6FA-EB8B-4738-9207-7323E61C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60F4-314A-4F47-8DF1-DDD7D9F1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401-76AA-47F8-BCEF-71DFB00C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8D7-3EDC-4892-A02F-165B6B68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3E7-6FB7-4EBE-8725-3CF6021A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09B-CD5A-42DD-84DD-17FF1A58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C75-7335-4A63-8D67-43898F45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4D9-3F4C-4142-8B0E-A74875A5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ABF-26AC-4BEC-9044-802F7879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D67-A62D-4F9C-B25E-D30E29AA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F25A-7C19-484B-A434-A63A321104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DE2A-8C62-4FFC-86FD-8E5C56E49A9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042920" y="692280"/>
            <a:ext cx="7058160" cy="50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менения </a:t>
            </a:r>
            <a:endParaRPr b="0" lang="en-US" sz="4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политической </a:t>
            </a:r>
            <a:endParaRPr b="0" lang="en-US" sz="4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стеме в</a:t>
            </a:r>
            <a:endParaRPr b="0" lang="en-US" sz="4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4400" spc="1" strike="noStrike">
                <a:ln w="0">
                  <a:noFill/>
                </a:ln>
                <a:solidFill>
                  <a:srgbClr val="00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53-1964гг.</a:t>
            </a:r>
            <a:endParaRPr b="0" lang="en-US" sz="4400" spc="1" strike="noStrike">
              <a:ln w="0">
                <a:noFill/>
              </a:ln>
              <a:solidFill>
                <a:srgbClr val="00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530028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5 марта 1953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294"/>
          <p:cNvPicPr/>
          <p:nvPr/>
        </p:nvPicPr>
        <p:blipFill>
          <a:blip r:embed="rId1"/>
          <a:stretch/>
        </p:blipFill>
        <p:spPr>
          <a:xfrm>
            <a:off x="826920" y="260280"/>
            <a:ext cx="3441960" cy="51134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4289400" y="836640"/>
            <a:ext cx="444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Можем ли 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утверждат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что сталиниз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умер вмес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со Сталины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5300280"/>
            <a:ext cx="45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5 марта 1953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294"/>
          <p:cNvPicPr/>
          <p:nvPr/>
        </p:nvPicPr>
        <p:blipFill>
          <a:blip r:embed="rId1"/>
          <a:stretch/>
        </p:blipFill>
        <p:spPr>
          <a:xfrm>
            <a:off x="826920" y="260280"/>
            <a:ext cx="3441960" cy="5113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289400" y="836640"/>
            <a:ext cx="444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Можем ли 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утверждат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что сталиниз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умер вмест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со Сталиным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аследники Ста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аленков Г.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Берия Л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Хрущев Н.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Булганин Н.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Каганович Л.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Ворошилов К.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олотов В.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294"/>
          <p:cNvPicPr/>
          <p:nvPr/>
        </p:nvPicPr>
        <p:blipFill>
          <a:blip r:embed="rId1"/>
          <a:stretch/>
        </p:blipFill>
        <p:spPr>
          <a:xfrm>
            <a:off x="250920" y="1557360"/>
            <a:ext cx="2911320" cy="432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Георгий Максимилианович Маленков"/>
          <p:cNvPicPr/>
          <p:nvPr/>
        </p:nvPicPr>
        <p:blipFill>
          <a:blip r:embed="rId2"/>
          <a:stretch/>
        </p:blipFill>
        <p:spPr>
          <a:xfrm>
            <a:off x="4427640" y="3860640"/>
            <a:ext cx="190332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9"/>
          <p:cNvSpPr/>
          <p:nvPr/>
        </p:nvSpPr>
        <p:spPr>
          <a:xfrm>
            <a:off x="3995640" y="6093000"/>
            <a:ext cx="294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Маленков Г.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0" descr=" (308x420, 11Kb)"/>
          <p:cNvPicPr/>
          <p:nvPr/>
        </p:nvPicPr>
        <p:blipFill>
          <a:blip r:embed="rId3"/>
          <a:stretch/>
        </p:blipFill>
        <p:spPr>
          <a:xfrm>
            <a:off x="4427640" y="0"/>
            <a:ext cx="1847880" cy="2521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1"/>
          <p:cNvSpPr/>
          <p:nvPr/>
        </p:nvSpPr>
        <p:spPr>
          <a:xfrm>
            <a:off x="4357080" y="2492280"/>
            <a:ext cx="224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Берия Л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3" descr="khrushchev-1"/>
          <p:cNvPicPr/>
          <p:nvPr/>
        </p:nvPicPr>
        <p:blipFill>
          <a:blip r:embed="rId4"/>
          <a:stretch/>
        </p:blipFill>
        <p:spPr>
          <a:xfrm>
            <a:off x="6877080" y="1844640"/>
            <a:ext cx="209700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4"/>
          <p:cNvSpPr/>
          <p:nvPr/>
        </p:nvSpPr>
        <p:spPr>
          <a:xfrm>
            <a:off x="6516720" y="417528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Хрущев Н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5"/>
          <p:cNvSpPr/>
          <p:nvPr/>
        </p:nvSpPr>
        <p:spPr>
          <a:xfrm flipV="1">
            <a:off x="3203640" y="1773360"/>
            <a:ext cx="1081080" cy="18000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6"/>
          <p:cNvSpPr/>
          <p:nvPr/>
        </p:nvSpPr>
        <p:spPr>
          <a:xfrm>
            <a:off x="3203640" y="3573360"/>
            <a:ext cx="1152360" cy="136836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7"/>
          <p:cNvSpPr/>
          <p:nvPr/>
        </p:nvSpPr>
        <p:spPr>
          <a:xfrm flipV="1">
            <a:off x="3203640" y="3357360"/>
            <a:ext cx="3529080" cy="21564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Берия Л.П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Критика культа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Отказ от репресси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амнис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Раздел функций партии и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Материальное стимулирование колхоз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Налаживание отношений с Запа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 (308x420, 11Kb)"/>
          <p:cNvPicPr/>
          <p:nvPr/>
        </p:nvPicPr>
        <p:blipFill>
          <a:blip r:embed="rId1"/>
          <a:stretch/>
        </p:blipFill>
        <p:spPr>
          <a:xfrm>
            <a:off x="7359480" y="0"/>
            <a:ext cx="17845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856720" cy="71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Маленков Г.М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Обновление государс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венного  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2) Критика культа лич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3) Экономическое стимулирование колхоз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4) Развитие легкой и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5) Разрядка в отношениях с Запа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Георгий Максимилианович Маленков"/>
          <p:cNvPicPr/>
          <p:nvPr/>
        </p:nvPicPr>
        <p:blipFill>
          <a:blip r:embed="rId1"/>
          <a:stretch/>
        </p:blipFill>
        <p:spPr>
          <a:xfrm>
            <a:off x="7203960" y="0"/>
            <a:ext cx="1940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4560" y="214200"/>
            <a:ext cx="91090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                      </a:t>
            </a: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Хрущев Н.С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Критика культа лич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Омоложение  партийного аппа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Реабилитация репрессиров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Демократизация в парт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Развитие тяжелой промышленности в 1-ю очер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10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«Оттепель» в международных отноше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khrushchev-1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Альтернативы развития </a:t>
            </a:r>
            <a:br>
              <a:rPr sz="4800"/>
            </a:b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ССС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7080" y="2492280"/>
            <a:ext cx="24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Бе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332000" y="1557360"/>
            <a:ext cx="3024000" cy="11509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4356000" y="1557360"/>
            <a:ext cx="0" cy="86508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4356000" y="1557360"/>
            <a:ext cx="3311640" cy="1008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1476360" y="3284640"/>
            <a:ext cx="0" cy="208908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51640" y="5445000"/>
            <a:ext cx="330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Демокра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058920" y="2492280"/>
            <a:ext cx="27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але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444720" y="2492280"/>
            <a:ext cx="22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Хрущ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4427640" y="3284640"/>
            <a:ext cx="0" cy="1224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51640" y="3284640"/>
            <a:ext cx="0" cy="122400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 rot="5400000">
            <a:off x="5759280" y="2889000"/>
            <a:ext cx="360360" cy="3744720"/>
          </a:xfrm>
          <a:custGeom>
            <a:avLst/>
            <a:gdLst>
              <a:gd name="textAreaLeft" fmla="*/ 0 w 360360"/>
              <a:gd name="textAreaRight" fmla="*/ 129960 w 36036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4860000" y="5084640"/>
            <a:ext cx="409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Авторитар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реж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Этапы борьбы за вл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этап </a:t>
            </a:r>
            <a:r>
              <a:rPr b="0" lang="ru-RU" sz="4800" spc="-1" strike="noStrike">
                <a:solidFill>
                  <a:srgbClr val="003399"/>
                </a:solidFill>
                <a:latin typeface="Arial"/>
              </a:rPr>
              <a:t>– март-июнь 1953г.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Бер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 u="sng">
                <a:solidFill>
                  <a:srgbClr val="003399"/>
                </a:solidFill>
                <a:uFillTx/>
                <a:latin typeface="Arial"/>
              </a:rPr>
              <a:t>Хрущев, Мален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I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этап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– лето 1953г.-февр. 1955г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Маленков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X </a:t>
            </a:r>
            <a:r>
              <a:rPr b="0" lang="ru-RU" sz="4400" spc="-1" strike="noStrike" u="sng">
                <a:solidFill>
                  <a:srgbClr val="003399"/>
                </a:solidFill>
                <a:uFillTx/>
                <a:latin typeface="Arial"/>
              </a:rPr>
              <a:t>Хрущ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III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этап</a:t>
            </a: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-февр. 1955г – март 1958г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99"/>
                </a:solidFill>
                <a:latin typeface="Arial"/>
              </a:rPr>
              <a:t>«Антипартийная групп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6400440" y="5950080"/>
            <a:ext cx="274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X </a:t>
            </a:r>
            <a:r>
              <a:rPr b="0" lang="ru-RU" sz="4400" spc="-1" strike="noStrike" u="sng">
                <a:solidFill>
                  <a:srgbClr val="003399"/>
                </a:solidFill>
                <a:uFillTx/>
                <a:latin typeface="Arial"/>
              </a:rPr>
              <a:t>Хрущ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0:11:08Z</dcterms:created>
  <dc:creator>uchenik_1</dc:creator>
  <dc:description/>
  <dc:language>en-US</dc:language>
  <cp:lastModifiedBy>1</cp:lastModifiedBy>
  <dcterms:modified xsi:type="dcterms:W3CDTF">2011-11-05T05:57:50Z</dcterms:modified>
  <cp:revision>5</cp:revision>
  <dc:subject/>
  <dc:title>Слайд 1</dc:title>
</cp:coreProperties>
</file>