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02B6-E6A3-43A7-A7CE-BF798516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825D-E5EB-4003-8FF5-FFEFC374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F83E-19A3-4759-A0D3-CF951EE5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A113-7D19-44D6-A7E9-F14F41ED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62C5-3205-44A4-BABF-82FB5F2B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BE56-A228-4496-9912-8B513BD3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529A-7E4D-46E7-B39D-9C5413FF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41B4-780E-444B-825E-5146ED1F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351A-B3D1-40B4-AA0E-FA8DB902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360F-FCB4-4A25-A8B7-828E2CB1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BE97-63E7-468E-8F36-A3CCF224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B9E8-7B26-4BEA-A966-E692693D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12E0-91A6-4E14-A92A-D83DDB6263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A320-F62A-46E4-A059-302DAA6E8EB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042920" y="692280"/>
            <a:ext cx="7058160" cy="50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менения </a:t>
            </a:r>
            <a:endParaRPr b="0" lang="en-US" sz="4400" spc="1" strike="noStrike">
              <a:ln w="0">
                <a:noFill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политической </a:t>
            </a:r>
            <a:endParaRPr b="0" lang="en-US" sz="4400" spc="1" strike="noStrike">
              <a:ln w="0">
                <a:noFill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стеме в</a:t>
            </a:r>
            <a:endParaRPr b="0" lang="en-US" sz="4400" spc="1" strike="noStrike">
              <a:ln w="0">
                <a:noFill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4400" spc="1" strike="noStrike">
                <a:ln w="0">
                  <a:noFill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953-1964гг.</a:t>
            </a:r>
            <a:endParaRPr b="0" lang="en-US" sz="4400" spc="1" strike="noStrike">
              <a:ln w="0">
                <a:noFill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8920" y="5300280"/>
            <a:ext cx="45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5 марта 1953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294"/>
          <p:cNvPicPr/>
          <p:nvPr/>
        </p:nvPicPr>
        <p:blipFill>
          <a:blip r:embed="rId1"/>
          <a:stretch/>
        </p:blipFill>
        <p:spPr>
          <a:xfrm>
            <a:off x="826920" y="260280"/>
            <a:ext cx="3441960" cy="51134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4289400" y="836640"/>
            <a:ext cx="4447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99"/>
                </a:solidFill>
                <a:latin typeface="Arial"/>
              </a:rPr>
              <a:t>Можем ли 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3399"/>
                </a:solidFill>
                <a:latin typeface="Arial"/>
              </a:rPr>
              <a:t>утверждать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99"/>
                </a:solidFill>
                <a:latin typeface="Arial"/>
              </a:rPr>
              <a:t>что сталиниз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99"/>
                </a:solidFill>
                <a:latin typeface="Arial"/>
              </a:rPr>
              <a:t>умер вмест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3399"/>
                </a:solidFill>
                <a:latin typeface="Arial"/>
              </a:rPr>
              <a:t>со Сталины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5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5300280"/>
            <a:ext cx="45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5 марта 1953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294"/>
          <p:cNvPicPr/>
          <p:nvPr/>
        </p:nvPicPr>
        <p:blipFill>
          <a:blip r:embed="rId1"/>
          <a:stretch/>
        </p:blipFill>
        <p:spPr>
          <a:xfrm>
            <a:off x="826920" y="260280"/>
            <a:ext cx="3441960" cy="51134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4289400" y="836640"/>
            <a:ext cx="4447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99"/>
                </a:solidFill>
                <a:latin typeface="Arial"/>
              </a:rPr>
              <a:t>Можем ли 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3399"/>
                </a:solidFill>
                <a:latin typeface="Arial"/>
              </a:rPr>
              <a:t>утверждать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99"/>
                </a:solidFill>
                <a:latin typeface="Arial"/>
              </a:rPr>
              <a:t>что сталиниз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99"/>
                </a:solidFill>
                <a:latin typeface="Arial"/>
              </a:rPr>
              <a:t>умер вмест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3399"/>
                </a:solidFill>
                <a:latin typeface="Arial"/>
              </a:rPr>
              <a:t>со Сталины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Наследники Ста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Маленков Г.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Берия Л.П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Хрущев Н.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Булганин Н.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Каганович Л.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Ворошилов К.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Молотов В.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294"/>
          <p:cNvPicPr/>
          <p:nvPr/>
        </p:nvPicPr>
        <p:blipFill>
          <a:blip r:embed="rId1"/>
          <a:stretch/>
        </p:blipFill>
        <p:spPr>
          <a:xfrm>
            <a:off x="250920" y="1557360"/>
            <a:ext cx="2911320" cy="4321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Георгий Максимилианович Маленков"/>
          <p:cNvPicPr/>
          <p:nvPr/>
        </p:nvPicPr>
        <p:blipFill>
          <a:blip r:embed="rId2"/>
          <a:stretch/>
        </p:blipFill>
        <p:spPr>
          <a:xfrm>
            <a:off x="4427640" y="3860640"/>
            <a:ext cx="1903320" cy="2305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9"/>
          <p:cNvSpPr/>
          <p:nvPr/>
        </p:nvSpPr>
        <p:spPr>
          <a:xfrm>
            <a:off x="3995640" y="6093000"/>
            <a:ext cx="29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Маленков Г.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0" descr=" (308x420, 11Kb)"/>
          <p:cNvPicPr/>
          <p:nvPr/>
        </p:nvPicPr>
        <p:blipFill>
          <a:blip r:embed="rId3"/>
          <a:stretch/>
        </p:blipFill>
        <p:spPr>
          <a:xfrm>
            <a:off x="4427640" y="0"/>
            <a:ext cx="1847880" cy="25210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1"/>
          <p:cNvSpPr/>
          <p:nvPr/>
        </p:nvSpPr>
        <p:spPr>
          <a:xfrm>
            <a:off x="4357080" y="2492280"/>
            <a:ext cx="22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Берия Л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3" descr="khrushchev-1"/>
          <p:cNvPicPr/>
          <p:nvPr/>
        </p:nvPicPr>
        <p:blipFill>
          <a:blip r:embed="rId4"/>
          <a:stretch/>
        </p:blipFill>
        <p:spPr>
          <a:xfrm>
            <a:off x="6877080" y="1844640"/>
            <a:ext cx="2097000" cy="2376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4"/>
          <p:cNvSpPr/>
          <p:nvPr/>
        </p:nvSpPr>
        <p:spPr>
          <a:xfrm>
            <a:off x="6516720" y="417528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Хрущев Н.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5"/>
          <p:cNvSpPr/>
          <p:nvPr/>
        </p:nvSpPr>
        <p:spPr>
          <a:xfrm flipV="1">
            <a:off x="3203640" y="1773360"/>
            <a:ext cx="1081080" cy="180000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6"/>
          <p:cNvSpPr/>
          <p:nvPr/>
        </p:nvSpPr>
        <p:spPr>
          <a:xfrm>
            <a:off x="3203640" y="3573360"/>
            <a:ext cx="1152360" cy="136836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7"/>
          <p:cNvSpPr/>
          <p:nvPr/>
        </p:nvSpPr>
        <p:spPr>
          <a:xfrm flipV="1">
            <a:off x="3203640" y="3357360"/>
            <a:ext cx="3529080" cy="21564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4000" spc="-1" strike="noStrike" u="sng">
                <a:solidFill>
                  <a:srgbClr val="ff0066"/>
                </a:solidFill>
                <a:uFillTx/>
                <a:latin typeface="Arial"/>
              </a:rPr>
              <a:t>Берия Л.П.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Критика культа лич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Отказ от репресси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амнис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Раздел функций партии и государ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Материальное стимулирование колхоз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Налаживание отношений с Запад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 (308x420, 11Kb)"/>
          <p:cNvPicPr/>
          <p:nvPr/>
        </p:nvPicPr>
        <p:blipFill>
          <a:blip r:embed="rId1"/>
          <a:stretch/>
        </p:blipFill>
        <p:spPr>
          <a:xfrm>
            <a:off x="7359480" y="0"/>
            <a:ext cx="17845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856720" cy="710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                   </a:t>
            </a:r>
            <a:r>
              <a:rPr b="0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Маленков Г.М.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Обновление государст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венного   аппар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2) Критика культа лич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3) Экономическое стимулирование колхоз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4) Развитие легкой и пищевой промышл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5) Разрядка в отношениях с Запа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Георгий Максимилианович Маленков"/>
          <p:cNvPicPr/>
          <p:nvPr/>
        </p:nvPicPr>
        <p:blipFill>
          <a:blip r:embed="rId1"/>
          <a:stretch/>
        </p:blipFill>
        <p:spPr>
          <a:xfrm>
            <a:off x="7203960" y="0"/>
            <a:ext cx="19400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4560" y="214200"/>
            <a:ext cx="91090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                      </a:t>
            </a:r>
            <a:r>
              <a:rPr b="0" lang="ru-RU" sz="4000" spc="-1" strike="noStrike" u="sng">
                <a:solidFill>
                  <a:srgbClr val="ff0066"/>
                </a:solidFill>
                <a:uFillTx/>
                <a:latin typeface="Arial"/>
              </a:rPr>
              <a:t>Хрущев Н.С.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</a:rPr>
              <a:t>Критика культа лич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</a:rPr>
              <a:t>Омоложение  партийного аппар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</a:rPr>
              <a:t>Реабилитация репрессиров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</a:rPr>
              <a:t>Демократизация в парт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</a:rPr>
              <a:t>Развитие тяжелой промышленности в 1-ю очере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</a:rPr>
              <a:t>«Оттепель» в международных отноше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khrushchev-1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Альтернативы развития </a:t>
            </a:r>
            <a:br>
              <a:rPr sz="4800"/>
            </a:b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ССС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27080" y="2492280"/>
            <a:ext cx="247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Бе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1332000" y="1557360"/>
            <a:ext cx="3024000" cy="115092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4356000" y="1557360"/>
            <a:ext cx="0" cy="86508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4356000" y="1557360"/>
            <a:ext cx="3311640" cy="100800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>
            <a:off x="1476360" y="3284640"/>
            <a:ext cx="0" cy="208908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51640" y="5445000"/>
            <a:ext cx="330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Демокра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3058920" y="2492280"/>
            <a:ext cx="27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Мален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444720" y="2492280"/>
            <a:ext cx="221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Хрущ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>
            <a:off x="4427640" y="3284640"/>
            <a:ext cx="0" cy="122400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7451640" y="3284640"/>
            <a:ext cx="0" cy="122400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5"/>
          <p:cNvSpPr/>
          <p:nvPr/>
        </p:nvSpPr>
        <p:spPr>
          <a:xfrm rot="5400000">
            <a:off x="5759280" y="2889000"/>
            <a:ext cx="360360" cy="3744720"/>
          </a:xfrm>
          <a:custGeom>
            <a:avLst/>
            <a:gdLst>
              <a:gd name="textAreaLeft" fmla="*/ 0 w 360360"/>
              <a:gd name="textAreaRight" fmla="*/ 129960 w 360360"/>
              <a:gd name="textAreaTop" fmla="*/ 97560 h 3744720"/>
              <a:gd name="textAreaBottom" fmla="*/ 3647160 h 37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4860000" y="5084640"/>
            <a:ext cx="409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Авторитарны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реж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Этапы борьбы за вла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I</a:t>
            </a:r>
            <a:r>
              <a:rPr b="0" lang="ru-RU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этап </a:t>
            </a:r>
            <a:r>
              <a:rPr b="0" lang="ru-RU" sz="4800" spc="-1" strike="noStrike">
                <a:solidFill>
                  <a:srgbClr val="003399"/>
                </a:solidFill>
                <a:latin typeface="Arial"/>
              </a:rPr>
              <a:t>– март-июнь 1953г.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Бер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 u="sng">
                <a:solidFill>
                  <a:srgbClr val="003399"/>
                </a:solidFill>
                <a:uFillTx/>
                <a:latin typeface="Arial"/>
              </a:rPr>
              <a:t>Хрущев, Мален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II </a:t>
            </a: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этап </a:t>
            </a: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– лето 1953г.-февр. 1955г.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Маленков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X </a:t>
            </a:r>
            <a:r>
              <a:rPr b="0" lang="ru-RU" sz="4400" spc="-1" strike="noStrike" u="sng">
                <a:solidFill>
                  <a:srgbClr val="003399"/>
                </a:solidFill>
                <a:uFillTx/>
                <a:latin typeface="Arial"/>
              </a:rPr>
              <a:t>Хрущ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III </a:t>
            </a: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этап</a:t>
            </a: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-февр. 1955г – март 1958г.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«Антипартийная групп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6400440" y="5950080"/>
            <a:ext cx="274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X </a:t>
            </a:r>
            <a:r>
              <a:rPr b="0" lang="ru-RU" sz="4400" spc="-1" strike="noStrike" u="sng">
                <a:solidFill>
                  <a:srgbClr val="003399"/>
                </a:solidFill>
                <a:uFillTx/>
                <a:latin typeface="Arial"/>
              </a:rPr>
              <a:t>Хрущ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00:11:08Z</dcterms:created>
  <dc:creator>uchenik_1</dc:creator>
  <dc:description/>
  <dc:language>en-US</dc:language>
  <cp:lastModifiedBy>1</cp:lastModifiedBy>
  <dcterms:modified xsi:type="dcterms:W3CDTF">2011-11-05T05:57:50Z</dcterms:modified>
  <cp:revision>5</cp:revision>
  <dc:subject/>
  <dc:title>Слайд 1</dc:title>
</cp:coreProperties>
</file>