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20.gif" ContentType="image/gif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png" ContentType="image/png"/>
  <Override PartName="/ppt/media/image16.jpeg" ContentType="image/jpeg"/>
  <Override PartName="/ppt/media/image17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2EFE-0075-48C3-9E51-7C8F4173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EB8B-5A06-4900-B4E5-996260C2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556E-2170-44A6-9431-434ADEF8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9333-CDBE-4320-ACE1-6BD51C98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6C0-C9F9-4209-9F64-CD7EA003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93C-869A-44E8-8B5C-2708F28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A06E-9A04-415F-972D-279939C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93F7-34BC-429B-A4F2-993BF67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E2F3-636A-4185-BEE9-650B2263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76BD-C9F2-461F-99C0-120B836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D7C-A835-4174-93EF-A5DADA5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9FB0-B74D-4B96-A1A1-7F1C13D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865B-348D-40C5-B67A-9DD7399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73C0-7784-4695-B0ED-168C8D8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21C3-C13A-4AB2-93BF-B409E91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AD8-604B-4571-8447-17181B4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B1B-18A0-460F-9490-39CE247E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B443-EA96-41F0-814A-78098AE4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6703-8EB9-4524-A9A2-432E3EE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418E-CB32-4B7F-95A1-CD4FE8E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1CAE-4AC9-4C51-9731-B3E6FCF2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972F-6216-4ABB-A847-3840C03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B815-78F1-4502-B605-6B39490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4AD4-5130-4DCB-8EA8-02CE50B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198B-B381-48C0-A17A-CB500127B5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1124-B67B-4510-8B26-50FDA2AC56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Kepler_Statue_Linz.jpg&amp;filetimestamp=20081228180907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Garamond"/>
              </a:rPr>
              <a:t>Иоганн Кеплер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kepler"/>
          <p:cNvPicPr/>
          <p:nvPr/>
        </p:nvPicPr>
        <p:blipFill>
          <a:blip r:embed="rId1"/>
          <a:stretch/>
        </p:blipFill>
        <p:spPr>
          <a:xfrm>
            <a:off x="990720" y="1981080"/>
            <a:ext cx="296064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57200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Великий немецкий астроном и математ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648320" y="4343400"/>
            <a:ext cx="39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Годы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27 декабря 1571 года – 15 ноября 16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80880" y="114336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н женился в 26 лет по любви, но жена заставила его предъявить унизительно доказательство «благородства» своего происхождения, и он, сгорая от любви и стыда, мчался в Вюртемберг за наследными справка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4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торой его брак не назовешь счастливым. Как привидение, преследует его неотступно мысль о деньгах. «Касса пуста, и жалованья не дают»,— писал он. А через год: «Я теряю время при дверях казначейства, напрасно стою перед ними, как нищий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ANd9GcQUOSFMbkR4s74Fu4BbCI9uCRI3mQ254_o0ete00GL6LrNjva48YQ"/>
          <p:cNvPicPr/>
          <p:nvPr/>
        </p:nvPicPr>
        <p:blipFill>
          <a:blip r:embed="rId1"/>
          <a:stretch/>
        </p:blipFill>
        <p:spPr>
          <a:xfrm>
            <a:off x="4952880" y="1371600"/>
            <a:ext cx="37339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352680" y="76212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 1597 году Кеплер женится на вдове Барбаре Мюллер фон Мулек. Их первые двое детей умирают во младенчестве, а жена заболевает эпилепсией. В довершение невзгод начинаются гонения на протестантов. Кеплер занесён в список изгоняемых «еретиков» и вынужден покинуть город. В 1600 г. он приехал в Прагу к знаменитому астроному Т. Браге, после смерти которого получил материалы его многочисленных наблюдени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9596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220px-Barbara_Müller_and_Johannes_Kepler"/>
          <p:cNvPicPr/>
          <p:nvPr/>
        </p:nvPicPr>
        <p:blipFill>
          <a:blip r:embed="rId1"/>
          <a:stretch/>
        </p:blipFill>
        <p:spPr>
          <a:xfrm>
            <a:off x="228600" y="304920"/>
            <a:ext cx="4648320" cy="4192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59360" y="5181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Барбара  Мюллер фон Мул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755000" y="56386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Иоганн Кепл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76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В 1600 году Кеплер прибывает в Прагу. Проведённые здесь 10 лет — самый плодотворный период его жиз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9" descr="220px-Karlova_str_No4%2C_Prague_Old_Town"/>
          <p:cNvPicPr/>
          <p:nvPr/>
        </p:nvPicPr>
        <p:blipFill>
          <a:blip r:embed="rId1"/>
          <a:stretch/>
        </p:blipFill>
        <p:spPr>
          <a:xfrm>
            <a:off x="5867280" y="914400"/>
            <a:ext cx="2894040" cy="4143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5791320" y="5105520"/>
            <a:ext cx="28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Дом Кеплера в Праге (Старе Место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, Карлова ул, 4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286000" y="228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Жизнь в Пра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19520" y="228600"/>
            <a:ext cx="5867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Будучи великолепным наблюдателем, Тихо Браге за много лет составил объёмный труд по наблюдению планет и сотен звёзд, причём точность его измерений была существенно выше, чем у всех предшествен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2" descr="Tycho_Brahe"/>
          <p:cNvPicPr/>
          <p:nvPr/>
        </p:nvPicPr>
        <p:blipFill>
          <a:blip r:embed="rId1"/>
          <a:stretch/>
        </p:blipFill>
        <p:spPr>
          <a:xfrm>
            <a:off x="228600" y="22860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728px-Brahe_kepler"/>
          <p:cNvPicPr/>
          <p:nvPr/>
        </p:nvPicPr>
        <p:blipFill>
          <a:blip r:embed="rId2"/>
          <a:stretch/>
        </p:blipFill>
        <p:spPr>
          <a:xfrm>
            <a:off x="5486400" y="2819520"/>
            <a:ext cx="3352680" cy="3033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4"/>
          <p:cNvSpPr/>
          <p:nvPr/>
        </p:nvSpPr>
        <p:spPr>
          <a:xfrm>
            <a:off x="152280" y="3962520"/>
            <a:ext cx="55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протяжении нескольких лет Кеплер внимательно изучает данные Браг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Garamond"/>
              </a:rPr>
              <a:t>С древнейших времен считалось,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Garamond"/>
              </a:rPr>
              <a:t>что небесные тела движутся по «идеальным кривым» - окружностям</a:t>
            </a: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2000" y="601992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1191"/>
          <p:cNvPicPr/>
          <p:nvPr/>
        </p:nvPicPr>
        <p:blipFill>
          <a:blip r:embed="rId1"/>
          <a:stretch/>
        </p:blipFill>
        <p:spPr>
          <a:xfrm>
            <a:off x="5029200" y="21337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52280" y="579132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6" descr="slide0016_image006"/>
          <p:cNvPicPr/>
          <p:nvPr/>
        </p:nvPicPr>
        <p:blipFill>
          <a:blip r:embed="rId2"/>
          <a:stretch/>
        </p:blipFill>
        <p:spPr>
          <a:xfrm>
            <a:off x="685800" y="2057400"/>
            <a:ext cx="30542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теории Николая Коперника, создателя гелиоцентрической системы мира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круговое движение также не подвергалось сомнению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(1473–1543)</a:t>
            </a: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211640" y="573408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Каждая планета движется по эллипсу, </a:t>
            </a:r>
            <a:br>
              <a:rPr sz="2800"/>
            </a:b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в одном из фокусов которого находится Солнце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ервый закон Кеплер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28800" y="5943600"/>
            <a:ext cx="56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а примере движения спутников Земли</a:t>
            </a: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4532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28600" y="198072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Радиус-вектор планеты за равные промежутки времени</a:t>
            </a:r>
            <a:br>
              <a:rPr sz="2800"/>
            </a:b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 описывает равные площади.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Второй закон Кеплера (закон равных площадей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1344"/>
          <p:cNvPicPr/>
          <p:nvPr/>
        </p:nvPicPr>
        <p:blipFill>
          <a:blip r:embed="rId1"/>
          <a:stretch/>
        </p:blipFill>
        <p:spPr>
          <a:xfrm>
            <a:off x="1600200" y="2666880"/>
            <a:ext cx="5759280" cy="3167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447920" y="5943600"/>
            <a:ext cx="56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а примере движения спутника Земл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Оба закона были сформулированы Кеплером в 1609 году в книге «Новая астроном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s16"/>
          <p:cNvPicPr/>
          <p:nvPr/>
        </p:nvPicPr>
        <p:blipFill>
          <a:blip r:embed="rId1"/>
          <a:stretch/>
        </p:blipFill>
        <p:spPr>
          <a:xfrm>
            <a:off x="5261040" y="685800"/>
            <a:ext cx="3575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aramond"/>
              </a:rPr>
              <a:t>В 1610 году Галилей сообщает Кеплеру об открытии спутников Юпи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250px-Galileo_arp_300pix"/>
          <p:cNvPicPr/>
          <p:nvPr/>
        </p:nvPicPr>
        <p:blipFill>
          <a:blip r:embed="rId1"/>
          <a:stretch/>
        </p:blipFill>
        <p:spPr>
          <a:xfrm>
            <a:off x="762120" y="2363760"/>
            <a:ext cx="2709720" cy="3046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kepler_hist"/>
          <p:cNvPicPr/>
          <p:nvPr/>
        </p:nvPicPr>
        <p:blipFill>
          <a:blip r:embed="rId2"/>
          <a:stretch/>
        </p:blipFill>
        <p:spPr>
          <a:xfrm>
            <a:off x="4648320" y="2209680"/>
            <a:ext cx="2743200" cy="3065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114300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Гали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488560" y="53370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Кепл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Биография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1752840" y="18288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27 декабр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1571 г. в 2 часа 30 минут пополудни в доме бургомистра родился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оганн Кеплер .В городе Вейльдер-Штадт на юге Германии в бедной протестантской семье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200px-WeilderStadt_1742"/>
          <p:cNvPicPr/>
          <p:nvPr/>
        </p:nvPicPr>
        <p:blipFill>
          <a:blip r:embed="rId1"/>
          <a:stretch/>
        </p:blipFill>
        <p:spPr>
          <a:xfrm>
            <a:off x="5181480" y="1371600"/>
            <a:ext cx="381024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 flipV="1" rot="10834200">
            <a:off x="5713560" y="47253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Вейльдер-Штад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320" y="3657600"/>
            <a:ext cx="9067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cc00"/>
                </a:solidFill>
                <a:latin typeface="Garamond"/>
              </a:rPr>
              <a:t>Иоганн Кеплер в 1611 г. усовершенствовал телескоп Галилея, заменив рассеивающую линзу в окуляре собирающей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Файл:Kepschem2.jpg"/>
          <p:cNvPicPr/>
          <p:nvPr/>
        </p:nvPicPr>
        <p:blipFill>
          <a:blip r:embed="rId1"/>
          <a:stretch/>
        </p:blipFill>
        <p:spPr>
          <a:xfrm>
            <a:off x="990720" y="255600"/>
            <a:ext cx="7296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67820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12 году, собрав скудные средства, Кеплер переезжает в Линц, где прожил 14 лет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8580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4" descr="Города Австрии. Вид на город Линц (Linz)."/>
          <p:cNvPicPr/>
          <p:nvPr/>
        </p:nvPicPr>
        <p:blipFill>
          <a:blip r:embed="rId1"/>
          <a:stretch/>
        </p:blipFill>
        <p:spPr>
          <a:xfrm>
            <a:off x="1143000" y="2666880"/>
            <a:ext cx="6172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Третий закон Кепл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http://phys.spb.ru/School/Media/Chirtsov/Gravity/gravity/icon/constr_b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lip_6"/>
          <p:cNvPicPr/>
          <p:nvPr/>
        </p:nvPicPr>
        <p:blipFill>
          <a:blip r:embed="rId3"/>
          <a:stretch/>
        </p:blipFill>
        <p:spPr>
          <a:xfrm>
            <a:off x="611280" y="2781360"/>
            <a:ext cx="4968720" cy="3895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95280" y="981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Квадраты  периодов обращения планет вокруг Солнца относятся между собой как кубы больших полуосей их орби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6" descr="pict4"/>
          <p:cNvPicPr/>
          <p:nvPr/>
        </p:nvPicPr>
        <p:blipFill>
          <a:blip r:embed="rId4"/>
          <a:stretch/>
        </p:blipFill>
        <p:spPr>
          <a:xfrm>
            <a:off x="5784840" y="3368520"/>
            <a:ext cx="2811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26 году в ходе Тридцатилетней войны Линц осаждён и вскоре захвачен. Начинаются грабежи и пожары; в числе прочих сгорает типография. Кеплер переезжает в Уль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30 году отправляется к императору в Регенсбург, чтобы получить хотя бы часть жалованья. По дороге сильно простужается и вскоре уми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12" descr="220px-Kepler_Statue_Lin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609480"/>
            <a:ext cx="30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Законы Кеплера соединяли в себ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ясность, простоту и вычислительную мощь, хотя мистическая форма его системы мира основательно засоряла реальную суть великих открытий Кепл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WdSt-Keplerdenkmal"/>
          <p:cNvPicPr/>
          <p:nvPr/>
        </p:nvPicPr>
        <p:blipFill>
          <a:blip r:embed="rId1"/>
          <a:stretch/>
        </p:blipFill>
        <p:spPr>
          <a:xfrm>
            <a:off x="4648320" y="990720"/>
            <a:ext cx="3857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8320" y="60912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Иоганн Кеплер - великий немецкий астроном и математик. Он открыл три основных закона  движения планет, изобрел оптическую систему, применяемую в частности, в современных рефракторах-телескоп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5" descr="ANd9GcTS2Hcnb3HZGTJ_ypdUMrUfMEMCE9sQOObAJ-QqZoILdvZMUWFZ6Fnk9pM"/>
          <p:cNvPicPr/>
          <p:nvPr/>
        </p:nvPicPr>
        <p:blipFill>
          <a:blip r:embed="rId1"/>
          <a:stretch/>
        </p:blipFill>
        <p:spPr>
          <a:xfrm>
            <a:off x="380880" y="838080"/>
            <a:ext cx="4038840" cy="4002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828800" y="5715000"/>
            <a:ext cx="57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Garamond"/>
              </a:rPr>
              <a:t>Работа: Скрябиной Анаста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Рожде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09480" y="1752480"/>
            <a:ext cx="4953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я жизнь его, с первого крика и до последнего вздоха, казалось, протестовала против того, чтобы он стал ученым, ни в каком из начинаний своих не находил он благоприятной поддержки судь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02_018"/>
          <p:cNvPicPr/>
          <p:nvPr/>
        </p:nvPicPr>
        <p:blipFill>
          <a:blip r:embed="rId1"/>
          <a:stretch/>
        </p:blipFill>
        <p:spPr>
          <a:xfrm>
            <a:off x="5410080" y="160020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Отец (Генрих Кеплер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6" descr="6824-0"/>
          <p:cNvPicPr/>
          <p:nvPr/>
        </p:nvPicPr>
        <p:blipFill>
          <a:blip r:embed="rId1"/>
          <a:stretch/>
        </p:blipFill>
        <p:spPr>
          <a:xfrm>
            <a:off x="5638680" y="1143000"/>
            <a:ext cx="3048120" cy="4495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609480" y="1981080"/>
            <a:ext cx="4648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Отец.</a:t>
            </a: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рих Кеплер был челове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далекий, ограниченный, неудачник, бродяга, малограмотный. Служил солдато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Мать(Екатерина Гульдеман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e5ff"/>
                </a:solidFill>
                <a:latin typeface="Garamond"/>
              </a:rPr>
              <a:t>Мать.</a:t>
            </a:r>
            <a:r>
              <a:rPr b="1" i="1" lang="ru-RU" sz="3600" spc="-1" strike="noStrike">
                <a:solidFill>
                  <a:srgbClr val="003399"/>
                </a:solidFill>
                <a:latin typeface="Garamond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Екатерина Гульдеман, дочь трактирщика, безграмотная, воспитывалась у тетки, которая была сожжена за колдовств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6" descr="image014"/>
          <p:cNvPicPr/>
          <p:nvPr/>
        </p:nvPicPr>
        <p:blipFill>
          <a:blip r:embed="rId1"/>
          <a:stretch/>
        </p:blipFill>
        <p:spPr>
          <a:xfrm>
            <a:off x="6095880" y="838080"/>
            <a:ext cx="28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0666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Образов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 1584 году Иоганн поступил в церковную семинарию в Адельсберге, затем продолжил учёбу в духовном училище. Он изучал философию, богословие, труды Аристотеля, ритор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589 год- поступил в Тюбенгейскую академию. Лекции по математики читал профессор Михаэль Мёстлин(1550-1630),который и заметил необычные способности Кеплера к астрономии и матема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49298664_Michael_Maestlina"/>
          <p:cNvPicPr/>
          <p:nvPr/>
        </p:nvPicPr>
        <p:blipFill>
          <a:blip r:embed="rId1"/>
          <a:stretch/>
        </p:blipFill>
        <p:spPr>
          <a:xfrm>
            <a:off x="6095880" y="1143000"/>
            <a:ext cx="27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Знаменитая встреч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феврале 1600 г произошла знаменитая встреча Тихо Браге с Иоганном Кеплер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1600 г Браге берёт его в помощники и поручил обработку данных наблюдений  Мар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нако сотрудничество двух учёных продлилось не долг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ANd9GcRhAUlGUrXbmt7SoMDLAbJB0AYUtOL2vlXzUqiIu3FpZ9l98mDXrQ"/>
          <p:cNvPicPr/>
          <p:nvPr/>
        </p:nvPicPr>
        <p:blipFill>
          <a:blip r:embed="rId1"/>
          <a:stretch/>
        </p:blipFill>
        <p:spPr>
          <a:xfrm>
            <a:off x="5638680" y="1371600"/>
            <a:ext cx="3319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Черты характера астроном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езрительн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уверенн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еплера был похож на отца: такой же бродяга, неудач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н был замкнутого и мрачного характера, чрезвычайно деспотичны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купость, недоверчивость и ворчливость делали его в общежитии тяжелым для всех окружающи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рудолюбивы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657600" y="571464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армония мира — это и есть смысл жизни Иоганна Кеплер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6" descr="Kepler3"/>
          <p:cNvPicPr/>
          <p:nvPr/>
        </p:nvPicPr>
        <p:blipFill>
          <a:blip r:embed="rId1"/>
          <a:stretch/>
        </p:blipFill>
        <p:spPr>
          <a:xfrm>
            <a:off x="5303880" y="1295280"/>
            <a:ext cx="366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Интере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867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aramond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еплер нашёл способ определения объёмов разнообразных тел вращения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роме того, Кеплер очень подробно проанализировал симметрию снежин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У Кеплера впервые встречается термин «среднее арифметическое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еплер вошёл и в историю проективной геометрии: он впервые ввёл важнейшее понятие бесконечно удалённой точк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3505320"/>
            <a:ext cx="5639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менно Кеплер ввёл в физику термин инерц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одно он, как и Галилей, формулирует в ясном виде первый закон механики: всякое тел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еплер вплотную подошёл к открытию закона тяготения, хотя и не пытался выразить его математичес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220px-Tabulae_Rudolphinae_-_Frontispiece"/>
          <p:cNvPicPr/>
          <p:nvPr/>
        </p:nvPicPr>
        <p:blipFill>
          <a:blip r:embed="rId1"/>
          <a:stretch/>
        </p:blipFill>
        <p:spPr>
          <a:xfrm>
            <a:off x="5843520" y="685800"/>
            <a:ext cx="303228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5943600" y="5410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Фронтиспис «Рудольфовых таблиц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08:39:17Z</dcterms:created>
  <dc:creator>Катя - кАтенок</dc:creator>
  <dc:description/>
  <dc:language>en-US</dc:language>
  <cp:lastModifiedBy>Смирнова ЛФ</cp:lastModifiedBy>
  <dcterms:modified xsi:type="dcterms:W3CDTF">2012-04-25T07:59:37Z</dcterms:modified>
  <cp:revision>28</cp:revision>
  <dc:subject/>
  <dc:title>Слайд 1</dc:title>
</cp:coreProperties>
</file>