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23.png" ContentType="image/png"/>
  <Override PartName="/ppt/media/image20.gif" ContentType="image/gif"/>
  <Override PartName="/ppt/media/image13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.png" ContentType="image/png"/>
  <Override PartName="/ppt/media/image16.jpeg" ContentType="image/jpeg"/>
  <Override PartName="/ppt/media/image17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12E6-9F35-4286-9E59-430110FE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DACB-5C58-4C30-B468-2FF66FA2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5CDF-5964-444B-9EFB-9DB718B0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CE46A-20AC-4933-9C98-E9799353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82F7-0ABC-464E-A441-1C36D61A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91A7-0B48-46E1-8753-153F2529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A9F6-E3F9-40A4-9571-76202676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A2E8-2473-4C58-82B3-95AF9DB8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D99C-D598-468C-BADB-574E5460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81EC-CD19-4195-9E47-D30A3CB0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483-B0E4-406B-88C7-8F762D2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0F1C-F5C4-44DB-96F1-6518E4B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E082-B323-4A87-9B94-ECEEF9F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8B54-F28E-4292-AFAC-E4657A76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2E52-A8F4-4411-AAD6-D5B70DB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2467-B148-42D8-87A0-31E4BBEB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AAAC-4FDD-4ADB-A6A8-F27E296F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F78A8-2F5E-4FDF-A2C4-C011180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5E75-7AB8-41B2-BAE7-0BEDB02D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5C72-D159-4EA9-8D1D-BD4BBA94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BA34-0986-4337-ABDB-3024F663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693F-9832-4B49-AEF9-353FB30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F182-43EA-4AEB-AF52-227C2107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6939-3553-47A1-ADA2-8C5EB74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C0BB-6744-44DE-B20E-A8D0C5558D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B708-33F9-4800-8F3F-7FC9313F2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72;&#1081;&#1083;:Kepler_Statue_Linz.jpg&amp;filetimestamp=20081228180907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c00"/>
                </a:solidFill>
                <a:latin typeface="Garamond"/>
              </a:rPr>
              <a:t>Иоганн Кеплер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kepler"/>
          <p:cNvPicPr/>
          <p:nvPr/>
        </p:nvPicPr>
        <p:blipFill>
          <a:blip r:embed="rId1"/>
          <a:stretch/>
        </p:blipFill>
        <p:spPr>
          <a:xfrm>
            <a:off x="990720" y="1981080"/>
            <a:ext cx="2960640" cy="3657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572000" y="198108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Великий немецкий астроном и математ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4648320" y="4343400"/>
            <a:ext cx="396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Годы жиз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27 декабря 1571 года – 15 ноября 163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e5ff"/>
                </a:solidFill>
                <a:latin typeface="Garamond"/>
              </a:rPr>
              <a:t>Ю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80880" y="114336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н женился в 26 лет по любви, но жена заставила его предъявить унизительно доказательство «благородства» своего происхождения, и он, сгорая от любви и стыда, мчался в Вюртемберг за наследными справкам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4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торой его брак не назовешь счастливым. Как привидение, преследует его неотступно мысль о деньгах. «Касса пуста, и жалованья не дают»,— писал он. А через год: «Я теряю время при дверях казначейства, напрасно стою перед ними, как нищий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ANd9GcQUOSFMbkR4s74Fu4BbCI9uCRI3mQ254_o0ete00GL6LrNjva48YQ"/>
          <p:cNvPicPr/>
          <p:nvPr/>
        </p:nvPicPr>
        <p:blipFill>
          <a:blip r:embed="rId1"/>
          <a:stretch/>
        </p:blipFill>
        <p:spPr>
          <a:xfrm>
            <a:off x="4952880" y="1371600"/>
            <a:ext cx="37339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352680" y="76212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4" marL="18720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В 1597 году Кеплер женится на вдове Барбаре Мюллер фон Мулек. Их первые двое детей умирают во младенчестве, а жена заболевает эпилепсией. В довершение невзгод начинаются гонения на протестантов. Кеплер занесён в список изгоняемых «еретиков» и вынужден покинуть город. В 1600 г. он приехал в Прагу к знаменитому астроному Т. Браге, после смерти которого получил материалы его многочисленных наблюдений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95968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220px-Barbara_Müller_and_Johannes_Kepler"/>
          <p:cNvPicPr/>
          <p:nvPr/>
        </p:nvPicPr>
        <p:blipFill>
          <a:blip r:embed="rId1"/>
          <a:stretch/>
        </p:blipFill>
        <p:spPr>
          <a:xfrm>
            <a:off x="228600" y="304920"/>
            <a:ext cx="4648320" cy="4192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459360" y="5181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Барбара  Мюллер фон Мул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755000" y="56386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Иоганн Кепл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4876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В 1600 году Кеплер прибывает в Прагу. Проведённые здесь 10 лет — самый плодотворный период его жизн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9" descr="220px-Karlova_str_No4%2C_Prague_Old_Town"/>
          <p:cNvPicPr/>
          <p:nvPr/>
        </p:nvPicPr>
        <p:blipFill>
          <a:blip r:embed="rId1"/>
          <a:stretch/>
        </p:blipFill>
        <p:spPr>
          <a:xfrm>
            <a:off x="5867280" y="914400"/>
            <a:ext cx="2894040" cy="41432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5791320" y="5105520"/>
            <a:ext cx="28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Дом Кеплера в Праге (Старе Место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, Карлова ул, 4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286000" y="228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Жизнь в Пра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819520" y="228600"/>
            <a:ext cx="5867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Будучи великолепным наблюдателем, Тихо Браге за много лет составил объёмный труд по наблюдению планет и сотен звёзд, причём точность его измерений была существенно выше, чем у всех предшествен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12" descr="Tycho_Brahe"/>
          <p:cNvPicPr/>
          <p:nvPr/>
        </p:nvPicPr>
        <p:blipFill>
          <a:blip r:embed="rId1"/>
          <a:stretch/>
        </p:blipFill>
        <p:spPr>
          <a:xfrm>
            <a:off x="228600" y="228600"/>
            <a:ext cx="256716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728px-Brahe_kepler"/>
          <p:cNvPicPr/>
          <p:nvPr/>
        </p:nvPicPr>
        <p:blipFill>
          <a:blip r:embed="rId2"/>
          <a:stretch/>
        </p:blipFill>
        <p:spPr>
          <a:xfrm>
            <a:off x="5486400" y="2819520"/>
            <a:ext cx="3352680" cy="30337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4"/>
          <p:cNvSpPr/>
          <p:nvPr/>
        </p:nvSpPr>
        <p:spPr>
          <a:xfrm>
            <a:off x="152280" y="3962520"/>
            <a:ext cx="55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протяжении нескольких лет Кеплер внимательно изучает данные Браг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Garamond"/>
              </a:rPr>
              <a:t>С древнейших времен считалось,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Garamond"/>
              </a:rPr>
              <a:t>что небесные тела движутся по «идеальным кривым» - окружностям</a:t>
            </a: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572000" y="601992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66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4" descr="1191"/>
          <p:cNvPicPr/>
          <p:nvPr/>
        </p:nvPicPr>
        <p:blipFill>
          <a:blip r:embed="rId1"/>
          <a:stretch/>
        </p:blipFill>
        <p:spPr>
          <a:xfrm>
            <a:off x="5029200" y="21337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52280" y="579132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6" descr="slide0016_image006"/>
          <p:cNvPicPr/>
          <p:nvPr/>
        </p:nvPicPr>
        <p:blipFill>
          <a:blip r:embed="rId2"/>
          <a:stretch/>
        </p:blipFill>
        <p:spPr>
          <a:xfrm>
            <a:off x="685800" y="2057400"/>
            <a:ext cx="30542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теории Николая Коперника, создателя гелиоцентрической системы мира, 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круговое движение также не подвергалось сомнению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(1473–1543)</a:t>
            </a: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4211640" y="5734080"/>
            <a:ext cx="46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Каждая планета движется по эллипсу, </a:t>
            </a:r>
            <a:br>
              <a:rPr sz="2800"/>
            </a:b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в одном из фокусов которого находится Солнце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Первый закон Кеплер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828800" y="5943600"/>
            <a:ext cx="56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а примере движения спутников Земли</a:t>
            </a:r>
            <a:r>
              <a:rPr b="1" i="1" lang="ru-RU" sz="1600" spc="-1" strike="noStrike">
                <a:solidFill>
                  <a:srgbClr val="e5e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4532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228600" y="198072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Радиус-вектор планеты за равные промежутки времени</a:t>
            </a:r>
            <a:br>
              <a:rPr sz="2800"/>
            </a:br>
            <a:r>
              <a:rPr b="0" i="1" lang="ru-RU" sz="2800" spc="-1" strike="noStrike">
                <a:solidFill>
                  <a:srgbClr val="e5e5ff"/>
                </a:solidFill>
                <a:latin typeface="Garamond"/>
              </a:rPr>
              <a:t> описывает равные площади.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Второй закон Кеплера (закон равных площадей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4" descr="1344"/>
          <p:cNvPicPr/>
          <p:nvPr/>
        </p:nvPicPr>
        <p:blipFill>
          <a:blip r:embed="rId1"/>
          <a:stretch/>
        </p:blipFill>
        <p:spPr>
          <a:xfrm>
            <a:off x="1600200" y="2666880"/>
            <a:ext cx="5759280" cy="3167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447920" y="5943600"/>
            <a:ext cx="56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на примере движения спутника Земли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Оба закона были сформулированы Кеплером в 1609 году в книге «Новая астрономи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s16"/>
          <p:cNvPicPr/>
          <p:nvPr/>
        </p:nvPicPr>
        <p:blipFill>
          <a:blip r:embed="rId1"/>
          <a:stretch/>
        </p:blipFill>
        <p:spPr>
          <a:xfrm>
            <a:off x="5261040" y="685800"/>
            <a:ext cx="3575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aramond"/>
              </a:rPr>
              <a:t>В 1610 году Галилей сообщает Кеплеру об открытии спутников Юпитер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250px-Galileo_arp_300pix"/>
          <p:cNvPicPr/>
          <p:nvPr/>
        </p:nvPicPr>
        <p:blipFill>
          <a:blip r:embed="rId1"/>
          <a:stretch/>
        </p:blipFill>
        <p:spPr>
          <a:xfrm>
            <a:off x="762120" y="2363760"/>
            <a:ext cx="2709720" cy="3046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kepler_hist"/>
          <p:cNvPicPr/>
          <p:nvPr/>
        </p:nvPicPr>
        <p:blipFill>
          <a:blip r:embed="rId2"/>
          <a:stretch/>
        </p:blipFill>
        <p:spPr>
          <a:xfrm>
            <a:off x="4648320" y="2209680"/>
            <a:ext cx="2743200" cy="3065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1143000" y="5334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Галиле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488560" y="53370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Кепле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Биография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1752840" y="182880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Garamond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27 декабр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1571 г. в 2 часа 30 минут пополудни в доме бургомистра родился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Иоганн Кеплер .В городе Вейльдер-Штадт на юге Германии в бедной протестантской семье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200px-WeilderStadt_1742"/>
          <p:cNvPicPr/>
          <p:nvPr/>
        </p:nvPicPr>
        <p:blipFill>
          <a:blip r:embed="rId1"/>
          <a:stretch/>
        </p:blipFill>
        <p:spPr>
          <a:xfrm>
            <a:off x="5181480" y="1371600"/>
            <a:ext cx="3810240" cy="3124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 flipV="1" rot="10834200">
            <a:off x="5713560" y="472536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Вейльдер-Штадт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320" y="3657600"/>
            <a:ext cx="90676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82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cc00"/>
                </a:solidFill>
                <a:latin typeface="Garamond"/>
              </a:rPr>
              <a:t>Иоганн Кеплер в 1611 г. усовершенствовал телескоп Галилея, заменив рассеивающую линзу в окуляре собирающей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7" descr="Файл:Kepschem2.jpg"/>
          <p:cNvPicPr/>
          <p:nvPr/>
        </p:nvPicPr>
        <p:blipFill>
          <a:blip r:embed="rId1"/>
          <a:stretch/>
        </p:blipFill>
        <p:spPr>
          <a:xfrm>
            <a:off x="990720" y="255600"/>
            <a:ext cx="7296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67820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12 году, собрав скудные средства, Кеплер переезжает в Линц, где прожил 14 лет.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8580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4" descr="Города Австрии. Вид на город Линц (Linz)."/>
          <p:cNvPicPr/>
          <p:nvPr/>
        </p:nvPicPr>
        <p:blipFill>
          <a:blip r:embed="rId1"/>
          <a:stretch/>
        </p:blipFill>
        <p:spPr>
          <a:xfrm>
            <a:off x="1143000" y="2666880"/>
            <a:ext cx="6172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Третий закон Кепле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http://phys.spb.ru/School/Media/Chirtsov/Gravity/gravity/icon/constr_b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lip_6"/>
          <p:cNvPicPr/>
          <p:nvPr/>
        </p:nvPicPr>
        <p:blipFill>
          <a:blip r:embed="rId3"/>
          <a:stretch/>
        </p:blipFill>
        <p:spPr>
          <a:xfrm>
            <a:off x="611280" y="2781360"/>
            <a:ext cx="4968720" cy="3895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395280" y="981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Квадраты  периодов обращения планет вокруг Солнца относятся между собой как кубы больших полуосей их орби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6" descr="pict4"/>
          <p:cNvPicPr/>
          <p:nvPr/>
        </p:nvPicPr>
        <p:blipFill>
          <a:blip r:embed="rId4"/>
          <a:stretch/>
        </p:blipFill>
        <p:spPr>
          <a:xfrm>
            <a:off x="5784840" y="3368520"/>
            <a:ext cx="281160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26 году в ходе Тридцатилетней войны Линц осаждён и вскоре захвачен. Начинаются грабежи и пожары; в числе прочих сгорает типография. Кеплер переезжает в Уль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Garamond"/>
              </a:rPr>
              <a:t>В 1630 году отправляется к императору в Регенсбург, чтобы получить хотя бы часть жалованья. По дороге сильно простужается и вскоре умира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12" descr="220px-Kepler_Statue_Lin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609480"/>
            <a:ext cx="30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Законы Кеплера соединяли в себ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ясность, простоту и вычислительную мощь, хотя мистическая форма его системы мира основательно засоряла реальную суть великих открытий Кепл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WdSt-Keplerdenkmal"/>
          <p:cNvPicPr/>
          <p:nvPr/>
        </p:nvPicPr>
        <p:blipFill>
          <a:blip r:embed="rId1"/>
          <a:stretch/>
        </p:blipFill>
        <p:spPr>
          <a:xfrm>
            <a:off x="4648320" y="990720"/>
            <a:ext cx="3857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48320" y="609120"/>
            <a:ext cx="44956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5e5ff"/>
                </a:solidFill>
                <a:latin typeface="Garamond"/>
              </a:rPr>
              <a:t>Иоганн Кеплер - великий немецкий астроном и математик. Он открыл три основных закона  движения планет, изобрел оптическую систему, применяемую в частности, в современных рефракторах-телескоп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5" descr="ANd9GcTS2Hcnb3HZGTJ_ypdUMrUfMEMCE9sQOObAJ-QqZoILdvZMUWFZ6Fnk9pM"/>
          <p:cNvPicPr/>
          <p:nvPr/>
        </p:nvPicPr>
        <p:blipFill>
          <a:blip r:embed="rId1"/>
          <a:stretch/>
        </p:blipFill>
        <p:spPr>
          <a:xfrm>
            <a:off x="380880" y="838080"/>
            <a:ext cx="4038840" cy="40021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1828800" y="5715000"/>
            <a:ext cx="57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Garamond"/>
              </a:rPr>
              <a:t>Работа: Скрябиной Анаста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Рождение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09480" y="1752480"/>
            <a:ext cx="4953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ся жизнь его, с первого крика и до последнего вздоха, казалось, протестовала против того, чтобы он стал ученым, ни в каком из начинаний своих не находил он благоприятной поддержки судьб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6" descr="02_018"/>
          <p:cNvPicPr/>
          <p:nvPr/>
        </p:nvPicPr>
        <p:blipFill>
          <a:blip r:embed="rId1"/>
          <a:stretch/>
        </p:blipFill>
        <p:spPr>
          <a:xfrm>
            <a:off x="5410080" y="1600200"/>
            <a:ext cx="3399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Отец (Генрих Кеплер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6" descr="6824-0"/>
          <p:cNvPicPr/>
          <p:nvPr/>
        </p:nvPicPr>
        <p:blipFill>
          <a:blip r:embed="rId1"/>
          <a:stretch/>
        </p:blipFill>
        <p:spPr>
          <a:xfrm>
            <a:off x="5638680" y="1143000"/>
            <a:ext cx="3048120" cy="44956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609480" y="1981080"/>
            <a:ext cx="4648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Отец.</a:t>
            </a:r>
            <a:r>
              <a:rPr b="1" i="1" lang="ru-RU" sz="32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енрих Кеплер был челове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далекий, ограниченный, неудачник, бродяга, малограмотный. Служил солдато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Мать(Екатерина Гульдеман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5e5ff"/>
                </a:solidFill>
                <a:latin typeface="Garamond"/>
              </a:rPr>
              <a:t>Мать.</a:t>
            </a:r>
            <a:r>
              <a:rPr b="1" i="1" lang="ru-RU" sz="3600" spc="-1" strike="noStrike">
                <a:solidFill>
                  <a:srgbClr val="003399"/>
                </a:solidFill>
                <a:latin typeface="Garamond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Екатерина Гульдеман, дочь трактирщика, безграмотная, воспитывалась у тетки, которая была сожжена за колдовство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6" descr="image014"/>
          <p:cNvPicPr/>
          <p:nvPr/>
        </p:nvPicPr>
        <p:blipFill>
          <a:blip r:embed="rId1"/>
          <a:stretch/>
        </p:blipFill>
        <p:spPr>
          <a:xfrm>
            <a:off x="6095880" y="838080"/>
            <a:ext cx="2876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0666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Образов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 1584 году Иоганн поступил в церковную семинарию в Адельсберге, затем продолжил учёбу в духовном училище. Он изучал философию, богословие, труды Аристотеля, риторик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1589 год- поступил в Тюбенгейскую академию. Лекции по математики читал профессор Михаэль Мёстлин(1550-1630),который и заметил необычные способности Кеплера к астрономии и математ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5" descr="49298664_Michael_Maestlina"/>
          <p:cNvPicPr/>
          <p:nvPr/>
        </p:nvPicPr>
        <p:blipFill>
          <a:blip r:embed="rId1"/>
          <a:stretch/>
        </p:blipFill>
        <p:spPr>
          <a:xfrm>
            <a:off x="6095880" y="1143000"/>
            <a:ext cx="271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Знаменитая встреч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феврале 1600 г произошла знаменитая встреча Тихо Браге с Иоганном Кеплер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1600 г Браге берёт его в помощники и поручил обработку данных наблюдений  Марс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днако сотрудничество двух учёных продлилось не долг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5" descr="ANd9GcRhAUlGUrXbmt7SoMDLAbJB0AYUtOL2vlXzUqiIu3FpZ9l98mDXrQ"/>
          <p:cNvPicPr/>
          <p:nvPr/>
        </p:nvPicPr>
        <p:blipFill>
          <a:blip r:embed="rId1"/>
          <a:stretch/>
        </p:blipFill>
        <p:spPr>
          <a:xfrm>
            <a:off x="5638680" y="1371600"/>
            <a:ext cx="3319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Черты характера астроном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езрительн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уверенны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еплера был похож на отца: такой же бродяга, неудачник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Он был замкнутого и мрачного характера, чрезвычайно деспотичны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купость, недоверчивость и ворчливость делали его в общежитии тяжелым для всех окружающи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рудолюбивый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657600" y="5714640"/>
            <a:ext cx="51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армония мира — это и есть смысл жизни Иоганна Кеплер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6" descr="Kepler3"/>
          <p:cNvPicPr/>
          <p:nvPr/>
        </p:nvPicPr>
        <p:blipFill>
          <a:blip r:embed="rId1"/>
          <a:stretch/>
        </p:blipFill>
        <p:spPr>
          <a:xfrm>
            <a:off x="5303880" y="1295280"/>
            <a:ext cx="3665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Garamond"/>
              </a:rPr>
              <a:t>Интере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867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Garamond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еплер нашёл способ определения объёмов разнообразных тел вращения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роме того, Кеплер очень подробно проанализировал симметрию снежино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У Кеплера впервые встречается термин «среднее арифметическое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Кеплер вошёл и в историю проективной геометрии: он впервые ввёл важнейшее понятие бесконечно удалённой точк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3505320"/>
            <a:ext cx="56390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менно Кеплер ввёл в физику термин инерц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одно он, как и Галилей, формулирует в ясном виде первый закон механики: всякое тел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еплер вплотную подошёл к открытию закона тяготения, хотя и не пытался выразить его математичес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220px-Tabulae_Rudolphinae_-_Frontispiece"/>
          <p:cNvPicPr/>
          <p:nvPr/>
        </p:nvPicPr>
        <p:blipFill>
          <a:blip r:embed="rId1"/>
          <a:stretch/>
        </p:blipFill>
        <p:spPr>
          <a:xfrm>
            <a:off x="5843520" y="685800"/>
            <a:ext cx="303228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5943600" y="5410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Arial"/>
              </a:rPr>
              <a:t>Фронтиспис «Рудольфовых таблиц»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08:39:17Z</dcterms:created>
  <dc:creator>Катя - кАтенок</dc:creator>
  <dc:description/>
  <dc:language>en-US</dc:language>
  <cp:lastModifiedBy>Смирнова ЛФ</cp:lastModifiedBy>
  <dcterms:modified xsi:type="dcterms:W3CDTF">2012-04-25T07:59:37Z</dcterms:modified>
  <cp:revision>28</cp:revision>
  <dc:subject/>
  <dc:title>Слайд 1</dc:title>
</cp:coreProperties>
</file>