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8AF-A15E-492E-8D59-4EA30C69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39E-F796-4AE1-BA6F-85D561C9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60F-1374-4BC4-B6EE-ABE69367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B98-F41D-4F5B-AB5D-1B9EA08C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AEA-5FD8-4FE4-90B9-2446D500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AD6-5AF2-49A7-B003-9FE79EA4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306-82C0-4430-A598-F9B32BEC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3FE-2189-4FA5-AF4B-9F47808C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3E6-FEFC-49D1-84A7-49C87EFC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049-304A-4CEF-84D4-A5533C0C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EB7-EE93-40C9-BCF2-E4E2E55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1DD-2DB5-465E-8570-6358DF6C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A4E5-18D2-448F-8415-68FE49368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ЭКОЛОГИЯ ЖИЛИЩ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ФАКТОРЫ Р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181080" y="404640"/>
            <a:ext cx="6516720" cy="15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КОЛОГИЯ 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59054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чищают 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590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нат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загряз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ены, потолки, мебель, ковры, искусственные покрытия, лаки, крас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товая химия: чистящие, моющие ве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ачный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ческие вещества, источниками которых являются насекомые, домашние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есень, грибки, бакт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ры по улучшению воздух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тривание помещ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возможности: замена газовой плиты на электрическу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ка над плитой очистителя возду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ства бытовой химии хранить герметично закрытыми (лучше в нежилой зон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4:17Z</dcterms:created>
  <dc:creator>olga</dc:creator>
  <dc:description/>
  <dc:language>en-US</dc:language>
  <cp:lastModifiedBy>Мы</cp:lastModifiedBy>
  <dcterms:modified xsi:type="dcterms:W3CDTF">2012-06-20T10:08:55Z</dcterms:modified>
  <cp:revision>7</cp:revision>
  <dc:subject/>
  <dc:title>ЭКОЛОГИЯ ЧЕЛОВЕКА</dc:title>
</cp:coreProperties>
</file>