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0F1-CDBE-45EB-AA0A-DE75873C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394-F558-487F-AAE2-6DA528DA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C9D-310E-4E80-9BD3-7C2B938F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8B0-41DF-4DED-B453-BF48DE12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D521-341C-4A2E-AB7C-713D8A17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1F9-DBD8-4669-A7B1-DBADDCF1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E66-B04C-49D6-AAFA-EE2BB3AE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539B-6273-4A64-9383-EE77AF6D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B15-5AA9-48F1-91AE-483EDB25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BB4-3CE9-4704-A828-7065AFF7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40C-62C1-457E-B2F5-99041A6E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494-0F87-464C-A104-980D4DFA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29C4-E953-4C9F-BCE1-0CF01E5876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ЭКОЛОГИЯ ЖИЛИЩ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ФАКТОРЫ РИ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181080" y="404640"/>
            <a:ext cx="6516720" cy="15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КОЛОГИЯ ЧЕЛО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5661000"/>
            <a:ext cx="590544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чищают возд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590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мнат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 загрязн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ены, потолки, мебель, ковры, искусственные покрытия, лаки, крас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товая химия: чистящие, моющие веще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ачный ды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ческие вещества, источниками которых являются насекомые, домашние 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есень, грибки, бакте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ры по улучшению воздух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тривание помещ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возможности: замена газовой плиты на электрическу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тановка над плитой очистителя воздух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ства бытовой химии хранить герметично закрытыми (лучше в нежилой зон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1:54:17Z</dcterms:created>
  <dc:creator>olga</dc:creator>
  <dc:description/>
  <dc:language>en-US</dc:language>
  <cp:lastModifiedBy>Мы</cp:lastModifiedBy>
  <dcterms:modified xsi:type="dcterms:W3CDTF">2012-06-20T10:08:55Z</dcterms:modified>
  <cp:revision>7</cp:revision>
  <dc:subject/>
  <dc:title>ЭКОЛОГИЯ ЧЕЛОВЕКА</dc:title>
</cp:coreProperties>
</file>