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3C1C-3DEB-44C4-802E-E1CE4ABB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B10B-69C7-410C-A1AF-28A050D2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408-F374-42ED-B8DB-B270F06D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756C-882B-410E-B7B0-F696083E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E86D-7AB6-43C6-9426-0DF183BD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8721-0695-477C-A7D7-2C8AEA68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5AF-CDEF-4033-A1F5-A48B4466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08B0-73C5-4FE8-9244-8DA09DC5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A50E-D942-4BA6-96C8-A3E14E9C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10AC-80E1-432A-A12B-7A160DE6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4EBC-A1E8-4E1B-B929-2CA5003A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B4F-2C7F-4DDE-BF4E-F6DDAEE6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4FAB-572C-46AA-B9A5-C190501C7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100m_Athens_189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wain_Chambers_at_Olympic_Trials_2008_0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Greek_vase_with_runners_at_the_panathenaic_games_530_bC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Greek_vase_with_runners_at_the_panathenaic_games_530_bC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езентация.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а тему: Легкая Атле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езентацию подготовил: Кубисенов Серк 7 «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Лёгкая Атлетика в С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есколько позднее, чем в Англии, стала развиваться лёгкая атлетика в США (атлетический клуб в Нью-Йорке организовался в 1868 г., студенческий спортивный союз — в 1875 г.), где быстро достигла широкого распространения в университетах. Это обеспечило в последующие годы (до 1952 г.) ведущее положение американских легкоатлетов в мире. К 1880—1890 г. во многих странах мира были организованы любительские легкоатлетические ассоциации, объединившие отдельные клубы, лиги и получившие права высших органов по лёгкой атлет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озрождение олимпийских иг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Широкое развитие современной лёгкой атлетики связано с возрождением олимпийских игр (1896 г.), в которых, отдавая дань древнегреческим олимпиадам, ей отвели наибольшее место. И сегодня олимпийские игры — мощный стимул для развития лёгкой атлетики во всем ми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4575240"/>
            <a:ext cx="28846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спространение в Росс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чало распространению лёгкой атлетики в России было положено в 1888 г., когда в Тярлево, близ Петербурга, был организован спортивный кружок. В том же году там было проведено первое в России соревнование по бегу. Впервые первенство России по лёгкой атлетике проходило в 1908 г. В нём приняли участие около 50 спортс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1911 г. создаётся Всероссийский союз любителей лёгкой атлетики, объединивший около 20 спортивных лиг Петербурга, Москвы, Киева, Риги и других город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ые учас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чало распространению лёгкой атлетики в России было положено в 1888 г., когда в Тярлево, близ Петербурга, был организован спортивный кружок. В том же году там было проведено первое в России соревнование по бегу. Впервые первенство России по лёгкой атлетике проходило в 1908 г. В нём приняли участие около 50 спортс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1911 г. создаётся Всероссийский союз любителей лёгкой атлетики, объединивший около 20 спортивных лиг Петербурга, Москвы, Киева, Риги и других го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вое первенство РСФС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осле Великой Октябрьской социалистической революции большую роль в развитии лёгкой атлетики сыграл Всевобуч. По его инициативе в ряде городов состоялись крупные соревнования, в программе которых главное место отводилось лёгкой атлетике: в Омске — I Сибирская олимпиада, в Екатеринбурге — I Приуральская олимпиада, в Ташкенте -Среднеазиатская, в Минеральных Водах Северо-Кавказская. В 1922 г. в Москве впервые было проведено первенство РСФСР по лёгкой атле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ервые международные состязания советских легкоатлетов состоялись в 1923 г. Они встретились со спортсменами рабочего спортивного союза Финлянд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рганиз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Файл:Osaka07 D7M Stephan Steding Javelin.jpg|250px|thumb|right|Попытку в метании копья выполняет Стефан Стединг. Чемпионат мира по лёгкой атлетике в Осаке 2007 г.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ысшим руководящим органом регулирующим проведение соревнований и развитием лёгкой атлетики как вида спорта я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AAF (англ.) — International Association of Athlethics Federations — Международная Ассоциация легкоатлетических федера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AAF определяет международные правила проведения соревнований и ведёт мировой рейтинг ведущих спортсменов легкоатлетов. Главные старты проводимые под эгидой IAAF — это соревнования по лёгкой атлетике в программе Олимпийских игр, а также Чемпионаты мира на открытых стадионах и в закрытых помещ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рупнейшие организации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EAA (англ.) — European Athletic Association — Европейская ассоциация лёгкой атлетики под эгидой которой проводятся Чемпионаты Европы (открытый и закрыты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USA T&amp;F (англ.) USA Track and Field — Ассоциация лёгкой атлетики СШ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ероссийская Федерация Лёгкой Атле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Характерис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атегория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циклические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нвентарь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олот, ядро, копьё, диск, ш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исциплины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беговые виды, ходьба, технические виды (прыжки и метания), многоборья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ервые соревнования Олимпийские игр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896 г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Чемпионат мир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983 год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еждународная федерация Названи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AA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од основан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912 год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лава федераци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амин  Диак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циональная федерация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сероссийская Федерация Лёгкой Атле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ыв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Лёгкая атлетика очень важна не только в спорте , но и в жизни потому что она помогает укрепить характер  и всегда стремится к ц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то же входит в Лёгкую Атлети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771640" y="1628640"/>
            <a:ext cx="319104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ёгкая атлетика.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80000" y="2997360"/>
            <a:ext cx="64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ег</a:t>
            </a:r>
            <a:endParaRPr b="0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27280" y="4508640"/>
            <a:ext cx="350532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ортивная ходьба</a:t>
            </a:r>
            <a:endParaRPr b="0" i="1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26920" y="2492280"/>
            <a:ext cx="16192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етание</a:t>
            </a:r>
            <a:endParaRPr b="0" i="1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659640" y="2565360"/>
            <a:ext cx="14857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ышки</a:t>
            </a:r>
            <a:endParaRPr b="0" i="1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484360" y="2205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84720" y="2205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2276640"/>
            <a:ext cx="574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227664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Значение Лёгкой атлетики в наше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Легкая атлетика не только позволяет укрепить здоровье ,но и дух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&amp;Fcy;&amp;ocy;&amp;tcy;&amp;ocy;&amp;gcy;&amp;rcy;&amp;acy;&amp;fcy;&amp;icy;&amp;yacy;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3573360"/>
            <a:ext cx="41353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стория легкой атле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Давайте же углубимся в древность и узнаем где произошли истоки лёгкой атле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603600"/>
            <a:ext cx="38242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Цель их созд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Легкоатлетические упражнения проводились с целью физической подготовки, а также для проведения состязаний ещё в глубокой древ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Гре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о история лёгкой атлетики, как принято считать, началась с соревнований в беге на олимпийских играх Древней Гре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4149720"/>
            <a:ext cx="3279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овременная лёгкая атлетика и её нача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временная лёгкая атлетика начала свой путь с отдельных попыток в разных странах проводить соревнования в беге, прыжках и метаниях. Зафиксированы результаты в прыжке с шестом в 1789 г. (1 м 83 см, Д. Буш, Германия), в беге на одну милю в 1792 г. (5.52,0, Ф. Поуэлл, Великобритания) и 440 ярдов в 1830 г. (2.06,0, А. Вуд, Великобритания), в прыжке в высоту в 1827 г. (1.57,5, А. Уилсон, Великобритания), в метании молота в 1838 г. (19 м 71 см, Район, Ирландия), в толкании ядра в 1839 г. (8 м 61 см, Т. Каррадис, Канада)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з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зднее в программу соревнований стали включать бег на короткие дистанции, бег с препятствиями, метание тяжести, а в 1851 г.— прыжки в длину и высоту с разбега. В 1864 г. между университетами Оксфорда и Кембриджа были проведены первые соревнования, ставшие в дальнейшем ежегодными, положившие начало традиционным двусторонним матча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бъединения легкоатлетических организации Британской импе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1865 г. был основан Лондонский атлетический клуб, популяризировавший лёгкую атлетику, проводивший соревнования и наблюдавший за соблюдением статуса о любительстве. Высший орган легкоатлетического спорта — любительская атлетическая ассоциация, — который объединил все легкоатлетические организации Британской империи, был организован в 1880 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6:27:44Z</dcterms:created>
  <dc:creator>Admin</dc:creator>
  <dc:description/>
  <dc:language>en-US</dc:language>
  <cp:lastModifiedBy>Admin</cp:lastModifiedBy>
  <dcterms:modified xsi:type="dcterms:W3CDTF">2011-03-17T07:58:19Z</dcterms:modified>
  <cp:revision>2</cp:revision>
  <dc:subject/>
  <dc:title>Презентация. На тему: Легкая Атлетика.</dc:title>
</cp:coreProperties>
</file>