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0BD-A529-482B-B3F3-336DA6A8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ABE-5479-404E-B0FD-A04AC66F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57C-5F3F-4761-88F9-130B1E87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FB4-B7F2-4568-8793-0DB6E394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DCF-4B46-4857-8BFA-14024497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94A-7821-4BC8-B6A1-97D8112B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525-8D6A-4FDC-AFED-2E6FD9CE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561-4CFE-49F6-996B-89302A97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8F0-FE1B-4902-877F-6C770AFA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DC3-074B-4691-B57E-B4CC4908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FE0-69CF-41EF-BEB2-4D592850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1FF-D960-44F1-821A-CB984669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5BC0-2A02-43AD-96C8-83F03E253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100m_Athens_189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wain_Chambers_at_Olympic_Trials_2008_0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Greek_vase_with_runners_at_the_panathenaic_games_530_bC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Greek_vase_with_runners_at_the_panathenaic_games_530_bC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езентация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 тему: Легкая Атле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езентацию подготовил: Кубисенов Серк 7 «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ёгкая Атлетика в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есколько позднее, чем в Англии, стала развиваться лёгкая атлетика в США (атлетический клуб в Нью-Йорке организовался в 1868 г., студенческий спортивный союз — в 1875 г.), где быстро достигла широкого распространения в университетах. Это обеспечило в последующие годы (до 1952 г.) ведущее положение американских легкоатлетов в мире. К 1880—1890 г. во многих странах мира были организованы любительские легкоатлетические ассоциации, объединившие отдельные клубы, лиги и получившие права высших органов по лёгкой атле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озрождение олимпийских 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Широкое развитие современной лёгкой атлетики связано с возрождением олимпийских игр (1896 г.), в которых, отдавая дань древнегреческим олимпиадам, ей отвели наибольшее место. И сегодня олимпийские игры — мощный стимул для развития лёгкой атлетики во всем ми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4575240"/>
            <a:ext cx="28846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пространение в Рос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чало распространению лёгкой атлетики в России было положено в 1888 г., когда в Тярлево, близ Петербурга, был организован спортивный кружок. В том же году там было проведено первое в России соревнование по бегу. Впервые первенство России по лёгкой атлетике проходило в 1908 г. В нём приняли участие около 50 спортс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1911 г. создаётся Всероссийский союз любителей лёгкой атлетики, объединивший около 20 спортивных лиг Петербурга, Москвы, Киева, Риги и других город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ые учас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чало распространению лёгкой атлетики в России было положено в 1888 г., когда в Тярлево, близ Петербурга, был организован спортивный кружок. В том же году там было проведено первое в России соревнование по бегу. Впервые первенство России по лёгкой атлетике проходило в 1908 г. В нём приняли участие около 50 спортс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1911 г. создаётся Всероссийский союз любителей лёгкой атлетики, объединивший около 20 спортивных лиг Петербурга, Москвы, Киева, Риги и других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ое первенство РСФ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сле Великой Октябрьской социалистической революции большую роль в развитии лёгкой атлетики сыграл Всевобуч. По его инициативе в ряде городов состоялись крупные соревнования, в программе которых главное место отводилось лёгкой атлетике: в Омске — I Сибирская олимпиада, в Екатеринбурге — I Приуральская олимпиада, в Ташкенте -Среднеазиатская, в Минеральных Водах Северо-Кавказская. В 1922 г. в Москве впервые было проведено первенство РСФСР по лёгкой атле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ервые международные состязания советских легкоатлетов состоялись в 1923 г. Они встретились со спортсменами рабочего спортивного союза Финлян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рганиз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Файл:Osaka07 D7M Stephan Steding Javelin.jpg|250px|thumb|right|Попытку в метании копья выполняет Стефан Стединг. Чемпионат мира по лёгкой атлетике в Осаке 2007 г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сшим руководящим органом регулирующим проведение соревнований и развитием лёгкой атлетики как вида спорта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AAF (англ.) — International Association of Athlethics Federations — Международная Ассоциация легкоатлетических федер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AAF определяет международные правила проведения соревнований и ведёт мировой рейтинг ведущих спортсменов легкоатлетов. Главные старты проводимые под эгидой IAAF — это соревнования по лёгкой атлетике в программе Олимпийских игр, а также Чемпионаты мира на открытых стадионах и в закрытых помещ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рупнейшие организации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AA (англ.) — European Athletic Association — Европейская ассоциация лёгкой атлетики под эгидой которой проводятся Чемпионаты Европы (открытый и закрыт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USA T&amp;F (англ.) USA Track and Field — Ассоциация лёгкой атлетики СШ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российская Федерация Лёгкой Атле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Характери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тегория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циклические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нвентарь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олот, ядро, копьё, диск, ш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исциплины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еговые виды, ходьба, технические виды (прыжки и метания), многоборья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вые соревнования Олимпийские игр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896 г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мпионат мир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983 год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еждународная федерация Названи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AA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од основа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912 год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лава федераци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амин  Диак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циональная федерация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сероссийская Федерация Лёгкой Атле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ёгкая атлетика очень важна не только в спорте , но и в жизни потому что она помогает укрепить характер  и всегда стремится к ц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же входит в Лёгкую Атлети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71640" y="1628640"/>
            <a:ext cx="319104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ёгкая атлетика.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0000" y="2997360"/>
            <a:ext cx="64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ег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27280" y="4508640"/>
            <a:ext cx="3505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ортивная ходьба</a:t>
            </a:r>
            <a:endParaRPr b="0" i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26920" y="2492280"/>
            <a:ext cx="1619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тание</a:t>
            </a:r>
            <a:endParaRPr b="0" i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659640" y="2565360"/>
            <a:ext cx="1485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ышки</a:t>
            </a:r>
            <a:endParaRPr b="0" i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484360" y="2205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220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2276640"/>
            <a:ext cx="574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227664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начение Лёгкой атлетики в наше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егкая атлетика не только позволяет укрепить здоровье ,но и дух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&amp;Fcy;&amp;ocy;&amp;tcy;&amp;ocy;&amp;gcy;&amp;rcy;&amp;acy;&amp;fcy;&amp;icy;&amp;yacy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357336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тория легкой атле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авайте же углубимся в древность и узнаем где произошли истоки лёгкой атле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603600"/>
            <a:ext cx="38242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ель их созд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егкоатлетические упражнения проводились с целью физической подготовки, а также для проведения состязаний ещё в глубокой древ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ре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о история лёгкой атлетики, как принято считать, началась с соревнований в беге на олимпийских играх Древней Гре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4149720"/>
            <a:ext cx="327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временная лёгкая атлетика и её нач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временная лёгкая атлетика начала свой путь с отдельных попыток в разных странах проводить соревнования в беге, прыжках и метаниях. Зафиксированы результаты в прыжке с шестом в 1789 г. (1 м 83 см, Д. Буш, Германия), в беге на одну милю в 1792 г. (5.52,0, Ф. Поуэлл, Великобритания) и 440 ярдов в 1830 г. (2.06,0, А. Вуд, Великобритания), в прыжке в высоту в 1827 г. (1.57,5, А. Уилсон, Великобритания), в метании молота в 1838 г. (19 м 71 см, Район, Ирландия), в толкании ядра в 1839 г. (8 м 61 см, Т. Каррадис, Канада)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зднее в программу соревнований стали включать бег на короткие дистанции, бег с препятствиями, метание тяжести, а в 1851 г.— прыжки в длину и высоту с разбега. В 1864 г. между университетами Оксфорда и Кембриджа были проведены первые соревнования, ставшие в дальнейшем ежегодными, положившие начало традиционным двусторонним матча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бъединения легкоатлетических организации Британской имп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1865 г. был основан Лондонский атлетический клуб, популяризировавший лёгкую атлетику, проводивший соревнования и наблюдавший за соблюдением статуса о любительстве. Высший орган легкоатлетического спорта — любительская атлетическая ассоциация, — который объединил все легкоатлетические организации Британской империи, был организован в 1880 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6:27:44Z</dcterms:created>
  <dc:creator>Admin</dc:creator>
  <dc:description/>
  <dc:language>en-US</dc:language>
  <cp:lastModifiedBy>Admin</cp:lastModifiedBy>
  <dcterms:modified xsi:type="dcterms:W3CDTF">2011-03-17T07:58:19Z</dcterms:modified>
  <cp:revision>2</cp:revision>
  <dc:subject/>
  <dc:title>Презентация. На тему: Легкая Атлетика.</dc:title>
</cp:coreProperties>
</file>