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9386-80F7-4FEC-A468-BF16A6BB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50F-6490-4A8E-A4F8-80432F8F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618-8CFB-4070-AA8A-A83E8E71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92AD-B37A-4843-9159-DC4F841D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86B-C54A-4E71-A4BA-231F2C6A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08F-0638-44DE-BEE9-710BD8EE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BDB-4C2E-46DC-9371-C182336F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593-2FE8-48D3-B79C-C3022F31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C35-F617-4E5F-A191-E6B25109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694-2923-4359-A8C4-81226D96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ECC-64F9-4AD4-9BD9-1393525F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0A4-A219-4544-85BB-E76F8D7F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F95D-2046-4F1B-8C00-528B99F41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eco-ladoga.narod.ru/ladoga/images/nerpa1.jpg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1280" y="189000"/>
            <a:ext cx="8964720" cy="655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19280" y="1484280"/>
            <a:ext cx="59054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дожское озеро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18900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4941720"/>
            <a:ext cx="33847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Состав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учитель биологии и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высшей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Бочкова Ирина Анато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24000" y="3933720"/>
            <a:ext cx="4619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ая характерист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Картинка 12 из 17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2967120"/>
            <a:ext cx="5329080" cy="372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773680" y="1989000"/>
            <a:ext cx="3191040" cy="4724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484360" y="189000"/>
            <a:ext cx="64962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дожская нерпа -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несена в Красную книгу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Ладожское озеро. Февраль 2006 © Виктор Дубицкий"/>
          <p:cNvPicPr/>
          <p:nvPr/>
        </p:nvPicPr>
        <p:blipFill>
          <a:blip r:embed="rId1"/>
          <a:stretch/>
        </p:blipFill>
        <p:spPr>
          <a:xfrm>
            <a:off x="3132000" y="189000"/>
            <a:ext cx="2854440" cy="2151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Ладожское озеро. Февраль 2006 © Виктор Дубицкий"/>
          <p:cNvPicPr/>
          <p:nvPr/>
        </p:nvPicPr>
        <p:blipFill>
          <a:blip r:embed="rId2"/>
          <a:stretch/>
        </p:blipFill>
        <p:spPr>
          <a:xfrm>
            <a:off x="108000" y="2421000"/>
            <a:ext cx="2860560" cy="2154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Ладожское озеро. Февраль 2006 © Дмитрий Савватеев"/>
          <p:cNvPicPr/>
          <p:nvPr/>
        </p:nvPicPr>
        <p:blipFill>
          <a:blip r:embed="rId3"/>
          <a:stretch/>
        </p:blipFill>
        <p:spPr>
          <a:xfrm>
            <a:off x="6124680" y="189000"/>
            <a:ext cx="2840040" cy="2139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Ладожское озеро. Февраль 2006 © Татьяна Воробьева"/>
          <p:cNvPicPr/>
          <p:nvPr/>
        </p:nvPicPr>
        <p:blipFill>
          <a:blip r:embed="rId4"/>
          <a:stretch/>
        </p:blipFill>
        <p:spPr>
          <a:xfrm>
            <a:off x="6124680" y="2441520"/>
            <a:ext cx="2840040" cy="2139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Ладожское озеро. Февраль 2006 © Татьяна Воробьева"/>
          <p:cNvPicPr/>
          <p:nvPr/>
        </p:nvPicPr>
        <p:blipFill>
          <a:blip r:embed="rId5"/>
          <a:stretch/>
        </p:blipFill>
        <p:spPr>
          <a:xfrm>
            <a:off x="6156360" y="4653000"/>
            <a:ext cx="2840040" cy="2139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Ладожское озеро. Февраль 2006 © Татьяна Воробьева"/>
          <p:cNvPicPr/>
          <p:nvPr/>
        </p:nvPicPr>
        <p:blipFill>
          <a:blip r:embed="rId6"/>
          <a:stretch/>
        </p:blipFill>
        <p:spPr>
          <a:xfrm>
            <a:off x="3132000" y="4659480"/>
            <a:ext cx="2860920" cy="2154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Ладожское озеро. Февраль 2006 © Виктор Дубицкий"/>
          <p:cNvPicPr/>
          <p:nvPr/>
        </p:nvPicPr>
        <p:blipFill>
          <a:blip r:embed="rId7"/>
          <a:stretch/>
        </p:blipFill>
        <p:spPr>
          <a:xfrm>
            <a:off x="108000" y="115920"/>
            <a:ext cx="2854440" cy="2151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Ладожское озеро. Февраль 2006 © Виктор Дубицкий"/>
          <p:cNvPicPr/>
          <p:nvPr/>
        </p:nvPicPr>
        <p:blipFill>
          <a:blip r:embed="rId8"/>
          <a:stretch/>
        </p:blipFill>
        <p:spPr>
          <a:xfrm>
            <a:off x="3132000" y="2421000"/>
            <a:ext cx="2860920" cy="2154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Ладожское озеро. Февраль 2006 © Виктор Дубицкий"/>
          <p:cNvPicPr/>
          <p:nvPr/>
        </p:nvPicPr>
        <p:blipFill>
          <a:blip r:embed="rId9"/>
          <a:stretch/>
        </p:blipFill>
        <p:spPr>
          <a:xfrm>
            <a:off x="108000" y="4653000"/>
            <a:ext cx="2860560" cy="2154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692360" y="1628640"/>
            <a:ext cx="5545080" cy="14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зеро зимой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84720" y="115920"/>
            <a:ext cx="2927520" cy="3605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65600" y="3322800"/>
            <a:ext cx="5343480" cy="3490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5715000" cy="404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01520" y="3573360"/>
            <a:ext cx="2166840" cy="3240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854360" y="115920"/>
            <a:ext cx="444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зеро судоход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979640" y="4664160"/>
            <a:ext cx="30099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640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763640" y="189000"/>
            <a:ext cx="532764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дожское озер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гато островам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около 660 остров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северной части озера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Ладожское озеро. Восточный берег острова Суури-Мустасаари   [74 Kb]"/>
          <p:cNvPicPr/>
          <p:nvPr/>
        </p:nvPicPr>
        <p:blipFill>
          <a:blip r:embed="rId1"/>
          <a:stretch/>
        </p:blipFill>
        <p:spPr>
          <a:xfrm>
            <a:off x="324000" y="189000"/>
            <a:ext cx="2127240" cy="2127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Ладожское озеро. Вид с мыса Маннунниеми на остров Хауккасаари  [108 Kb]"/>
          <p:cNvPicPr/>
          <p:nvPr/>
        </p:nvPicPr>
        <p:blipFill>
          <a:blip r:embed="rId2"/>
          <a:stretch/>
        </p:blipFill>
        <p:spPr>
          <a:xfrm>
            <a:off x="324000" y="4653000"/>
            <a:ext cx="2147760" cy="214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Ладожское озеро. Остров Кильпола, озеро Ала-Пусулампи  [69 Kb]"/>
          <p:cNvPicPr/>
          <p:nvPr/>
        </p:nvPicPr>
        <p:blipFill>
          <a:blip r:embed="rId3"/>
          <a:stretch/>
        </p:blipFill>
        <p:spPr>
          <a:xfrm>
            <a:off x="684360" y="2421000"/>
            <a:ext cx="2147760" cy="2147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Ладожское озеро. Вид с мыса Васиккахайянниеми (остров Тимонсаари) на остров Кухка  [72 Kb]"/>
          <p:cNvPicPr/>
          <p:nvPr/>
        </p:nvPicPr>
        <p:blipFill>
          <a:blip r:embed="rId4"/>
          <a:stretch/>
        </p:blipFill>
        <p:spPr>
          <a:xfrm>
            <a:off x="3564000" y="4653000"/>
            <a:ext cx="2147760" cy="2147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Ладожское озеро. Река Иийоки  [88 Kb]"/>
          <p:cNvPicPr/>
          <p:nvPr/>
        </p:nvPicPr>
        <p:blipFill>
          <a:blip r:embed="rId5"/>
          <a:stretch/>
        </p:blipFill>
        <p:spPr>
          <a:xfrm>
            <a:off x="6804000" y="189000"/>
            <a:ext cx="2147760" cy="2147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Ладожское озеро. В заливе Рупитсунлахти   [65 Kb]"/>
          <p:cNvPicPr/>
          <p:nvPr/>
        </p:nvPicPr>
        <p:blipFill>
          <a:blip r:embed="rId6"/>
          <a:stretch/>
        </p:blipFill>
        <p:spPr>
          <a:xfrm>
            <a:off x="3564000" y="189000"/>
            <a:ext cx="2147760" cy="2147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Ладожское озеро. В заливе Хёнтсхё   [41 Kb]"/>
          <p:cNvPicPr/>
          <p:nvPr/>
        </p:nvPicPr>
        <p:blipFill>
          <a:blip r:embed="rId7"/>
          <a:stretch/>
        </p:blipFill>
        <p:spPr>
          <a:xfrm>
            <a:off x="6732720" y="4653000"/>
            <a:ext cx="2147760" cy="2147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Ладожское озеро. Вид с острова Коскелосаари на остров Тимонсаари   [76 Kb]"/>
          <p:cNvPicPr/>
          <p:nvPr/>
        </p:nvPicPr>
        <p:blipFill>
          <a:blip r:embed="rId8"/>
          <a:stretch/>
        </p:blipFill>
        <p:spPr>
          <a:xfrm>
            <a:off x="6443640" y="2421000"/>
            <a:ext cx="2147760" cy="2147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Ладожское озеро. Полуостров Кулхониеми, ручей Саариойя   [81 Kb]"/>
          <p:cNvPicPr/>
          <p:nvPr/>
        </p:nvPicPr>
        <p:blipFill>
          <a:blip r:embed="rId9"/>
          <a:stretch/>
        </p:blipFill>
        <p:spPr>
          <a:xfrm>
            <a:off x="3564000" y="2421000"/>
            <a:ext cx="2147760" cy="2147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611280" y="1413000"/>
            <a:ext cx="7993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херы - скалистые острова, 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делённые узкими проливами и заливами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1280" y="44280"/>
            <a:ext cx="8964720" cy="6724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763640" y="333360"/>
            <a:ext cx="5400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дожское озеро -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е большое озер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вроп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893080" cy="666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Характеристика озе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лина с юга на север – 219 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Ширина – 130 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тяжённость береговой линии – 1570 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лощадь – 18400кв.км, 457кв.км приходится на ост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лубина – 230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3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3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3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3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8000" y="90360"/>
            <a:ext cx="8964720" cy="6723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В Ладожское озеро через реку Свирь поступают воды Онежского озера, через реку Волхов – воды озера Ильмень, а также избыток вод многочисленных озёр республики Карелия и Ленинградской области РФ. Река Нева является единственной рекой, вытекающей из Ладожского озера. Впадает в озеро 35 р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2920" y="189000"/>
            <a:ext cx="8893080" cy="6553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258920" y="189000"/>
            <a:ext cx="6408720" cy="20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лиссельбургская 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епость (Орешек) 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у истока Невы из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дожского озера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893080" cy="667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042920" y="115920"/>
            <a:ext cx="677232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рены,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тавленные ледником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97800" cy="648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72160" y="3544920"/>
            <a:ext cx="4263840" cy="3197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400040" y="2495520"/>
            <a:ext cx="634392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дожское озеро -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-заповедник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Картинка 22 из 176"/>
          <p:cNvPicPr/>
          <p:nvPr/>
        </p:nvPicPr>
        <p:blipFill>
          <a:blip r:embed="rId1"/>
          <a:stretch/>
        </p:blipFill>
        <p:spPr>
          <a:xfrm>
            <a:off x="4643280" y="189000"/>
            <a:ext cx="4284720" cy="30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Картинка 117 из 176"/>
          <p:cNvPicPr/>
          <p:nvPr/>
        </p:nvPicPr>
        <p:blipFill>
          <a:blip r:embed="rId2"/>
          <a:stretch/>
        </p:blipFill>
        <p:spPr>
          <a:xfrm>
            <a:off x="108000" y="3429000"/>
            <a:ext cx="4284720" cy="3240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Картинка 150 из 176"/>
          <p:cNvPicPr/>
          <p:nvPr/>
        </p:nvPicPr>
        <p:blipFill>
          <a:blip r:embed="rId3"/>
          <a:stretch/>
        </p:blipFill>
        <p:spPr>
          <a:xfrm>
            <a:off x="4645080" y="3427560"/>
            <a:ext cx="4319640" cy="324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Картинка 67 из 176"/>
          <p:cNvPicPr/>
          <p:nvPr/>
        </p:nvPicPr>
        <p:blipFill>
          <a:blip r:embed="rId4"/>
          <a:stretch/>
        </p:blipFill>
        <p:spPr>
          <a:xfrm>
            <a:off x="108000" y="115920"/>
            <a:ext cx="4213080" cy="3162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971640" y="2565360"/>
            <a:ext cx="74581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никальная природа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Картинка 72 из 176"/>
          <p:cNvPicPr/>
          <p:nvPr/>
        </p:nvPicPr>
        <p:blipFill>
          <a:blip r:embed="rId1"/>
          <a:stretch/>
        </p:blipFill>
        <p:spPr>
          <a:xfrm>
            <a:off x="4284720" y="189000"/>
            <a:ext cx="4746600" cy="3216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58 из 176"/>
          <p:cNvPicPr/>
          <p:nvPr/>
        </p:nvPicPr>
        <p:blipFill>
          <a:blip r:embed="rId2"/>
          <a:stretch/>
        </p:blipFill>
        <p:spPr>
          <a:xfrm>
            <a:off x="250920" y="1039680"/>
            <a:ext cx="3859200" cy="4476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971640" y="404640"/>
            <a:ext cx="707688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никальная рыбалка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" descr="Картинка 101 из 176"/>
          <p:cNvPicPr/>
          <p:nvPr/>
        </p:nvPicPr>
        <p:blipFill>
          <a:blip r:embed="rId3"/>
          <a:stretch/>
        </p:blipFill>
        <p:spPr>
          <a:xfrm>
            <a:off x="4284720" y="3500280"/>
            <a:ext cx="46432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7:53:11Z</dcterms:created>
  <dc:creator>Бочкова И.А.</dc:creator>
  <dc:description/>
  <dc:language>en-US</dc:language>
  <cp:lastModifiedBy>User</cp:lastModifiedBy>
  <dcterms:modified xsi:type="dcterms:W3CDTF">2012-06-20T18:27:57Z</dcterms:modified>
  <cp:revision>19</cp:revision>
  <dc:subject/>
  <dc:title>Ладожское озеро.Общая характеристика</dc:title>
</cp:coreProperties>
</file>