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0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B3F3-0773-4E23-8A05-978EC574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FFE1-4DFA-4F35-9244-FA16970B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EFD-3FD1-4124-B189-2C39FBC4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8C31-9633-4454-B8E4-742832A3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03E3-F23B-465B-AFAB-B2650913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AED0-ACED-4816-9BF8-F158CEFB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E651-4292-4A3A-A12C-AB76E7D8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259C-73EE-4AE1-AECB-68A914B7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5235-EA24-43B0-B646-1A123AE0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ADA1-9029-486C-9B36-B66EFD1C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EE4C-82D2-40D8-B691-EBF89AFC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089-B981-418D-ACE4-9DBB3CD2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B7AC-A12C-4584-9960-869B273C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DE05-CE0B-460E-9A19-E4C1B958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B7A8-FD6E-42AE-B268-2440B4DA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32CB-59FD-427B-BA3E-7F0F0DA9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BF4C-3A39-449D-9D91-2622C730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E89B-CF45-410B-B27D-37966E79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A90-DE3E-40C8-8CC9-0241D91D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74CF-C2F4-4CA1-8CA6-75ADB8AD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E668-E6C8-46A3-9C79-3756F650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964A-69E6-436F-A542-7C17DFE8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1D9B-64D4-4392-B73B-1FD6BFCC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5430-472D-4BD0-9A7A-D20E9B05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B623-E742-49B3-9413-4DA5B66C8B9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A258-8C06-4D0F-B8B4-C8087602D5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-1.moifoto.ru/middle/1/854/1120199owe.jpg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hyperlink" Target="http://kirovsk.lenobl.ru/Pictures/big351968121571929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1280" y="189000"/>
            <a:ext cx="8964720" cy="6553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85" name=""/>
          <p:cNvSpPr txBox="1"/>
          <p:nvPr/>
        </p:nvSpPr>
        <p:spPr>
          <a:xfrm>
            <a:off x="1619280" y="1484280"/>
            <a:ext cx="59054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адожское озеро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18900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4987800"/>
            <a:ext cx="41036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Состав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учитель биологии и хим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высшей 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Бочкова Ирина Анатол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11280" y="4076640"/>
            <a:ext cx="4238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алаам. Ладога в В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Image"/>
          <p:cNvPicPr/>
          <p:nvPr/>
        </p:nvPicPr>
        <p:blipFill>
          <a:blip r:embed="rId2"/>
          <a:stretch/>
        </p:blipFill>
        <p:spPr>
          <a:xfrm>
            <a:off x="0" y="0"/>
            <a:ext cx="6116760" cy="6813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60280"/>
            <a:ext cx="338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Схема маршрутов по льду Ладожского оз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3041640"/>
            <a:ext cx="2808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(На ледовой дорог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было задействовано четыре тысячи автомобилей. Каждая четвертая, а это тысяча маши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«не вернулись из рейса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Потом удостовериться, что на дне лежат машины времен Великой Отечественной."/>
          <p:cNvPicPr/>
          <p:nvPr/>
        </p:nvPicPr>
        <p:blipFill>
          <a:blip r:embed="rId2"/>
          <a:stretch/>
        </p:blipFill>
        <p:spPr>
          <a:xfrm>
            <a:off x="4643280" y="3211560"/>
            <a:ext cx="4392720" cy="3602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21" name="" descr="Сначала на таких самолетах пришлось облететь Ладожское озеро, чтобы найти места затонувших грузовиков."/>
          <p:cNvPicPr/>
          <p:nvPr/>
        </p:nvPicPr>
        <p:blipFill>
          <a:blip r:embed="rId3"/>
          <a:stretch/>
        </p:blipFill>
        <p:spPr>
          <a:xfrm>
            <a:off x="179280" y="189000"/>
            <a:ext cx="4356360" cy="3624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2" name=""/>
          <p:cNvSpPr txBox="1"/>
          <p:nvPr/>
        </p:nvSpPr>
        <p:spPr>
          <a:xfrm>
            <a:off x="2268360" y="115920"/>
            <a:ext cx="66963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вестная трасса, 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ложенная по льду Ладожского озера,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единяла блокадный Ленинград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Большой землёй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79280" y="3932280"/>
            <a:ext cx="4321440" cy="2881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Картинка 5 из 1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50760"/>
            <a:ext cx="2523960" cy="3809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95400" y="3573360"/>
            <a:ext cx="4620960" cy="3221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788000" y="3573360"/>
            <a:ext cx="4248000" cy="3240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08000" y="71280"/>
            <a:ext cx="4608360" cy="3429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8" name=""/>
          <p:cNvSpPr txBox="1"/>
          <p:nvPr/>
        </p:nvSpPr>
        <p:spPr>
          <a:xfrm>
            <a:off x="2124000" y="404640"/>
            <a:ext cx="489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Дорога жизни"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д. Осиновец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2349360"/>
            <a:ext cx="43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Из этой деревни в ноябре 1941г. началась ледовая трасса по Ладожскому оз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24000" y="333360"/>
            <a:ext cx="42051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амятники в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ревне Дусье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24360" y="2976480"/>
            <a:ext cx="5019480" cy="3765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32" name="" descr="Памятник неизвестному шоферу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3600" y="2349360"/>
            <a:ext cx="3683160" cy="4410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4643280" y="115920"/>
            <a:ext cx="45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Через д. Дусьево проходила сухопутная часть «Дороги жизн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Картинка 4 из 2007"/>
          <p:cNvPicPr/>
          <p:nvPr/>
        </p:nvPicPr>
        <p:blipFill>
          <a:blip r:embed="rId2"/>
          <a:stretch/>
        </p:blipFill>
        <p:spPr>
          <a:xfrm>
            <a:off x="179280" y="2646360"/>
            <a:ext cx="5905440" cy="40449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327640" y="189000"/>
            <a:ext cx="3648240" cy="5545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6" name=""/>
          <p:cNvSpPr txBox="1"/>
          <p:nvPr/>
        </p:nvSpPr>
        <p:spPr>
          <a:xfrm>
            <a:off x="250920" y="189000"/>
            <a:ext cx="525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тров Сухо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227640" y="4548240"/>
            <a:ext cx="2737080" cy="2120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179280" y="907920"/>
            <a:ext cx="547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Насыпной остров времён Петра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. Длина 90м, ширина 60м. Гарнизон состоял из 60 человек. Приняли бой 22 октября 1942г., сохранили «Дорогу жиз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Картинка 10 из 2007"/>
          <p:cNvPicPr/>
          <p:nvPr/>
        </p:nvPicPr>
        <p:blipFill>
          <a:blip r:embed="rId2"/>
          <a:stretch/>
        </p:blipFill>
        <p:spPr>
          <a:xfrm>
            <a:off x="2124000" y="2924280"/>
            <a:ext cx="4581720" cy="3809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40" name="" descr="Картинка 2 из 2007"/>
          <p:cNvPicPr/>
          <p:nvPr/>
        </p:nvPicPr>
        <p:blipFill>
          <a:blip r:embed="rId3"/>
          <a:stretch/>
        </p:blipFill>
        <p:spPr>
          <a:xfrm>
            <a:off x="6084720" y="189000"/>
            <a:ext cx="2752920" cy="38224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41" name="" descr="Картинка 8 из 2007"/>
          <p:cNvPicPr/>
          <p:nvPr/>
        </p:nvPicPr>
        <p:blipFill>
          <a:blip r:embed="rId4"/>
          <a:stretch/>
        </p:blipFill>
        <p:spPr>
          <a:xfrm>
            <a:off x="250920" y="260280"/>
            <a:ext cx="2523960" cy="3810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42" name=""/>
          <p:cNvSpPr txBox="1"/>
          <p:nvPr/>
        </p:nvSpPr>
        <p:spPr>
          <a:xfrm>
            <a:off x="2484360" y="404640"/>
            <a:ext cx="3959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тров Сух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 Ленингра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4437000"/>
            <a:ext cx="158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И.К.Гусев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комендант ост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5589720"/>
            <a:ext cx="19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Схема боя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острова Сух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48360" y="4292640"/>
            <a:ext cx="18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Маяк ост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Сух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419640" y="1989000"/>
            <a:ext cx="1904760" cy="1476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Картинка 6 из 23"/>
          <p:cNvPicPr/>
          <p:nvPr/>
        </p:nvPicPr>
        <p:blipFill>
          <a:blip r:embed="rId2"/>
          <a:stretch/>
        </p:blipFill>
        <p:spPr>
          <a:xfrm>
            <a:off x="108000" y="189000"/>
            <a:ext cx="4645080" cy="3486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3249720"/>
            <a:ext cx="4441680" cy="3332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08000" y="3789360"/>
            <a:ext cx="4267080" cy="2952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50" name=""/>
          <p:cNvSpPr txBox="1"/>
          <p:nvPr/>
        </p:nvSpPr>
        <p:spPr>
          <a:xfrm>
            <a:off x="4859280" y="1052640"/>
            <a:ext cx="381960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й-диора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Прорыв блокады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нинград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Картинка 20 из 85"/>
          <p:cNvPicPr/>
          <p:nvPr/>
        </p:nvPicPr>
        <p:blipFill>
          <a:blip r:embed="rId2"/>
          <a:stretch/>
        </p:blipFill>
        <p:spPr>
          <a:xfrm>
            <a:off x="179280" y="311040"/>
            <a:ext cx="4392720" cy="3070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79280" y="3573360"/>
            <a:ext cx="4321440" cy="3241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716360" y="1052640"/>
            <a:ext cx="4321440" cy="2411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4714920" y="3573360"/>
            <a:ext cx="4321080" cy="3213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55" name=""/>
          <p:cNvSpPr txBox="1"/>
          <p:nvPr/>
        </p:nvSpPr>
        <p:spPr>
          <a:xfrm>
            <a:off x="3924360" y="115920"/>
            <a:ext cx="486720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нки,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тановленные около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зея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1484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(всего установлено 7 танк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7440" y="1773360"/>
            <a:ext cx="3981600" cy="4895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4284720" y="189000"/>
            <a:ext cx="4608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Архипелаг находится в северо-западной части Ладожского озера. Состоит из о.Валаам (28кв.м) и более чем 50 мелких островов. Общая площадь 36кв.м. Берега изрезаны, много бухт, заливов, отвесных гранитных утё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79280" y="-387360"/>
            <a:ext cx="4319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алаамский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рхипелаг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Картинка 23 из 14427"/>
          <p:cNvPicPr/>
          <p:nvPr/>
        </p:nvPicPr>
        <p:blipFill>
          <a:blip r:embed="rId2"/>
          <a:stretch/>
        </p:blipFill>
        <p:spPr>
          <a:xfrm>
            <a:off x="142920" y="3049560"/>
            <a:ext cx="4933800" cy="3656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3" name=""/>
          <p:cNvSpPr txBox="1"/>
          <p:nvPr/>
        </p:nvSpPr>
        <p:spPr>
          <a:xfrm>
            <a:off x="179280" y="479520"/>
            <a:ext cx="3695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 сверху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211640" y="189000"/>
            <a:ext cx="4824360" cy="36068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Картинка 2 из 14427"/>
          <p:cNvPicPr/>
          <p:nvPr/>
        </p:nvPicPr>
        <p:blipFill>
          <a:blip r:embed="rId2"/>
          <a:stretch/>
        </p:blipFill>
        <p:spPr>
          <a:xfrm>
            <a:off x="395280" y="474840"/>
            <a:ext cx="8353440" cy="6267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6" name=""/>
          <p:cNvSpPr txBox="1"/>
          <p:nvPr/>
        </p:nvSpPr>
        <p:spPr>
          <a:xfrm>
            <a:off x="900000" y="189000"/>
            <a:ext cx="72676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о -Преображенский монастыр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skit73.jpg (78 Kb)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624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8" name=""/>
          <p:cNvSpPr txBox="1"/>
          <p:nvPr/>
        </p:nvSpPr>
        <p:spPr>
          <a:xfrm>
            <a:off x="250920" y="44280"/>
            <a:ext cx="8497800" cy="247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иты -небольшие общежития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 нескольких келий, устраевавшиеся в отдалении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 монастыря для монахов-отшельников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360" y="-360"/>
            <a:ext cx="234000" cy="400680"/>
          </a:xfrm>
          <a:prstGeom prst="rect">
            <a:avLst/>
          </a:prstGeom>
          <a:solidFill>
            <a:srgbClr val="b6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90000" tIns="792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60720" y="27082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(всего 10 скит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skit1.jpg (12446 bytes)"/>
          <p:cNvPicPr/>
          <p:nvPr/>
        </p:nvPicPr>
        <p:blipFill>
          <a:blip r:embed="rId2"/>
          <a:stretch/>
        </p:blipFill>
        <p:spPr>
          <a:xfrm>
            <a:off x="4788000" y="4154400"/>
            <a:ext cx="4248000" cy="2587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2" name="" descr="skit11.jpg (11346 bytes)"/>
          <p:cNvPicPr/>
          <p:nvPr/>
        </p:nvPicPr>
        <p:blipFill>
          <a:blip r:embed="rId3"/>
          <a:stretch/>
        </p:blipFill>
        <p:spPr>
          <a:xfrm>
            <a:off x="108000" y="766800"/>
            <a:ext cx="4600440" cy="5975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4427640" y="44280"/>
            <a:ext cx="4465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Arial"/>
              </a:rPr>
              <a:t>Скит во имя святого Иоанна Предтеч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skit2b.jpg (94446 bytes)"/>
          <p:cNvPicPr/>
          <p:nvPr/>
        </p:nvPicPr>
        <p:blipFill>
          <a:blip r:embed="rId2"/>
          <a:stretch/>
        </p:blipFill>
        <p:spPr>
          <a:xfrm>
            <a:off x="3564000" y="189000"/>
            <a:ext cx="5402160" cy="3762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5" name="" descr="skit21.jpg (10446 bytes)"/>
          <p:cNvPicPr/>
          <p:nvPr/>
        </p:nvPicPr>
        <p:blipFill>
          <a:blip r:embed="rId3"/>
          <a:stretch/>
        </p:blipFill>
        <p:spPr>
          <a:xfrm>
            <a:off x="36360" y="3672000"/>
            <a:ext cx="4680000" cy="3141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6" name="" descr="skit22.jpg (93 Kb)"/>
          <p:cNvPicPr/>
          <p:nvPr/>
        </p:nvPicPr>
        <p:blipFill>
          <a:blip r:embed="rId4"/>
          <a:stretch/>
        </p:blipFill>
        <p:spPr>
          <a:xfrm>
            <a:off x="4859280" y="4087800"/>
            <a:ext cx="4105440" cy="2654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0" y="709560"/>
            <a:ext cx="421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00"/>
                </a:solidFill>
                <a:latin typeface="Arial"/>
              </a:rPr>
              <a:t>Скит во имя воскресения Христ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skit91.jpg (47 Kb)"/>
          <p:cNvPicPr/>
          <p:nvPr/>
        </p:nvPicPr>
        <p:blipFill>
          <a:blip r:embed="rId2"/>
          <a:stretch/>
        </p:blipFill>
        <p:spPr>
          <a:xfrm>
            <a:off x="179280" y="260280"/>
            <a:ext cx="4897440" cy="2506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9" name="" descr="skit92.jpg (92 Kb)"/>
          <p:cNvPicPr/>
          <p:nvPr/>
        </p:nvPicPr>
        <p:blipFill>
          <a:blip r:embed="rId3"/>
          <a:stretch/>
        </p:blipFill>
        <p:spPr>
          <a:xfrm>
            <a:off x="179280" y="2852640"/>
            <a:ext cx="4969080" cy="3938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0" name="" descr="skit93.jpg (102 Kb)"/>
          <p:cNvPicPr/>
          <p:nvPr/>
        </p:nvPicPr>
        <p:blipFill>
          <a:blip r:embed="rId4"/>
          <a:stretch/>
        </p:blipFill>
        <p:spPr>
          <a:xfrm>
            <a:off x="5219640" y="1413000"/>
            <a:ext cx="3853080" cy="5371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4284720" y="0"/>
            <a:ext cx="4535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Скит преподобного Александра Свир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080" y="112680"/>
            <a:ext cx="4381560" cy="6629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572000" y="3933720"/>
            <a:ext cx="4381560" cy="2667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003640" y="260280"/>
            <a:ext cx="3600720" cy="30369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5" name=""/>
          <p:cNvSpPr txBox="1"/>
          <p:nvPr/>
        </p:nvSpPr>
        <p:spPr>
          <a:xfrm>
            <a:off x="2556000" y="620640"/>
            <a:ext cx="42084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рога жизн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льду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адожского озе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"/>
          <p:cNvSpPr/>
          <p:nvPr/>
        </p:nvSpPr>
        <p:spPr>
          <a:xfrm>
            <a:off x="1042920" y="33310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(150 дней - с 22 ноября 1941г. по 24 апреля 1942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7:53:11Z</dcterms:created>
  <dc:creator>Бочкова И.А.</dc:creator>
  <dc:description/>
  <dc:language>en-US</dc:language>
  <cp:lastModifiedBy>User</cp:lastModifiedBy>
  <dcterms:modified xsi:type="dcterms:W3CDTF">2012-06-20T18:58:14Z</dcterms:modified>
  <cp:revision>29</cp:revision>
  <dc:subject/>
  <dc:title>Ладожское озеро. Валаам. Ладога в ВОВ</dc:title>
</cp:coreProperties>
</file>