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2B7-A1F5-488B-BBCD-AC3A19B7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77E-A2B9-4A71-8C07-344D5E08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28E-0DA5-4CFC-AB71-AD745BF0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3BA-F616-4695-9683-BEB18BCA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08BE-F12E-4443-AB7D-39E0D165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F247-775A-4163-91DB-100A513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7EA-B7FB-49A9-9008-504E9F5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A9C-3FB0-4801-8567-37719CA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CBB-28AF-4EA5-8C4F-7F888C5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FFC-C05E-469D-9C93-DA09B5FA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4335-8472-4F6E-B06F-16811BEA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C9D-2BEB-4FD3-8558-FFCCC57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26D-4341-4ADF-806A-3AE7B7E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A12-54AA-4F70-B13D-3243683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3E0-223B-4AC5-AF6E-A8AE654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E7E-271D-495E-BF21-88714AE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D6E8-4A21-45BB-B6FB-43AD10B3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8CE-59BF-4954-8E66-39BCC481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7D3-2000-4516-8B59-3E77DF6C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86B-E8A5-4BB3-9DDC-7FCC51C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A06-C119-42BB-B04E-D9F5152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165-59F5-4759-BDFB-2A2C125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2D9-C3E7-49D9-A81D-CD08BEE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D03-3EF1-4B35-BDBD-357572D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A35-F7CE-42B8-97D1-1A561776B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6D7-D46E-4E1F-BD06-5A95614147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-1.moifoto.ru/middle/1/854/1120199owe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kirovsk.lenobl.ru/Pictures/big351968121571929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8964720" cy="655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1619280" y="1484280"/>
            <a:ext cx="5905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8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4987800"/>
            <a:ext cx="4103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11280" y="4076640"/>
            <a:ext cx="423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лаам. Ладога в 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Image"/>
          <p:cNvPicPr/>
          <p:nvPr/>
        </p:nvPicPr>
        <p:blipFill>
          <a:blip r:embed="rId2"/>
          <a:stretch/>
        </p:blipFill>
        <p:spPr>
          <a:xfrm>
            <a:off x="0" y="0"/>
            <a:ext cx="6116760" cy="681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6028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Схема маршрутов по льду Ладожского оз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3041640"/>
            <a:ext cx="280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(На ледовой доро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было задействовано четыре тысячи автомобилей. Каждая четвертая, а это тысяча маш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«не вернулись из рейса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Потом удостовериться, что на дне лежат машины времен Великой Отечественной."/>
          <p:cNvPicPr/>
          <p:nvPr/>
        </p:nvPicPr>
        <p:blipFill>
          <a:blip r:embed="rId2"/>
          <a:stretch/>
        </p:blipFill>
        <p:spPr>
          <a:xfrm>
            <a:off x="4643280" y="3211560"/>
            <a:ext cx="4392720" cy="360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Сначала на таких самолетах пришлось облететь Ладожское озеро, чтобы найти места затонувших грузовиков."/>
          <p:cNvPicPr/>
          <p:nvPr/>
        </p:nvPicPr>
        <p:blipFill>
          <a:blip r:embed="rId3"/>
          <a:stretch/>
        </p:blipFill>
        <p:spPr>
          <a:xfrm>
            <a:off x="179280" y="189000"/>
            <a:ext cx="4356360" cy="3624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2268360" y="115920"/>
            <a:ext cx="6696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вестная трасса,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ложенная по льду Ладожского озера,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единяла блокадный 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Большой землё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79280" y="3932280"/>
            <a:ext cx="4321440" cy="288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Картинка 5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50760"/>
            <a:ext cx="2523960" cy="380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95400" y="3573360"/>
            <a:ext cx="4620960" cy="322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88000" y="3573360"/>
            <a:ext cx="4248000" cy="324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08000" y="71280"/>
            <a:ext cx="4608360" cy="3429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8" name=""/>
          <p:cNvSpPr txBox="1"/>
          <p:nvPr/>
        </p:nvSpPr>
        <p:spPr>
          <a:xfrm>
            <a:off x="2124000" y="40464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орога жизни"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. Осиновец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34936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з этой деревни в ноябре 1941г. началась ледовая трасса по Ладожскому оз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4000" y="333360"/>
            <a:ext cx="4205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и 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евне Дусье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24360" y="2976480"/>
            <a:ext cx="5019480" cy="376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2" name="" descr="Памятник неизвестному шоферу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600" y="2349360"/>
            <a:ext cx="3683160" cy="441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643280" y="1159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Через д. Дусьево проходила сухопутная часть «Дороги жиз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Картинка 4 из 2007"/>
          <p:cNvPicPr/>
          <p:nvPr/>
        </p:nvPicPr>
        <p:blipFill>
          <a:blip r:embed="rId2"/>
          <a:stretch/>
        </p:blipFill>
        <p:spPr>
          <a:xfrm>
            <a:off x="179280" y="2646360"/>
            <a:ext cx="5905440" cy="4044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27640" y="189000"/>
            <a:ext cx="3648240" cy="554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250920" y="18900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ов Сух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27640" y="4548240"/>
            <a:ext cx="2737080" cy="2120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79280" y="907920"/>
            <a:ext cx="54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Насыпной остров времён Петр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. Длина 90м, ширина 60м. Гарнизон состоял из 60 человек. Приняли бой 22 октября 1942г., сохранили «Дорогу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Картинка 10 из 2007"/>
          <p:cNvPicPr/>
          <p:nvPr/>
        </p:nvPicPr>
        <p:blipFill>
          <a:blip r:embed="rId2"/>
          <a:stretch/>
        </p:blipFill>
        <p:spPr>
          <a:xfrm>
            <a:off x="2124000" y="2924280"/>
            <a:ext cx="4581720" cy="380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0" name="" descr="Картинка 2 из 2007"/>
          <p:cNvPicPr/>
          <p:nvPr/>
        </p:nvPicPr>
        <p:blipFill>
          <a:blip r:embed="rId3"/>
          <a:stretch/>
        </p:blipFill>
        <p:spPr>
          <a:xfrm>
            <a:off x="6084720" y="189000"/>
            <a:ext cx="2752920" cy="38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1" name="" descr="Картинка 8 из 2007"/>
          <p:cNvPicPr/>
          <p:nvPr/>
        </p:nvPicPr>
        <p:blipFill>
          <a:blip r:embed="rId4"/>
          <a:stretch/>
        </p:blipFill>
        <p:spPr>
          <a:xfrm>
            <a:off x="250920" y="260280"/>
            <a:ext cx="2523960" cy="3810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2484360" y="404640"/>
            <a:ext cx="3959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ов Сух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 Ленингра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437000"/>
            <a:ext cx="158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И.К.Гусе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комендант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58972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Схема боя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острова 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429264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Маяк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1904760" cy="1476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6 из 23"/>
          <p:cNvPicPr/>
          <p:nvPr/>
        </p:nvPicPr>
        <p:blipFill>
          <a:blip r:embed="rId2"/>
          <a:stretch/>
        </p:blipFill>
        <p:spPr>
          <a:xfrm>
            <a:off x="108000" y="189000"/>
            <a:ext cx="4645080" cy="348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3249720"/>
            <a:ext cx="4441680" cy="333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08000" y="3789360"/>
            <a:ext cx="4267080" cy="29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>
            <a:off x="4859280" y="1052640"/>
            <a:ext cx="38196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-диора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рыв блокад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Картинка 20 из 85"/>
          <p:cNvPicPr/>
          <p:nvPr/>
        </p:nvPicPr>
        <p:blipFill>
          <a:blip r:embed="rId2"/>
          <a:stretch/>
        </p:blipFill>
        <p:spPr>
          <a:xfrm>
            <a:off x="179280" y="311040"/>
            <a:ext cx="4392720" cy="3070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321440" cy="3241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16360" y="1052640"/>
            <a:ext cx="4321440" cy="24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4714920" y="3573360"/>
            <a:ext cx="4321080" cy="321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24360" y="115920"/>
            <a:ext cx="48672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ки,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ановленные около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484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(всего установлено 7 тан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7440" y="1773360"/>
            <a:ext cx="3981600" cy="489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284720" y="189000"/>
            <a:ext cx="460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рхипелаг находится в северо-западной части Ладожского озера. Состоит из о.Валаам (28кв.м) и более чем 50 мелких островов. Общая площадь 36кв.м. Берега изрезаны, много бухт, заливов, отвесных гранитных утё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-387360"/>
            <a:ext cx="43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лаамски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пелаг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Картинка 23 из 14427"/>
          <p:cNvPicPr/>
          <p:nvPr/>
        </p:nvPicPr>
        <p:blipFill>
          <a:blip r:embed="rId2"/>
          <a:stretch/>
        </p:blipFill>
        <p:spPr>
          <a:xfrm>
            <a:off x="142920" y="3049560"/>
            <a:ext cx="4933800" cy="3656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79280" y="479520"/>
            <a:ext cx="3695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 сверху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11640" y="189000"/>
            <a:ext cx="4824360" cy="3606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2 из 14427"/>
          <p:cNvPicPr/>
          <p:nvPr/>
        </p:nvPicPr>
        <p:blipFill>
          <a:blip r:embed="rId2"/>
          <a:stretch/>
        </p:blipFill>
        <p:spPr>
          <a:xfrm>
            <a:off x="395280" y="474840"/>
            <a:ext cx="8353440" cy="62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900000" y="189000"/>
            <a:ext cx="726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о -Преображенский монасты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skit73.jpg (78 Kb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2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250920" y="44280"/>
            <a:ext cx="849780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иты -небольшие общежит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нескольких келий, устраевавшиеся в отдалени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монастыря для монахов-отшельников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0" y="-360"/>
            <a:ext cx="234000" cy="400680"/>
          </a:xfrm>
          <a:prstGeom prst="rect">
            <a:avLst/>
          </a:prstGeom>
          <a:solidFill>
            <a:srgbClr val="b6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90000" tIns="792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270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(всего 10 ски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it1.jpg (12446 bytes)"/>
          <p:cNvPicPr/>
          <p:nvPr/>
        </p:nvPicPr>
        <p:blipFill>
          <a:blip r:embed="rId2"/>
          <a:stretch/>
        </p:blipFill>
        <p:spPr>
          <a:xfrm>
            <a:off x="4788000" y="4154400"/>
            <a:ext cx="4248000" cy="258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2" name="" descr="skit11.jpg (11346 bytes)"/>
          <p:cNvPicPr/>
          <p:nvPr/>
        </p:nvPicPr>
        <p:blipFill>
          <a:blip r:embed="rId3"/>
          <a:stretch/>
        </p:blipFill>
        <p:spPr>
          <a:xfrm>
            <a:off x="108000" y="766800"/>
            <a:ext cx="4600440" cy="597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427640" y="44280"/>
            <a:ext cx="446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Скит во имя святого Иоанна Предте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kit2b.jpg (94446 bytes)"/>
          <p:cNvPicPr/>
          <p:nvPr/>
        </p:nvPicPr>
        <p:blipFill>
          <a:blip r:embed="rId2"/>
          <a:stretch/>
        </p:blipFill>
        <p:spPr>
          <a:xfrm>
            <a:off x="3564000" y="189000"/>
            <a:ext cx="5402160" cy="376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skit21.jpg (10446 bytes)"/>
          <p:cNvPicPr/>
          <p:nvPr/>
        </p:nvPicPr>
        <p:blipFill>
          <a:blip r:embed="rId3"/>
          <a:stretch/>
        </p:blipFill>
        <p:spPr>
          <a:xfrm>
            <a:off x="36360" y="3672000"/>
            <a:ext cx="4680000" cy="3141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skit22.jpg (93 Kb)"/>
          <p:cNvPicPr/>
          <p:nvPr/>
        </p:nvPicPr>
        <p:blipFill>
          <a:blip r:embed="rId4"/>
          <a:stretch/>
        </p:blipFill>
        <p:spPr>
          <a:xfrm>
            <a:off x="4859280" y="4087800"/>
            <a:ext cx="4105440" cy="2654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0" y="709560"/>
            <a:ext cx="42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Скит во имя воскресения Христ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kit91.jpg (47 Kb)"/>
          <p:cNvPicPr/>
          <p:nvPr/>
        </p:nvPicPr>
        <p:blipFill>
          <a:blip r:embed="rId2"/>
          <a:stretch/>
        </p:blipFill>
        <p:spPr>
          <a:xfrm>
            <a:off x="179280" y="260280"/>
            <a:ext cx="4897440" cy="2506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9" name="" descr="skit92.jpg (92 Kb)"/>
          <p:cNvPicPr/>
          <p:nvPr/>
        </p:nvPicPr>
        <p:blipFill>
          <a:blip r:embed="rId3"/>
          <a:stretch/>
        </p:blipFill>
        <p:spPr>
          <a:xfrm>
            <a:off x="179280" y="2852640"/>
            <a:ext cx="4969080" cy="3938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" descr="skit93.jpg (102 Kb)"/>
          <p:cNvPicPr/>
          <p:nvPr/>
        </p:nvPicPr>
        <p:blipFill>
          <a:blip r:embed="rId4"/>
          <a:stretch/>
        </p:blipFill>
        <p:spPr>
          <a:xfrm>
            <a:off x="5219640" y="1413000"/>
            <a:ext cx="3853080" cy="5371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84720" y="0"/>
            <a:ext cx="453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Скит преподобного Александра Свир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080" y="112680"/>
            <a:ext cx="4381560" cy="6629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38156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600720" cy="303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2556000" y="620640"/>
            <a:ext cx="42084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рога жиз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льд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го озе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33310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150 дней - с 22 ноября 1941г. по 24 апреля 194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53:11Z</dcterms:created>
  <dc:creator>Бочкова И.А.</dc:creator>
  <dc:description/>
  <dc:language>en-US</dc:language>
  <cp:lastModifiedBy>User</cp:lastModifiedBy>
  <dcterms:modified xsi:type="dcterms:W3CDTF">2012-06-20T18:58:14Z</dcterms:modified>
  <cp:revision>29</cp:revision>
  <dc:subject/>
  <dc:title>Ладожское озеро. Валаам. Ладога в ВОВ</dc:title>
</cp:coreProperties>
</file>