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AD0-5532-4F23-825C-52BD572A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A660-F5BC-483D-A86F-5D112B9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A7A-5977-48F3-A2DF-2134BBE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417-208A-4478-A9AB-3E285FD2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D2E-9696-49E5-BE67-792F92D0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DFF-5F0B-409A-BB8D-37D076C9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5532-B14E-45B8-8C88-FCA4674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419-251F-4174-B1FF-FF589119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1D0-EB2C-49A2-8238-7250B97E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3056-BD5E-4609-B649-0C7911E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64F-A4F5-4CB7-AF23-2B5E592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D9A-4180-442D-BDB7-F252D5C3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905E-9856-460E-86B1-46489C8DF0C1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96880" y="1517760"/>
            <a:ext cx="814536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DSC02700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000160" y="0"/>
            <a:ext cx="310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Жеребьёв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DSC02694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928800" y="21420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иветствие жюри и соперник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DSC02703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928880" y="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твечаем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SC02720.JPG"/>
          <p:cNvPicPr/>
          <p:nvPr/>
        </p:nvPicPr>
        <p:blipFill>
          <a:blip r:embed="rId1"/>
          <a:stretch/>
        </p:blipFill>
        <p:spPr>
          <a:xfrm>
            <a:off x="642960" y="652320"/>
            <a:ext cx="4429080" cy="5764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5500800" y="1071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Упаковка подарк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DSC02773.JPG"/>
          <p:cNvPicPr/>
          <p:nvPr/>
        </p:nvPicPr>
        <p:blipFill>
          <a:blip r:embed="rId1"/>
          <a:stretch/>
        </p:blipFill>
        <p:spPr>
          <a:xfrm>
            <a:off x="642960" y="685800"/>
            <a:ext cx="3643200" cy="5172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4643280" y="1143000"/>
            <a:ext cx="42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rebuchet MS"/>
              </a:rPr>
              <a:t>Победа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DSC02712.JPG"/>
          <p:cNvPicPr/>
          <p:nvPr/>
        </p:nvPicPr>
        <p:blipFill>
          <a:blip r:embed="rId1"/>
          <a:stretch/>
        </p:blipFill>
        <p:spPr>
          <a:xfrm>
            <a:off x="685800" y="826920"/>
            <a:ext cx="7772400" cy="5202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928800" y="142920"/>
            <a:ext cx="578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rebuchet MS"/>
              </a:rPr>
              <a:t>Награжде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21:11Z</dcterms:created>
  <dc:creator>401-1</dc:creator>
  <dc:description/>
  <dc:language>en-US</dc:language>
  <cp:lastModifiedBy>401-1</cp:lastModifiedBy>
  <dcterms:modified xsi:type="dcterms:W3CDTF">2012-06-20T14:27:36Z</dcterms:modified>
  <cp:revision>7</cp:revision>
  <dc:subject/>
  <dc:title>Слайд 1</dc:title>
</cp:coreProperties>
</file>