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11E-070E-4086-930A-FF49C7B5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2FA-7DCA-4796-98CA-E4C16ADF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AA4-04A1-4808-8B68-BA054645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0BA-CC87-4B42-B5C4-5E40166E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67C-2A06-4658-A436-855F684E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B0C-C99F-4A06-8AB5-A259E5B6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EAB-9A60-4FC0-9FB6-3929A56A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210-169D-4BBA-9EA9-2058D8EF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8B7-4FCC-4F9B-975C-88EB8711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15F-F4F0-4CDF-BFCB-4FBC416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891-D42C-493D-9A50-6F2D3ED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53B-55D5-4EE6-91A3-EC8B82B6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40EB-ABA4-4E4D-A3AF-B90BC4E178AA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96880" y="1517760"/>
            <a:ext cx="8145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DSC02700.JPG"/>
          <p:cNvPicPr/>
          <p:nvPr/>
        </p:nvPicPr>
        <p:blipFill>
          <a:blip r:embed="rId1"/>
          <a:stretch/>
        </p:blipFill>
        <p:spPr>
          <a:xfrm>
            <a:off x="685800" y="826920"/>
            <a:ext cx="7772400" cy="5202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000160" y="0"/>
            <a:ext cx="310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Жеребьё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DSC02694.JPG"/>
          <p:cNvPicPr/>
          <p:nvPr/>
        </p:nvPicPr>
        <p:blipFill>
          <a:blip r:embed="rId1"/>
          <a:stretch/>
        </p:blipFill>
        <p:spPr>
          <a:xfrm>
            <a:off x="685800" y="826920"/>
            <a:ext cx="7772400" cy="5202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928800" y="21420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иветствие жюри и соперни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DSC02703.JPG"/>
          <p:cNvPicPr/>
          <p:nvPr/>
        </p:nvPicPr>
        <p:blipFill>
          <a:blip r:embed="rId1"/>
          <a:stretch/>
        </p:blipFill>
        <p:spPr>
          <a:xfrm>
            <a:off x="685800" y="826920"/>
            <a:ext cx="7772400" cy="5202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928880" y="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твечаем на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DSC02720.JPG"/>
          <p:cNvPicPr/>
          <p:nvPr/>
        </p:nvPicPr>
        <p:blipFill>
          <a:blip r:embed="rId1"/>
          <a:stretch/>
        </p:blipFill>
        <p:spPr>
          <a:xfrm>
            <a:off x="642960" y="652320"/>
            <a:ext cx="4429080" cy="5764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500800" y="10717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Упаковка подарк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DSC02773.JPG"/>
          <p:cNvPicPr/>
          <p:nvPr/>
        </p:nvPicPr>
        <p:blipFill>
          <a:blip r:embed="rId1"/>
          <a:stretch/>
        </p:blipFill>
        <p:spPr>
          <a:xfrm>
            <a:off x="642960" y="685800"/>
            <a:ext cx="3643200" cy="5172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4643280" y="1143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rebuchet MS"/>
              </a:rPr>
              <a:t>Победа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DSC02712.JPG"/>
          <p:cNvPicPr/>
          <p:nvPr/>
        </p:nvPicPr>
        <p:blipFill>
          <a:blip r:embed="rId1"/>
          <a:stretch/>
        </p:blipFill>
        <p:spPr>
          <a:xfrm>
            <a:off x="685800" y="826920"/>
            <a:ext cx="7772400" cy="5202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928800" y="142920"/>
            <a:ext cx="578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Награжде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3:21:11Z</dcterms:created>
  <dc:creator>401-1</dc:creator>
  <dc:description/>
  <dc:language>en-US</dc:language>
  <cp:lastModifiedBy>401-1</cp:lastModifiedBy>
  <dcterms:modified xsi:type="dcterms:W3CDTF">2012-06-20T14:27:36Z</dcterms:modified>
  <cp:revision>7</cp:revision>
  <dc:subject/>
  <dc:title>Слайд 1</dc:title>
</cp:coreProperties>
</file>