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595-E3F1-4AF4-9A6C-93C4A189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F43-F024-4838-8CBA-680442FF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E94-A93B-4298-8F08-3233C579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C9A-1644-4952-AAC0-326C99CF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32824-5583-4BA2-8406-39D21263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0237C-C9F2-4450-8092-285E636F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CC605-BC7C-425D-B09B-B0DAF6A1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5D4CB-1404-452E-9E96-9727F73C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25CFA-0BBB-4013-914E-57133E89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9542C-9A86-4C63-B9BA-BA79AD87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CF89F-EF7F-46B8-82D8-2D609DB7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35A-49B4-4DCE-8038-441269D0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D8643-479F-4D91-AE4A-957C2565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C5288-F3BA-428B-889E-E7CCE09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20583-E342-48B0-AC5D-45CFDABC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37820-1D68-46CE-AB7F-469F63A1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541D1-CEF3-4B0E-8AC3-94F50CE7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ED9-E383-4F27-A811-4003C42C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3CD3-D12D-4519-9136-FF53AB4C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8E82-EC9D-46AC-9A1E-07528325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651-1688-4547-A079-5B29B8AF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AF4-48EB-4D9A-8463-AABEE761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B9F-38B7-477D-B8B1-3FE88F6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429-2692-471E-A2A3-7CFA9D9B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47C6-D852-4B12-AEBC-402230403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50E2-EF45-47BA-85AD-280D1B47B0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ahoma"/>
              </a:rPr>
              <a:t>Урок - иг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ahoma"/>
              </a:rPr>
              <a:t>«Морской бой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это часть одежды, в виде пришитого мешочка, для ношения при себе мелких вещей и денег.  Что эт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собрать  разновидности карманов из бумажных деталей кро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определить по образцам название карм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деталям кроя зарисовать кар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обрать последовательность обработки накладного кармана с отделочной   строчкой 1 м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обрать последовательность обработки накладного кармана с окантовочным ш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назовите термин машинной операции - соединения кармана с основной дета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«В карман за словом не полезет»  – что вы на это скаж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обрать последовательность обработки накладного кармана с круже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Цели данного урока: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Повторить и обобщить знания  учащихся п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пройденным тема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Внося элемент соревнования, активизировать деятельность учащихся на урок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Воспитание индивидуальной и коллективной ответственности за результат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Развивать профессиональный кругозор и интерес к предмету у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0" t="-7071" r="0" b="18859"/>
          <a:stretch/>
        </p:blipFill>
        <p:spPr>
          <a:xfrm>
            <a:off x="2627280" y="2852640"/>
            <a:ext cx="37623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обрать последовательность обработки накладного кармана с кант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ам перечислить ТУ обработки кар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763640" y="2927520"/>
            <a:ext cx="57247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26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9963" t="10777" r="11871" b="16020"/>
          <a:stretch/>
        </p:blipFill>
        <p:spPr>
          <a:xfrm>
            <a:off x="2843280" y="2798640"/>
            <a:ext cx="3249720" cy="405792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3"/>
          <p:cNvSpPr/>
          <p:nvPr/>
        </p:nvSpPr>
        <p:spPr>
          <a:xfrm>
            <a:off x="971640" y="184464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назовите термин ручной операции - соединения кармана с основной дета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«Не по карману…»,  а что в этом выражении мы имеем в вид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8063" t="1965" r="9797" b="30826"/>
          <a:stretch/>
        </p:blipFill>
        <p:spPr>
          <a:xfrm>
            <a:off x="2871720" y="2637000"/>
            <a:ext cx="32050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Какие карманы изображены на рисун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952640" y="2781360"/>
            <a:ext cx="5238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0435" r="0" b="19994"/>
          <a:stretch/>
        </p:blipFill>
        <p:spPr>
          <a:xfrm>
            <a:off x="2195640" y="2938320"/>
            <a:ext cx="43052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отгадайте загадку: выше колена, пониже пупка, дырка такая, что влезет р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Подготовка к урок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Оформить игровое по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делать кораб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наряды (картонные жетон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Составить вопросы и критерии оцени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еречислите виды отделок, которые можно использовать при обработке накладного кар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19749" t="13392" r="20132" b="0"/>
          <a:stretch/>
        </p:blipFill>
        <p:spPr>
          <a:xfrm>
            <a:off x="2843280" y="2990880"/>
            <a:ext cx="30240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карман изображен на рисун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37832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отгадайте ребус: эта деталь может использоваться при обработке кар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9600" spc="-1" strike="noStrike">
                <a:solidFill>
                  <a:srgbClr val="ffffff"/>
                </a:solidFill>
                <a:latin typeface="Tahoma"/>
              </a:rPr>
              <a:t>ОБ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11640" y="3284640"/>
            <a:ext cx="18381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у дать описание накладного кармана и ТУ на его выполн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2771640" y="3187800"/>
            <a:ext cx="33130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3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«В карман за словом не полезет»  – что вы на это скаж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Условия проведения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В игре участвуют 2 коман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Участники команд называют цифры от 1 до 30 и в названном порядке расставляют корабл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Команды вытягивают жребий, и определяется, кто первый делает хо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Участник выбирает корабль противника и прежде, чем сбить его должен ответить на вопрос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Если участник отвечает правильно, но не сбивает корабль, то баллы команде засчитываются, но ход переходит другой команд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Если команда затрудняется ответить, то ход переходит другой коман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Оценивание коман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Загадки и ребусы по 2 б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Вопросы и задания по 5 бал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ahoma"/>
              </a:rPr>
              <a:t>собрать последовательность обработки накладного кармана с отделочной   строчкой &gt; 5м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ahoma"/>
              </a:rPr>
              <a:t>определить дефекты обработки накладного кармана с отделочной строчкой 1 м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48392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по рисункам перечислить терминологию обработка карма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808280" y="2565360"/>
            <a:ext cx="5591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99"/>
                </a:solidFill>
                <a:latin typeface="Tahoma"/>
              </a:rPr>
              <a:t>Вопрос №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какой шов применяется при соединении кармана с основной детал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7:37:02Z</dcterms:created>
  <dc:creator>Юра</dc:creator>
  <dc:description/>
  <dc:language>en-US</dc:language>
  <cp:lastModifiedBy>Юра</cp:lastModifiedBy>
  <dcterms:modified xsi:type="dcterms:W3CDTF">2012-06-20T13:38:01Z</dcterms:modified>
  <cp:revision>16</cp:revision>
  <dc:subject/>
  <dc:title>Урок - игра</dc:title>
</cp:coreProperties>
</file>