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8735-ACBE-4B9A-9171-2302E985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32EB-6E7E-4775-985A-80912DF9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B179-3EE7-4425-8054-AD1AABDF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EC71-1AB6-4299-9753-1648950E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2367E-F1F8-4864-919E-3DE18052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38CC4-254E-4FAE-9EE1-25A8BE4B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15DE9-16EF-4368-99DB-D8CAE6C2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B667F-FA92-4EC3-9EB7-0123CA42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C959B-842A-40A3-BE86-13AADC02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7C7CE-85E0-4632-9D4B-4EFFF444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39DEB-E828-4908-8BF7-2B52626B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396A-C69B-4B5C-84CA-5E0E99E5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F6A8D-8C71-43EF-86C6-03020D3E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76F1C-B704-43DB-9807-727A2199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CE72C-C2AA-4D8D-BC98-DE7DCD4A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6D5B5-8EF9-4D40-B21D-80F6B5D6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55351-FC7D-47A9-9F95-A3531226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FB24-3276-4C73-B08A-C4D65999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326B-988B-4239-A871-97F063E6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3908-5AF5-44D7-9102-E0928404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119D-7425-4CE1-866F-7989292A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5965-9F97-4CA9-ADFB-08B2548C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7411-607B-4800-9F7D-87E2DABF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966B-2072-4402-9A39-DCE142A7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879E-163C-4206-8D6E-6E1F9932EC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125C-0CD6-4FA8-AF0F-62391BEB6A5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Урок - иг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ahoma"/>
              </a:rPr>
              <a:t>«Морской бой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61616"/>
                </a:solidFill>
                <a:latin typeface="Tahoma"/>
              </a:rPr>
              <a:t>это часть одежды, в виде пришитого мешочка, для ношения при себе мелких вещей и денег.  Что это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6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61616"/>
                </a:solidFill>
                <a:latin typeface="Tahoma"/>
              </a:rPr>
              <a:t>собрать  разновидности карманов из бумажных деталей кро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7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определить по образцам название карман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8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по деталям кроя зарисовать карм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9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собрать последовательность обработки накладного кармана с отделочной   строчкой 1 м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1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собрать последовательность обработки накладного кармана с окантовочным шв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1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назовите термин машинной операции - соединения кармана с основной детал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1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161616"/>
                </a:solidFill>
                <a:latin typeface="Tahoma"/>
              </a:rPr>
              <a:t>по рисунку дать описание накладного кармана и ТУ на его выполн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2340000" y="3068640"/>
            <a:ext cx="4608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1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«В карман за словом не полезет»  – что вы на это скажет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1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собрать последовательность обработки накладного кармана с кружев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Цели данного урока: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Повторить и обобщить знания  учащихся п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пройденным тема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Внося элемент соревнования, активизировать деятельность учащихся на урок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Воспитание индивидуальной и коллективной ответственности за результат работ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Развивать профессиональный кругозор и интерес к предмету у обучающих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1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по рисунку дать описание накладного кармана и ТУ на его выполн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rcRect l="0" t="-7071" r="0" b="18859"/>
          <a:stretch/>
        </p:blipFill>
        <p:spPr>
          <a:xfrm>
            <a:off x="2627280" y="2852640"/>
            <a:ext cx="37623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16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собрать последовательность обработки накладного кармана с кант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17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по рисункам перечислить ТУ обработки карм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763640" y="2927520"/>
            <a:ext cx="57247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18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2692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rcRect l="9963" t="10777" r="11871" b="16020"/>
          <a:stretch/>
        </p:blipFill>
        <p:spPr>
          <a:xfrm>
            <a:off x="2843280" y="2798640"/>
            <a:ext cx="3249720" cy="405792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3"/>
          <p:cNvSpPr/>
          <p:nvPr/>
        </p:nvSpPr>
        <p:spPr>
          <a:xfrm>
            <a:off x="971640" y="184464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161616"/>
                </a:solidFill>
                <a:latin typeface="Tahoma"/>
              </a:rPr>
              <a:t>по рисунку дать описание накладного кармана и ТУ на его выполн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19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назовите термин ручной операции - соединения кармана с основной детал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2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61616"/>
                </a:solidFill>
                <a:latin typeface="Tahoma"/>
              </a:rPr>
              <a:t>«Не по карману…»,  а что в этом выражении мы имеем в виду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2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по рисунку дать описание накладного кармана и ТУ на его выполн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rcRect l="8063" t="1965" r="9797" b="30826"/>
          <a:stretch/>
        </p:blipFill>
        <p:spPr>
          <a:xfrm>
            <a:off x="2871720" y="2637000"/>
            <a:ext cx="320508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2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Какие карманы изображены на рисун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1952640" y="2781360"/>
            <a:ext cx="52387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2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836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по рисунку дать описание накладного кармана и ТУ на его выполн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20435" r="0" b="19994"/>
          <a:stretch/>
        </p:blipFill>
        <p:spPr>
          <a:xfrm>
            <a:off x="2195640" y="2938320"/>
            <a:ext cx="43052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2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отгадайте загадку: выше колена, пониже пупка, дырка такая, что влезет ру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Подготовка к урок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Оформить игровое по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Сделать кораб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Снаряды (картонные жетоны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Составить вопросы и критерии оцени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2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перечислите виды отделок, которые можно использовать при обработке накладного карм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26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по рисунку дать описание накладного кармана и ТУ на его выполн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rcRect l="19749" t="13392" r="20132" b="0"/>
          <a:stretch/>
        </p:blipFill>
        <p:spPr>
          <a:xfrm>
            <a:off x="2843280" y="2990880"/>
            <a:ext cx="302400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27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й карман изображен на рисун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2484360" y="2781360"/>
            <a:ext cx="378324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28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отгадайте ребус: эта деталь может использоваться при обработке карм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9600" spc="-1" strike="noStrike">
                <a:solidFill>
                  <a:srgbClr val="ffffff"/>
                </a:solidFill>
                <a:latin typeface="Tahoma"/>
              </a:rPr>
              <a:t>ОБ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4211640" y="3284640"/>
            <a:ext cx="18381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29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по рисунку дать описание накладного кармана и ТУ на его выполн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2771640" y="3187800"/>
            <a:ext cx="33130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3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«В карман за словом не полезет»  – что вы на это скажет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Условия проведения иг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ahoma"/>
              </a:rPr>
              <a:t>В игре участвуют 2 команд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ahoma"/>
              </a:rPr>
              <a:t>Участники команд называют цифры от 1 до 30 и в названном порядке расставляют корабл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ahoma"/>
              </a:rPr>
              <a:t>Команды вытягивают жребий, и определяется, кто первый делает ход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ahoma"/>
              </a:rPr>
              <a:t>Участник выбирает корабль противника и прежде, чем сбить его должен ответить на вопрос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ahoma"/>
              </a:rPr>
              <a:t>Если участник отвечает правильно, но не сбивает корабль, то баллы команде засчитываются, но ход переходит другой команд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ahoma"/>
              </a:rPr>
              <a:t>Если команда затрудняется ответить, то ход переходит другой коман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Оценивание коман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Загадки и ребусы по 2 бал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Вопросы и задания по 5 балл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16"/>
                </a:solidFill>
                <a:latin typeface="Tahoma"/>
              </a:rPr>
              <a:t>собрать последовательность обработки накладного кармана с отделочной   строчкой &gt; 5м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16"/>
                </a:solidFill>
                <a:latin typeface="Tahoma"/>
              </a:rPr>
              <a:t>определить дефекты обработки накладного кармана с отделочной строчкой 1 м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48392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по рисункам перечислить терминологию обработка карм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808280" y="2565360"/>
            <a:ext cx="559116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какой шов применяется при соединении кармана с основной детал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7:37:02Z</dcterms:created>
  <dc:creator>Юра</dc:creator>
  <dc:description/>
  <dc:language>en-US</dc:language>
  <cp:lastModifiedBy>Юра</cp:lastModifiedBy>
  <dcterms:modified xsi:type="dcterms:W3CDTF">2012-06-20T13:38:01Z</dcterms:modified>
  <cp:revision>16</cp:revision>
  <dc:subject/>
  <dc:title>Урок - игра</dc:title>
</cp:coreProperties>
</file>