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B4C-7E1F-4C46-A11C-963667C9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E36-BC4C-4FE7-AA88-60F3BA5A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9D0-F9C5-474F-859E-3E4DA80F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8EC-4B5D-41CD-BE6B-B5381F22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51DF-95A9-4C22-81CD-0A111C51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C297-AEEE-41B4-81A0-65292ED6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EDE6-9EEB-4B35-9A36-6C951D4C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16DD-A7ED-4F85-84C8-D5DED36F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FF5F-6288-4B02-BD78-9888437F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EEFD-7D7C-4E57-8F27-38FAEB61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E9B5-540D-46DD-94B5-AE166EB1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B3A-2333-44DA-8272-48663F1D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D138-9122-4D87-A07D-EF57B01C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6FBC-6B48-4B09-B14C-6F56C17A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B426-8B5A-46F5-A579-6002271C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5301-392D-4A7D-9FB2-48ED9D74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5B07-2500-4AD2-B0AA-85FAF1F1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5AD-1025-434B-9AFC-9496F3F3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BD9-D1C6-42AD-B157-6F7AA172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C97-69F2-4BC8-A438-22E6E45A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EE8-6FCE-4027-AA26-B6E8249A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694-5B0D-4E6C-B1E2-96214DEB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E68-5A9C-44CB-9CD6-CB802CD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F22-95EE-4446-A5E6-5C713289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5C9D-EFE1-45FF-ADFE-65B7A5865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ACFA-CC8F-4802-BF24-CA66ACE59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«Моё каланхоэ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 выполн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еник 3 В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БОУ СОШ №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фанасьев Алек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евраль 2012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Уход за растением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ли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астению нужен умеренный или обильный полив. Зимой каланхоэ поливают ред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блюдение за развитием каланхоэ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д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вил отводку в стаканч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4-день    появился корешок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2133360"/>
            <a:ext cx="800712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662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5-8день  корешки увеличивались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9-день  посадка в горшок  с землей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16360" cy="2977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349360"/>
            <a:ext cx="446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32457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Через время  появились    первые новые листочки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193080" cy="358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835280" y="2276640"/>
            <a:ext cx="626580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меня получился хороший цветок. Я считаю, что мой проект удался . Были трудности - в посадке цветка , но мама мне помогл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альнейшем хочу изучить виды каланхоэ и их особ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ём проекте я использовал материалы интернета и статьи из энциклопедии «Я познаю ми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роблема: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 Изучение лечебных свойств и условий выращивания каланхо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Задачи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йти информацию из  интерн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авить в воду  отводку цве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адить в горшок с землё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блюдать за ростом раст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етоды исследования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литерату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щи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блюд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зновидности каланхоэ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1905120"/>
            <a:ext cx="3517920" cy="4190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917960" y="190512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зновидности каланхоэ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17960" y="190512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ктивная самостоятельная деятельность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ной каланхоэ является остров Мадагаскар, но отдельные виды происходят из Индии и Южной Африки. В роду каланхоэ насчитывается примерно 200 видов. Некоторые виды каланхоэ используются как в традиционной, так и в народной медицине. Оно помогает справиться с простудными заболеваниями, а также легко залечивает порезы, царапины, ссадины и ранки на ко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252960" y="32457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войства каланхоэ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реда от этого растения нет никакого, так как каланхоэ не относится к разряду ядовитых растений. Помимо своих основных свойств, каланхоэ поглощает в квартире все вредные излучения, исходящие от электробытовой техники. Крайне полезно ставить горшочек с каланхоэ рядом с экраном телевизора или монитором компьютера. Поглощенные вредные лучи цветок обратно не выпуск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Условия выращивани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опическое растение любит много света и тепла, поэтому горшок с цветком необходимо ставить на южной стороне комнаты, или в хорошо освещенном месте. Для того, чтобы вырастить новое каланхоэ, достаточно одной маленькой детки, вырастающей у материнского стеб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4:58:56Z</dcterms:created>
  <dc:creator>Admin</dc:creator>
  <dc:description/>
  <dc:language>en-US</dc:language>
  <cp:lastModifiedBy>Сергей</cp:lastModifiedBy>
  <dcterms:modified xsi:type="dcterms:W3CDTF">2012-06-20T04:56:03Z</dcterms:modified>
  <cp:revision>5</cp:revision>
  <dc:subject/>
  <dc:title>«Моя каланхоэ»</dc:title>
</cp:coreProperties>
</file>