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215-DC19-42FE-984E-1CDB945C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B29-EE90-467E-B114-89ADDDBA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DFC-2540-4E7B-8D51-111269BC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5EC-9A08-47CA-B177-4D7179AE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50A9-5A38-4203-9867-D15B3276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106A-DDC7-417F-8D53-59FED80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3397-2F9D-433C-8471-228BC0A9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6C7C-E617-4E03-A152-AA922B25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E888-E68B-4347-A2C1-EECA7382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50CB-445C-4887-99B8-13BBD081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9183-7D1D-4D75-976E-985DCB9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7FA-BD9E-4751-98BF-09BFE5BF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474E-5ADB-4B85-9D4B-DA29FE5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27FD-483C-4701-82A5-D3C43AF4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C9B6-33A6-4C48-810F-B5BCB9CE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E564-DC09-4F58-8C93-FF517C52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385A-3727-4E6C-B19E-13BF3703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193B-8A29-4C4D-897A-41901694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F39-B3F6-44D6-887F-15E37D0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D9E-FDED-4C2A-88E2-2BA4977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120-17AC-426F-A283-57965FEA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9A3-A8BF-4D43-8CAD-9E7CE2FC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30F-EE5F-4CFC-998E-B7E3B02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6EA-13CD-425D-818C-7E8C25E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6DBA-9274-4518-9C73-80AB3ECCA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49F8-2170-4066-9DEE-7CA865E8E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«Моё каланхоэ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 выполн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еник 3 В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БОУ СОШ №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фанасьев Алек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евраль 2012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Уход за растением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ли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Растению нужен умеренный или обильный полив. Зимой каланхоэ поливают ред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блюдение за развитием каланхоэ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48040" y="1905120"/>
            <a:ext cx="5587920" cy="4190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ден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вил отводку в стаканчи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4-день    появился корешок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2133360"/>
            <a:ext cx="80071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6624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5-8день  корешки увеличивались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9-день  посадка в горшок  с землей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16360" cy="2977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2349360"/>
            <a:ext cx="4464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324576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Через время  появились    первые новые листочки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6920" y="191628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6193080" cy="358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835280" y="2276640"/>
            <a:ext cx="62658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еня получился хороший цветок. Я считаю, что мой проект удался . Были трудности - в посадке цветка , но мама мне помогл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альнейшем хочу изучить виды каланхоэ и их особе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ём проекте я использовал материалы интернета и статьи из энциклопедии «Я познаю мир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Проблема:</a:t>
            </a:r>
            <a:r>
              <a:rPr b="1" lang="en-US" sz="20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 Изучение лечебных свойств и условий выращивания каланхо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Задачи: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йти информацию из  интерн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авить в воду  отводку цвет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адить в горшок с землё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людать за ростом раст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етоды исследования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учение литерату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ращи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блюд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зновидности каланхоэ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905120"/>
            <a:ext cx="3517920" cy="419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зновидности каланхоэ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17960" y="1905120"/>
            <a:ext cx="3927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Активная самостоятельная деятельность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ной каланхоэ является остров Мадагаскар, но отдельные виды происходят из Индии и Южной Африки. В роду каланхоэ насчитывается примерно 200 видов. Некоторые виды каланхоэ используются как в традиционной, так и в народной медицине. Оно помогает справиться с простудными заболеваниями, а также легко залечивает порезы, царапины, ссадины и ранки на к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3252960" y="324576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р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войства каланхоэ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реда от этого растения нет никакого, так как каланхоэ не относится к разряду ядовитых растений. Помимо своих основных свойств, каланхоэ поглощает в квартире все вредные излучения, исходящие от электробытовой техники. Крайне полезно ставить горшочек с каланхоэ рядом с экраном телевизора или монитором компьютера. Поглощенные вредные лучи цветок обратно не выпуск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Условия выращивания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опическое растение любит много света и тепла, поэтому горшок с цветком необходимо ставить на южной стороне комнаты, или в хорошо освещенном месте. Для того, чтобы вырастить новое каланхоэ, достаточно одной маленькой детки, вырастающей у материнского стеб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4:58:56Z</dcterms:created>
  <dc:creator>Admin</dc:creator>
  <dc:description/>
  <dc:language>en-US</dc:language>
  <cp:lastModifiedBy>Сергей</cp:lastModifiedBy>
  <dcterms:modified xsi:type="dcterms:W3CDTF">2012-06-20T04:56:03Z</dcterms:modified>
  <cp:revision>5</cp:revision>
  <dc:subject/>
  <dc:title>«Моя каланхоэ»</dc:title>
</cp:coreProperties>
</file>