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483F-32AB-400C-B223-C6DC6F874D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AC68-9687-4200-A4DC-9176C52292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9E2D-F02C-42EE-9605-25952E526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4E75-971A-4EBD-99E4-5F425C25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4D2B-CB73-4B9C-8866-96FC60FB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4B926-D684-4DE3-9BCA-CF0B3AE9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1BC8-15B8-4AEB-874E-AED50733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75C4-39C1-439D-BF9F-193F6A8E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0C16-0242-4254-8962-E8BDBE97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6622-602F-4922-9B8B-0C5F2922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E41B-1824-4799-BCFC-04580A55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1862-76B5-4D54-AB22-410CCA6D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000F-9388-4756-AD16-EC187A2D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88AA-EBA3-4E09-B64E-6C2D9F1D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98344-17C0-4CFD-B1F0-657BA6EC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C245-675D-4439-B868-24C54908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8225-A576-4970-9C49-C26DCC75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5A13-8DE3-4658-BB1F-AF7769C3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F804-DE95-4A6E-808E-BBBB6E21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3771-B420-42A8-B12B-5718934C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FB05-F7F2-4E90-A6A1-44103267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FC30-E1F8-45C5-B49D-05D8D3F1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EC55-F617-472E-845E-1CABFA20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C086-32EF-40AA-AC36-62BCF350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CEF0-612D-421F-93C3-6701ED88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5C21-8A18-46AE-BE14-8D525E66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9874-73A5-4988-955F-BE333A20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C627-2995-4465-B919-DE30B9533C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1D6A-8DAB-452A-8818-A643E89E84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ЖАРНАЯ  БЕЗОПАСНОСТЬ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587920" y="4797360"/>
            <a:ext cx="355608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ила: заместитель директора по БЖ Тевдорошвили М.С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пожар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учреждени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ое электрооборудование, нарушение правил эксплуатации электрических приборов и сетей, в результате чего возникают короткие замыкания, электрические дуги, переходные сопротивления, вихревые то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ость технологического оборудования и КИП и А в результате чего образуются взрывоопасные смеси, перегрев оборудования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еское электричество, возникающее в результате трения частей механизмов и при наличии пылевых частиц сгораемых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ткрытого огня: сварочные работы, курение, использование факелов, паяльных ламп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згорание и самовоспламенение веществ с низкими температурами возгорания и воспламе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ожарной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электрические разряды – мол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 способов тушения зависит 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072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   горящих  веществ   и условий, в которых протекает  процесс  гор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и зон горения, необходимости    выполнения мероприятий по подготов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туш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я личного состава,  огнетушащих  веществ,  материалов  и 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29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ые средства пожаротуш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м средством тушения возгораний и пожаров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енным и универсальным средством тушения пожар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иквидации пожаров в начальной стадии можно применя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бестовое и войлочное полотно, грубошерстные ткан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место отводи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нетушител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овременные технические устройства, предназначенные для тушения пожаров в их начальной стадии возникнов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357120" y="642960"/>
            <a:ext cx="8429760" cy="64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гнетушители классифициру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 виду  огнетушащих  сред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 объему  корп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способу подачи огнетушаще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 виду  пусковых  устрой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гнетушители углекислотные переносные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У- Огнетушители   углекислотные 2, ОУ-3, ОУ-5, ОУ-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981080"/>
            <a:ext cx="40384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екислотные огнетушители предназначены для тушения загораний различных веществ и материалов, а также электроустановок, кабелей и проводов, находящихся под напряжением до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ОУ-02"/>
          <p:cNvPicPr/>
          <p:nvPr/>
        </p:nvPicPr>
        <p:blipFill>
          <a:blip r:embed="rId1"/>
          <a:stretch/>
        </p:blipFill>
        <p:spPr>
          <a:xfrm>
            <a:off x="457200" y="1714680"/>
            <a:ext cx="4038480" cy="48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840" y="457200"/>
            <a:ext cx="8929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гнетушители углекисл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лекислотный огнетуш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действия основан на вытеснении двуокиси углерода  избыточным давлением собственных паров. При открывании запорно-пускового устройства С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сифонной трубке поступает к раструбу. С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з сжиженного состояния переходит в газообразное. Углекислота, попадая на горящее вещество, изолирует его от кислорода и во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ОУ-011"/>
          <p:cNvPicPr/>
          <p:nvPr/>
        </p:nvPicPr>
        <p:blipFill>
          <a:blip r:embed="rId1"/>
          <a:stretch/>
        </p:blipFill>
        <p:spPr>
          <a:xfrm>
            <a:off x="477720" y="1981080"/>
            <a:ext cx="3997440" cy="430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Огнетушител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порошков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Arial"/>
              </a:rPr>
              <a:t> ручны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64304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ошковые огнетушители предназначены для тушения пожаров твердых, жидких и газообразных веществ (в зависимости от марки используемого огнетушащего порошка), а также электроустановок, находящихся под напряжением до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ОП ручные"/>
          <p:cNvPicPr/>
          <p:nvPr/>
        </p:nvPicPr>
        <p:blipFill>
          <a:blip r:embed="rId1"/>
          <a:stretch/>
        </p:blipFill>
        <p:spPr>
          <a:xfrm>
            <a:off x="457200" y="1357200"/>
            <a:ext cx="403848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гнетушители порошков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35720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срабатывании запорно-пускового устройства прокалывается заглушка баллона с рабочим газом (углекислый газ, азот). Газ по трубке подвода поступает в нижнюю часть корпуса огнетушителя и создает избыточное давление. Порошок вытесняется по сифонной трубке в шланг к стволу. Нажимая на курок ствола, можно подавать порошок порциями. Порошок попадая на горящее вещество, изолирует его от кислорода и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ОП-031"/>
          <p:cNvPicPr/>
          <p:nvPr/>
        </p:nvPicPr>
        <p:blipFill>
          <a:blip r:embed="rId1"/>
          <a:stretch/>
        </p:blipFill>
        <p:spPr>
          <a:xfrm>
            <a:off x="544680" y="1428840"/>
            <a:ext cx="386388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ачной   порошковый   огнетушитель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428840"/>
            <a:ext cx="4038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чий газ закачан непосредственно в корпус огнетушителя. При срабатывании запорно-пускового устройства порошок вытесняется газом по сифонной трубке в шланг и к стволу-насадке или в сопло. Порошок можно подавать порциями. Он попадает на горящее вещество и изолирует его от кислорода и во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ОП-04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825480" y="1357200"/>
            <a:ext cx="3301920" cy="49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жарные щиты первичных средств пожаротуш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Picture 2" descr="Пожарный щит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14200" y="1500120"/>
            <a:ext cx="8501040" cy="51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2960" y="17856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лушателей с вопросами пожарной безопасности, организацией противопожарной защиты учреждения и законодательно- нормативной базой действующей в эт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5292720" y="2398680"/>
          <a:ext cx="3195720" cy="34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2398680"/>
                    <a:ext cx="3195720" cy="34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пожаротуше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ременны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м средств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жаротушения относятся средства пожарной сигнализации и тушения пожаров. Нормами пожарной безопасности «Перечень зданий сооружений, помещений и оборудования, подлежащих защите автоматическими установками пожаротушения и автоматической пожарной сигнализации» (НПБ 110- 03) определен порядок и перечень объектов подлежащих защите вышеназванными устано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противопожарной защиты и тушения пожаров включают в себя системы пожарной сигнализации и системы пожарот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пожарной сигнализации (СПС)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С предназначены для обнаружения в начальной стадии пожара, передачи тревожных извещений о месте и времени его возникновения. Они могут быть пожарными, реагирующими на первоначальные признаки пожара (дым, пламя, тепло) и охранно – пожарными, совмещающими охранные и пожарные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и пожарной сигнализации бывают на баз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втоматических пожарных извещателей (дымовых, тепловых, комбинированн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учных пожарных извещ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втоматических и ручных пожарных извещ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8840" y="1828800"/>
            <a:ext cx="7562880" cy="26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ПОЖАРНАЯ  ЗАЩИТ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786360" y="4182120"/>
            <a:ext cx="2205000" cy="10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реждение  обязано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требования пожарной безопасности, а также выполнять предписания, постановления и иные законные требования должностных лиц пожарной охраны. Основным документом, определяющим требования пожарной безопасности на предприятиях РФ являются Правила пожарной безопасности в РФ (ППБ – 01-03),  введенные в действие приказом МЧС от 18.06.03г. №313. Данные правила устанавливают требования ПБ, обязательные для выполнения всеми организациями и должностными лиц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противопожарные мероприятия направленные на создание условий обеспечивающих сведения до минимума возможности возникновения пожа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противопожарную пропаганду, а так же обучать своих работников и воспитанников мерам пожарной безопас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важнейших обязанностей  учреждения в области  повышения пожарной безопасности, является содержание в исправном состоянии систем и средств противопожарной защи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 безопас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учреждения должна постоянно содержаться в чист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залы и спальные помещения должны тщательно убираться и проветр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мещениях связанных с пребыванием детей, ковры и паласы должны быть жестко прикреплены к пол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рдачных помещениях не разрешается сушить бел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ри, люки чердачных  и технических помещений должны быть постоянно закрыты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учай отключения электроэнергии у обслуживающего персонала должны быть электрические фона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 БЕЗОПАСНОСТИ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ЗОПАСНОСТ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14280"/>
            <a:ext cx="8686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ть неисправное электрооборудов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 использовать  воду  для  тушения веществ,  вступающих  с ней  в  бурную химическую  реакцию,  необесточенных  проводов,  электроприбо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 использовать  сырой  песок при тушении предметов, находящихся  под напря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загромождать пути эвак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ть в подвальных помещениях легковоспламеняющиеся жид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на путях эвакуации горючие материалы для отдел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действ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дленно позвонить по телефону 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йствовать систему оповещения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ить к эвакуации детей из з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ить о пожаре руковод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встречу пожарных подразде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меры по тушению пожара средствами пожароту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по имеющимся спискам проверку наличия детей и рабо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начальника прибывшего пожарного подразделения о наличии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вакуации необходим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ть эвакуацию детей из помещения, где возник пожар, и смежных с ним помещений, которым угрожает опасность распространения огня и его признаков го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младшего возраста необходимо эвакуировать в первую очере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проверить помещения, чтобы исключить возможность пребывания в опасной зоне детей, спрятавшихся под кроватями, в шкафах и.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ржаться от открывания окон, дверей, а также от разбивания стекол, во избежание распространения ог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идая помещение или здания, следует  закрывать за собой окна и дв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428760" y="571680"/>
            <a:ext cx="814392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того, что население нашей страны недостаточно подготовлено в сфере пожарной безопасности, нет необходимого  уровня  культуры собственной  безопасности - жизнь и здоровье нас и наших детей зависят только от нашей профессиональной подгот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76720" y="642600"/>
            <a:ext cx="2808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1392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 каждый год происходит в среднем около 300 тысяч пожаров. Материальный ущерб от пожаров исчисляется десятками миллиардов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оопасная ситуация в стране сегодня возрастает, так как в промышленности, строительстве и быту применяется множество легковоспламеняющихся веществ и материалов. Используется в огромных количества нефть и нефтепродукты, природный газ. В производстве сохраняются и внедряются сложные и энергоемкие технологии, обладающие высокой потенциальной пожароопаснотью. Все это требует повышенного внимания к противопожарной защите, осторожности, высокой технологической дисциплины. Многие предприятия и иные объекты имеют свои специфические требования по обеспечению пожар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документом определяющим общие правовые, экономические и социальные основы обеспечения пожарной безопасности в Российской Федерации является Федеральный Закон «О пожарной безопасности» от 21.12.94г. №69- 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определены основные понятия, используемые при изучении 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ая безопасность (ПБ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стояние защищенности личности, имущества, общества и государства от пожа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.Б. является одной из важнейших функций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пожарной безопасности 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альные условия социального и (или) технического характера, установленные в целях обеспечения пожарной безопасности законодательством РФ, нормативными документами или уполномоченным государственным орган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 РФ в области П.Б. основывается на конституции РФ и включает в себя выше названный закон, другие законы РФ, принимаемые в соответствии с ним, а также законы и нормативные акты субъектов РФ, регулирующие вопросы пожарной 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ормативным документам по пожарной безопасности также относятся стандарты, нормы и правила пожарной безопасности, инструкции и иные документы, содержащие требования П.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ой Федерации функционирует система обеспечения пожарной безопасности, которая представляет собой совокупность сил и средств, а также мер правового, организационного, экономического, социального и научно- технического характера, направленных на борьбу с пожа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им из элементов этой системы является предприятие. Обеспечение пожарной безопасности на предприятии является предметом рассмотрения данной 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85716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контролируемое горение, причиняющее материальный ущерб, вред жизни и здоровью граждан, интересам общества и государ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FIRE011"/>
          <p:cNvPicPr/>
          <p:nvPr/>
        </p:nvPicPr>
        <p:blipFill>
          <a:blip r:embed="rId1"/>
          <a:stretch/>
        </p:blipFill>
        <p:spPr>
          <a:xfrm>
            <a:off x="5076720" y="333360"/>
            <a:ext cx="3780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пож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Organization Chart 7"/>
          <p:cNvGrpSpPr/>
          <p:nvPr/>
        </p:nvGrpSpPr>
        <p:grpSpPr>
          <a:xfrm>
            <a:off x="0" y="1571760"/>
            <a:ext cx="9143280" cy="4856760"/>
            <a:chOff x="0" y="1571760"/>
            <a:chExt cx="9143280" cy="4856760"/>
          </a:xfrm>
        </p:grpSpPr>
        <p:cxnSp>
          <p:nvCxnSpPr>
            <p:cNvPr id="126" name="_s2052"/>
            <p:cNvCxnSpPr>
              <a:stCxn id="127" idx="0"/>
              <a:endCxn id="128" idx="2"/>
            </p:cNvCxnSpPr>
            <p:nvPr/>
          </p:nvCxnSpPr>
          <p:spPr>
            <a:xfrm flipV="1" rot="16200000">
              <a:off x="5884200" y="1369440"/>
              <a:ext cx="556560" cy="3183480"/>
            </a:xfrm>
            <a:prstGeom prst="bentConnector3">
              <a:avLst>
                <a:gd name="adj1" fmla="val 2524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9" name="_s2053"/>
            <p:cNvCxnSpPr>
              <a:stCxn id="130" idx="0"/>
              <a:endCxn id="128" idx="2"/>
            </p:cNvCxnSpPr>
            <p:nvPr/>
          </p:nvCxnSpPr>
          <p:spPr>
            <a:xfrm flipV="1">
              <a:off x="4571280" y="2683080"/>
              <a:ext cx="3600" cy="5565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31" name="_s2054"/>
            <p:cNvCxnSpPr>
              <a:stCxn id="132" idx="0"/>
              <a:endCxn id="128" idx="2"/>
            </p:cNvCxnSpPr>
            <p:nvPr/>
          </p:nvCxnSpPr>
          <p:spPr>
            <a:xfrm flipH="1" flipV="1" rot="5400000">
              <a:off x="2701800" y="1369800"/>
              <a:ext cx="556560" cy="3182760"/>
            </a:xfrm>
            <a:prstGeom prst="bentConnector3">
              <a:avLst>
                <a:gd name="adj1" fmla="val 25242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8" name="_s2055"/>
            <p:cNvSpPr/>
            <p:nvPr/>
          </p:nvSpPr>
          <p:spPr>
            <a:xfrm>
              <a:off x="3360960" y="1571760"/>
              <a:ext cx="2420280" cy="111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ожа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6"/>
            <p:cNvSpPr/>
            <p:nvPr/>
          </p:nvSpPr>
          <p:spPr>
            <a:xfrm>
              <a:off x="0" y="3239640"/>
              <a:ext cx="2778480" cy="3188880"/>
            </a:xfrm>
            <a:custGeom>
              <a:avLst/>
              <a:gdLst>
                <a:gd name="textAreaLeft" fmla="*/ 135360 w 2778480"/>
                <a:gd name="textAreaRight" fmla="*/ 2643120 w 2778480"/>
                <a:gd name="textAreaTop" fmla="*/ 135360 h 3188880"/>
                <a:gd name="textAreaBottom" fmla="*/ 3053520 h 3188880"/>
              </a:gdLst>
              <a:ahLst/>
              <a:rect l="textAreaLeft" t="textAreaTop" r="textAreaRight" b="textAreaBottom"/>
              <a:pathLst>
                <a:path w="21600" h="24790">
                  <a:moveTo>
                    <a:pt x="3600" y="0"/>
                  </a:moveTo>
                  <a:arcTo wR="3600" hR="3600" stAng="16200000" swAng="-5400000"/>
                  <a:lnTo>
                    <a:pt x="0" y="21190"/>
                  </a:lnTo>
                  <a:arcTo wR="3600" hR="3600" stAng="10800000" swAng="-5400000"/>
                  <a:lnTo>
                    <a:pt x="18000" y="247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Мест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нахожден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7"/>
            <p:cNvSpPr/>
            <p:nvPr/>
          </p:nvSpPr>
          <p:spPr>
            <a:xfrm>
              <a:off x="3182040" y="3239640"/>
              <a:ext cx="2778480" cy="3188880"/>
            </a:xfrm>
            <a:custGeom>
              <a:avLst/>
              <a:gdLst>
                <a:gd name="textAreaLeft" fmla="*/ 135360 w 2778480"/>
                <a:gd name="textAreaRight" fmla="*/ 2643120 w 2778480"/>
                <a:gd name="textAreaTop" fmla="*/ 135360 h 3188880"/>
                <a:gd name="textAreaBottom" fmla="*/ 3053520 h 3188880"/>
              </a:gdLst>
              <a:ahLst/>
              <a:rect l="textAreaLeft" t="textAreaTop" r="textAreaRight" b="textAreaBottom"/>
              <a:pathLst>
                <a:path w="21600" h="24790">
                  <a:moveTo>
                    <a:pt x="3600" y="0"/>
                  </a:moveTo>
                  <a:arcTo wR="3600" hR="3600" stAng="16200000" swAng="-5400000"/>
                  <a:lnTo>
                    <a:pt x="0" y="21190"/>
                  </a:lnTo>
                  <a:arcTo wR="3600" hR="3600" stAng="10800000" swAng="-5400000"/>
                  <a:lnTo>
                    <a:pt x="18000" y="247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Масштаб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8"/>
            <p:cNvSpPr/>
            <p:nvPr/>
          </p:nvSpPr>
          <p:spPr>
            <a:xfrm>
              <a:off x="6364080" y="3239640"/>
              <a:ext cx="2779200" cy="3188880"/>
            </a:xfrm>
            <a:custGeom>
              <a:avLst/>
              <a:gdLst>
                <a:gd name="textAreaLeft" fmla="*/ 135360 w 2779200"/>
                <a:gd name="textAreaRight" fmla="*/ 2643840 w 2779200"/>
                <a:gd name="textAreaTop" fmla="*/ 135360 h 3188880"/>
                <a:gd name="textAreaBottom" fmla="*/ 3053520 h 3188880"/>
              </a:gdLst>
              <a:ahLst/>
              <a:rect l="textAreaLeft" t="textAreaTop" r="textAreaRight" b="textAreaBottom"/>
              <a:pathLst>
                <a:path w="21600" h="24784">
                  <a:moveTo>
                    <a:pt x="3600" y="0"/>
                  </a:moveTo>
                  <a:arcTo wR="3600" hR="3600" stAng="16200000" swAng="-5400000"/>
                  <a:lnTo>
                    <a:pt x="0" y="21184"/>
                  </a:lnTo>
                  <a:arcTo wR="3600" hR="3600" stAng="10800000" swAng="-5400000"/>
                  <a:lnTo>
                    <a:pt x="18000" y="247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Характе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 u="sng">
                  <a:solidFill>
                    <a:srgbClr val="663300"/>
                  </a:solidFill>
                  <a:uFillTx/>
                  <a:latin typeface="Arial"/>
                  <a:hlinkClick r:id="rId1" action="ppaction://hlinksldjump"/>
                </a:rPr>
                <a:t>горючи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веществ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ы по месту нахо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Rectangle 70" descr=""/>
          <p:cNvPicPr/>
          <p:nvPr/>
        </p:nvPicPr>
        <p:blipFill>
          <a:blip r:embed="rId1"/>
          <a:stretch/>
        </p:blipFill>
        <p:spPr>
          <a:xfrm>
            <a:off x="384120" y="1639800"/>
            <a:ext cx="8223480" cy="48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штаб пож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43040"/>
          <a:ext cx="8218440" cy="4500720"/>
        </p:xfrm>
        <a:graphic>
          <a:graphicData uri="http://schemas.openxmlformats.org/drawingml/2006/table">
            <a:tbl>
              <a:tblPr/>
              <a:tblGrid>
                <a:gridCol w="2170080"/>
                <a:gridCol w="6048360"/>
              </a:tblGrid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даниях и сооружения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сколько отдельных пожаров объединяют в группы отдельных пожар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отдельные пожары сливаются в один общий, при этом горят более 50% застрой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15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отдельных и сплошных пожар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горючих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981000"/>
          <a:ext cx="8462880" cy="5448240"/>
        </p:xfrm>
        <a:graphic>
          <a:graphicData uri="http://schemas.openxmlformats.org/drawingml/2006/table">
            <a:tbl>
              <a:tblPr/>
              <a:tblGrid>
                <a:gridCol w="1776600"/>
                <a:gridCol w="6686280"/>
              </a:tblGrid>
              <a:tr h="164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твердых веществ,  в основном органического происхождения, горение которых сопровождается тлением (древесина, текстиль, бумага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горючих жидкостей или плавящихся твердых вещест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горючих газ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металлов и их сплав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, связанные с горением электроустановок (под напряжение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2:59:21Z</dcterms:created>
  <dc:creator>Я</dc:creator>
  <dc:description/>
  <dc:language>en-US</dc:language>
  <cp:lastModifiedBy>Admin</cp:lastModifiedBy>
  <dcterms:modified xsi:type="dcterms:W3CDTF">2012-03-12T12:21:24Z</dcterms:modified>
  <cp:revision>91</cp:revision>
  <dc:subject/>
  <dc:title>ПОЖАРНАЯ  БЕЗОПАСНОСТЬ  И ПРОТИВОПОЖАРНАЯ  ЗАЩИТА ОРГАНИЗАЦИЙ </dc:title>
</cp:coreProperties>
</file>