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4338-8387-4D13-AEE5-0FCCFD4309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A2D0-7F38-403B-9D30-7AAB7197C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29EA-8635-465D-91B7-43F3BEFF0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AC69-5074-4298-B5CF-8609C391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0CDB-21F9-4AE1-BAA0-2BDEF15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84FF-C4C6-4AF0-A4FD-E5F33E5C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B817-1434-400D-8B22-E476369E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1583-FA0D-4E9C-ADBB-6F66C019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9C30-BC2C-4EAD-8FE1-7919A6BB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0FA-CDF7-460F-91F5-C6128A5F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B700-4B4A-4221-8045-8072DC8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09F2-5D09-421D-8BE7-658A81D9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F77B-C3CE-4019-8D8B-5F8385F1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3ED0-C603-49F3-8957-DD52166C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4F7A-17D8-45DF-B3BE-CC6B000F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ED2-B13C-48F0-B869-C3CA65C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FA0-ADD6-4CD1-98F0-A778CB4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20F-BD6B-44B2-9B3B-1B5F032B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CF0A-D485-4EC1-AF5C-499CC28B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CFC-0F29-493B-949E-042C229B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B09B-952E-45B2-9DF3-6D2E1022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28AE-8C32-4FAC-9C4A-A60084F9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26CB-EDAF-4C7B-83FA-9315A26F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0E28-AFDB-4F85-8CEF-5885DE3D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A4D3-1B19-41F0-8C0C-763EE94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FAEF-6116-4627-A0F7-A3791F9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A619-0FA6-4364-9439-10F490D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461B-1F0C-4B5C-86A2-1389D64E86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04C4-CD8F-4801-9C6F-0D93A6A1A4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АЯ  БЕЗОПАСНОСТЬ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587920" y="4797360"/>
            <a:ext cx="355608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: заместитель директора по БЖ Тевдорошвили М.С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пожар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чрежден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е электрооборудование, нарушение правил эксплуатации электрических приборов и сетей, в результате чего возникают короткие замыкания, электрические дуги, переходные сопротивления, вихревые т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технологического оборудования и КИП и А в результате чего образуются взрывоопасные смеси, перегрев оборудова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ое электричество, возникающее в результате трения частей механизмов и при наличии пылевых частиц сгораем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ткрытого огня: сварочные работы, курение, использование факелов, паяльных ламп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згорание и самовоспламенение веществ с низкими температурами возгорания и воспла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ожарной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электрические разряды – мол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 способов тушения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  горящих  веществ   и условий, в которых протекает  процесс  г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 зон горения, необходимости    выполнения мероприятий по подгото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туш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я личного состава,  огнетушащих  веществ,  материалов  и 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средства пожаротуш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м средством тушения возгораний и пожаров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и универсальным средством тушения пожар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квидации пожаров в начальной стадии можно применя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бестовое и войлочное полотно, грубошерстные ткан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отвод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тушител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ременные технические устройства, предназначенные для тушения пожаров в их начальной стадии возникнов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357120" y="642960"/>
            <a:ext cx="842976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гнетушители классифициру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огнетушащих  сред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объему  корп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способу подачи огнетушащ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пусковых  устрой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гнетушители углекислотные переносные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У- Огнетушители   углекислотные 2, ОУ-3, ОУ-5, ОУ-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40384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кислотные огнетушители предназначены для тушения загораний различных веществ и материалов, а также электроустановок, кабелей и проводов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ОУ-02"/>
          <p:cNvPicPr/>
          <p:nvPr/>
        </p:nvPicPr>
        <p:blipFill>
          <a:blip r:embed="rId1"/>
          <a:stretch/>
        </p:blipFill>
        <p:spPr>
          <a:xfrm>
            <a:off x="457200" y="1714680"/>
            <a:ext cx="403848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45720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нетушители углекисл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лекислотный огнетуш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 основан на вытеснении двуокиси углерода  избыточным давлением собственных паров. При открывании запорно-пускового устройства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сифонной трубке поступает к раструбу.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сжиженного состояния переходит в газообразное. Углекислота, попадая на горящее вещество, изолирует его от кислорода и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ОУ-011"/>
          <p:cNvPicPr/>
          <p:nvPr/>
        </p:nvPicPr>
        <p:blipFill>
          <a:blip r:embed="rId1"/>
          <a:stretch/>
        </p:blipFill>
        <p:spPr>
          <a:xfrm>
            <a:off x="477720" y="1981080"/>
            <a:ext cx="3997440" cy="43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Огнетушите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ручны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4304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ошковые огнетушители предназначены для тушения пожаров твердых, жидких и газообразных веществ (в зависимости от марки используемого огнетушащего порошка), а также электроустановок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ОП ручные"/>
          <p:cNvPicPr/>
          <p:nvPr/>
        </p:nvPicPr>
        <p:blipFill>
          <a:blip r:embed="rId1"/>
          <a:stretch/>
        </p:blipFill>
        <p:spPr>
          <a:xfrm>
            <a:off x="457200" y="1357200"/>
            <a:ext cx="403848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гнетушители порошк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срабатывании запорно-пускового устройства прокалывается заглушка баллона с рабочим газом (углекислый газ, азот). Газ по трубке подвода поступает в нижнюю часть корпуса огнетушителя и создает избыточное давление. Порошок вытесняется по сифонной трубке в шланг к стволу. Нажимая на курок ствола, можно подавать порошок порциями. Порошок попадая на горящее вещество, изолирует его от кислорода и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ОП-031"/>
          <p:cNvPicPr/>
          <p:nvPr/>
        </p:nvPicPr>
        <p:blipFill>
          <a:blip r:embed="rId1"/>
          <a:stretch/>
        </p:blipFill>
        <p:spPr>
          <a:xfrm>
            <a:off x="544680" y="1428840"/>
            <a:ext cx="386388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ачной   порошковый   огнетушитель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428840"/>
            <a:ext cx="4038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й газ закачан непосредственно в корпус огнетушителя. При срабатывании запорно-пускового устройства порошок вытесняется газом по сифонной трубке в шланг и к стволу-насадке или в сопло. Порошок можно подавать порциями. Он попадает на горящее вещество и изолирует его от кислорода и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ОП-04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25480" y="1357200"/>
            <a:ext cx="3301920" cy="49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жарные щиты первичных средств пожаротуш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2" descr="Пожарный щит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200" y="1500120"/>
            <a:ext cx="8501040" cy="51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2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лушателей с вопросами пожарной безопасности, организацией противопожарной защиты учреждения и законодательно- нормативной базой действующей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292720" y="2398680"/>
          <a:ext cx="3195720" cy="34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398680"/>
                    <a:ext cx="319572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пожаротуш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ременны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м средств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жаротушения относятся средства пожарной сигнализации и тушения пожаров. Нормами пожарной безопасности «Перечень зданий сооружений, помещений и оборудования, подлежащих защите автоматическими установками пожаротушения и автоматической пожарной сигнализации» (НПБ 110- 03) определен порядок и перечень объектов подлежащих защите вышеназванными устан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противопожарной защиты и тушения пожаров включают в себя системы пожарной сигнализации и системы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пожарной сигнализации (СПС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С предназначены для обнаружения в начальной стадии пожара, передачи тревожных извещений о месте и времени его возникновения. Они могут быть пожарными, реагирующими на первоначальные признаки пожара (дым, пламя, тепло) и охранно – пожарными, совмещающими охранные и пожарны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и пожарной сигнализации бывают на ба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пожарных извещателей (дымовых, тепловых, комбинированн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учных пожарных извещ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и ручных пожарных извещ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8840" y="1828800"/>
            <a:ext cx="7562880" cy="26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ПОЖАРНАЯ  ЗАЩИТ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786360" y="4182120"/>
            <a:ext cx="2205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реждение  обязано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требования пожарной безопасности, а также выполнять предписания, постановления и иные законные требования должностных лиц пожарной охраны. Основным документом, определяющим требования пожарной безопасности на предприятиях РФ являются Правила пожарной безопасности в РФ (ППБ – 01-03),  введенные в действие приказом МЧС от 18.06.03г. №313. Данные правила устанавливают требования ПБ, обязательные для выполнения всеми организациями и должностными лиц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ые мероприятия направленные на создание условий обеспечивающих сведения до минимума возможности возникновения пож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ую пропаганду, а так же обучать своих работников и воспитанников мерам пожарной безопас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ейших обязанностей  учреждения в области  повышения пожарной безопасности, является содержание в исправном состоянии систем и средств противопожарной защи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 безопас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учреждения должна постоянно содержаться в чист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залы и спальные помещения должны тщательно убираться и проветр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щениях связанных с пребыванием детей, ковры и паласы должны быть жестко прикреплены к 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дачных помещениях не разрешается сушить бел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и, люки чердачных  и технических помещений должны быть постоянно закрыты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учай отключения электроэнергии у обслуживающего персонала должны быть электрические фона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 БЕЗОПАСНОСТ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ЗОПАСНОСТ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14280"/>
            <a:ext cx="86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ть неисправное электрооборуд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воду  для  тушения веществ,  вступающих  с ней  в  бурную химическую  реакцию,  необесточенных  проводов,  электропри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сырой  песок при тушении предметов, находящихся  под напря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загромождать пути эвак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в подвальных помещениях легковоспламеняющиеся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на путях эвакуации горючие материалы для от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дейст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озвонить по телефону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ть систему оповещ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ить к эвакуации детей из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ть о пожаре руков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встречу пожарных подраз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ры по тушению пожара средствами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 имеющимся спискам проверку наличия детей и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начальника прибывшего пожарного подразделения о наличии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вакуации необходи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ть эвакуацию детей из помещения, где возник пожар, и смежных с ним помещений, которым угрожает опасность распространения огня и его признаков г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младшего возраста необходимо эвакуировать в первую очер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роверить помещения, чтобы исключить возможность пребывания в опасной зоне детей, спрятавшихся под кроватями, в шкафах и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ржаться от открывания окон, дверей, а также от разбивания стекол, во избежание распространения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идая помещение или здания, следует  закрывать за собой окна и дв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428760" y="571680"/>
            <a:ext cx="814392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того, что население нашей страны недостаточно подготовлено в сфере пожарной безопасности, нет необходимого  уровня  культуры собственной  безопасности - жизнь и здоровье нас и наших детей зависят только от нашей профессиональной подгот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76720" y="642600"/>
            <a:ext cx="2808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1392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 каждый год происходит в среднем около 300 тысяч пожаров. Материальный ущерб от пожаров исчисляется десятками миллиардов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опасная ситуация в стране сегодня возрастает, так как в промышленности, строительстве и быту применяется множество легковоспламеняющихся веществ и материалов. Используется в огромных количества нефть и нефтепродукты, природный газ. В производстве сохраняются и внедряются сложные и энергоемкие технологии, обладающие высокой потенциальной пожароопаснотью. Все это требует повышенного внимания к противопожарной защите, осторожности, высокой технологической дисциплины. Многие предприятия и иные объекты имеют свои специфические требования по обеспечению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документом определяющим общие правовые, экономические и социальные основы обеспечения пожарной безопасности в Российской Федерации является Федеральный Закон «О пожарной безопасности» от 21.12.94г. №69- 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ены основные понятия, используемые при изучении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безопасность (ПБ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стояние защищенности личности, имущества, общества и государства от пожа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.Б. является одной из важнейших функций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ожарной безопасности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ые условия социального и (или) технического характера, установленные в целях обеспечения пожарной безопасности законодательством РФ, нормативными документами или уполномоченным государственным орга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Ф в области П.Б. основывается на конституции РФ и включает в себя выше названный закон, другие законы РФ, принимаемые в соответствии с ним, а также законы и нормативные акты субъектов РФ, регулирующие вопросы пожарной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ормативным документам по пожарной безопасности также относятся стандарты, нормы и правила пожарной безопасности, инструкции и иные документы, содержащие требования П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функционирует система обеспечения пожарной безопасности, которая представляет собой совокупность сил и средств, а также мер правового, организационного, экономического, социального и научно- технического характера, направленных на борьбу с пожа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элементов этой системы является предприятие. Обеспечение пожарной безопасности на предприятии является предметом рассмотрения данной 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85716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контролируемое горение, причиняющее материальный ущерб, вред жизни и здоровью граждан, интересам общества и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FIRE011"/>
          <p:cNvPicPr/>
          <p:nvPr/>
        </p:nvPicPr>
        <p:blipFill>
          <a:blip r:embed="rId1"/>
          <a:stretch/>
        </p:blipFill>
        <p:spPr>
          <a:xfrm>
            <a:off x="5076720" y="333360"/>
            <a:ext cx="3780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пож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rganization Chart 7"/>
          <p:cNvGrpSpPr/>
          <p:nvPr/>
        </p:nvGrpSpPr>
        <p:grpSpPr>
          <a:xfrm>
            <a:off x="0" y="1571760"/>
            <a:ext cx="9143280" cy="4856760"/>
            <a:chOff x="0" y="1571760"/>
            <a:chExt cx="9143280" cy="4856760"/>
          </a:xfrm>
        </p:grpSpPr>
        <p:cxnSp>
          <p:nvCxnSpPr>
            <p:cNvPr id="126" name="_s2052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884200" y="1369440"/>
              <a:ext cx="556560" cy="318348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" name="_s2053"/>
            <p:cNvCxnSpPr>
              <a:stCxn id="130" idx="0"/>
              <a:endCxn id="128" idx="2"/>
            </p:cNvCxnSpPr>
            <p:nvPr/>
          </p:nvCxnSpPr>
          <p:spPr>
            <a:xfrm flipV="1">
              <a:off x="4571280" y="2683080"/>
              <a:ext cx="3600" cy="5565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31" name="_s2054"/>
            <p:cNvCxnSpPr>
              <a:stCxn id="132" idx="0"/>
              <a:endCxn id="128" idx="2"/>
            </p:cNvCxnSpPr>
            <p:nvPr/>
          </p:nvCxnSpPr>
          <p:spPr>
            <a:xfrm flipH="1" flipV="1" rot="5400000">
              <a:off x="2701800" y="1369800"/>
              <a:ext cx="556560" cy="318276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8" name="_s2055"/>
            <p:cNvSpPr/>
            <p:nvPr/>
          </p:nvSpPr>
          <p:spPr>
            <a:xfrm>
              <a:off x="3360960" y="1571760"/>
              <a:ext cx="2420280" cy="111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ожа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6"/>
            <p:cNvSpPr/>
            <p:nvPr/>
          </p:nvSpPr>
          <p:spPr>
            <a:xfrm>
              <a:off x="0" y="323964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Мест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нахожд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>
              <a:off x="3182040" y="323964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Масштаб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8"/>
            <p:cNvSpPr/>
            <p:nvPr/>
          </p:nvSpPr>
          <p:spPr>
            <a:xfrm>
              <a:off x="6364080" y="3239640"/>
              <a:ext cx="2779200" cy="3188880"/>
            </a:xfrm>
            <a:custGeom>
              <a:avLst/>
              <a:gdLst>
                <a:gd name="textAreaLeft" fmla="*/ 135360 w 2779200"/>
                <a:gd name="textAreaRight" fmla="*/ 2643840 w 277920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84">
                  <a:moveTo>
                    <a:pt x="3600" y="0"/>
                  </a:moveTo>
                  <a:arcTo wR="3600" hR="3600" stAng="16200000" swAng="-5400000"/>
                  <a:lnTo>
                    <a:pt x="0" y="21184"/>
                  </a:lnTo>
                  <a:arcTo wR="3600" hR="3600" stAng="10800000" swAng="-5400000"/>
                  <a:lnTo>
                    <a:pt x="18000" y="247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Характе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 u="sng">
                  <a:solidFill>
                    <a:srgbClr val="663300"/>
                  </a:solidFill>
                  <a:uFillTx/>
                  <a:latin typeface="Arial"/>
                  <a:hlinkClick r:id="rId1" action="ppaction://hlinksldjump"/>
                </a:rPr>
                <a:t>горючи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веществ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ы по месту нах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tangle 70" descr=""/>
          <p:cNvPicPr/>
          <p:nvPr/>
        </p:nvPicPr>
        <p:blipFill>
          <a:blip r:embed="rId1"/>
          <a:stretch/>
        </p:blipFill>
        <p:spPr>
          <a:xfrm>
            <a:off x="384120" y="1639800"/>
            <a:ext cx="822348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пож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43040"/>
          <a:ext cx="8218440" cy="4500720"/>
        </p:xfrm>
        <a:graphic>
          <a:graphicData uri="http://schemas.openxmlformats.org/drawingml/2006/table">
            <a:tbl>
              <a:tblPr/>
              <a:tblGrid>
                <a:gridCol w="2170080"/>
                <a:gridCol w="60483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даниях и сооружени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колько отдельных пожаров объединяют в группы отдельных пожар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отдельные пожары сливаются в один общий, при этом горят более 50% застрой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отдельных и сплошных пожар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горючих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981000"/>
          <a:ext cx="8462880" cy="5448240"/>
        </p:xfrm>
        <a:graphic>
          <a:graphicData uri="http://schemas.openxmlformats.org/drawingml/2006/table">
            <a:tbl>
              <a:tblPr/>
              <a:tblGrid>
                <a:gridCol w="1776600"/>
                <a:gridCol w="6686280"/>
              </a:tblGrid>
              <a:tr h="164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твердых веществ,  в основном органического происхождения, горение которых сопровождается тлением (древесина, текстиль, бумага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жидкостей или плавящихся твердых вещест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газ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металлов и их сплав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, связанные с горением электроустановок (под напряжение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2:59:21Z</dcterms:created>
  <dc:creator>Я</dc:creator>
  <dc:description/>
  <dc:language>en-US</dc:language>
  <cp:lastModifiedBy>Admin</cp:lastModifiedBy>
  <dcterms:modified xsi:type="dcterms:W3CDTF">2012-03-12T12:21:24Z</dcterms:modified>
  <cp:revision>91</cp:revision>
  <dc:subject/>
  <dc:title>ПОЖАРНАЯ  БЕЗОПАСНОСТЬ  И ПРОТИВОПОЖАРНАЯ  ЗАЩИТА ОРГАНИЗАЦИЙ </dc:title>
</cp:coreProperties>
</file>