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CC9-40CE-4BB5-A2C3-C4D09172A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E0AD-9CC7-48E6-A6AF-D7FBE31879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8FA-1DAB-4238-98C2-B73681467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00A-2B0E-4262-BB14-8E7E3CDA2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331-69A6-44D3-91EA-67564AA209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8E3-D74F-48B9-BE8D-B9FC1225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9CC-2BA1-4F6D-9AB6-E84F349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AF5-F7B3-4081-BFC1-B1AEE6F6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531-3369-46A1-95BC-A9F4C3E3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9D9-189B-4BAA-87A3-331D25E8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AE0-48C1-447F-8BDE-FF63D8A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534-20BD-4A7C-8CE6-9755AAB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326-A68B-4F62-93F4-6AC28A9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3F7-0625-47A2-969B-9CB1EEF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771-181A-47EE-B7C7-30BBE35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107-CA71-4BB3-9222-51EA1B0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6F2-5AF6-4DC0-B47B-EDA69EB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7DAB-F2FF-4200-8C72-9AADA8C50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6407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0253f"/>
                </a:solidFill>
                <a:latin typeface="Mistral"/>
              </a:rPr>
              <a:t>Решение систем уравнений.</a:t>
            </a:r>
            <a:br>
              <a:rPr sz="6000"/>
            </a:br>
            <a:r>
              <a:rPr b="0" lang="ru-RU" sz="6000" spc="-1" strike="noStrike">
                <a:solidFill>
                  <a:srgbClr val="10253f"/>
                </a:solidFill>
                <a:latin typeface="Mistral"/>
              </a:rPr>
              <a:t>Способ алгебраического сложения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88000" y="5732640"/>
            <a:ext cx="2232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Mistral"/>
              </a:rPr>
              <a:t>Алгебр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5"/>
          <p:cNvGrpSpPr/>
          <p:nvPr/>
        </p:nvGrpSpPr>
        <p:grpSpPr>
          <a:xfrm>
            <a:off x="533520" y="2244600"/>
            <a:ext cx="1315440" cy="762120"/>
            <a:chOff x="533520" y="2244600"/>
            <a:chExt cx="1315440" cy="762120"/>
          </a:xfrm>
        </p:grpSpPr>
        <p:sp>
          <p:nvSpPr>
            <p:cNvPr id="108" name="Поле 3"/>
            <p:cNvSpPr/>
            <p:nvPr/>
          </p:nvSpPr>
          <p:spPr>
            <a:xfrm>
              <a:off x="689760" y="2276640"/>
              <a:ext cx="115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х+3у=9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х-5у=-1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9"/>
          <p:cNvGrpSpPr/>
          <p:nvPr/>
        </p:nvGrpSpPr>
        <p:grpSpPr>
          <a:xfrm>
            <a:off x="108000" y="765000"/>
            <a:ext cx="2266560" cy="1453680"/>
            <a:chOff x="108000" y="765000"/>
            <a:chExt cx="2266560" cy="1453680"/>
          </a:xfrm>
        </p:grpSpPr>
        <p:sp>
          <p:nvSpPr>
            <p:cNvPr id="111" name="Автофигура 6"/>
            <p:cNvSpPr/>
            <p:nvPr/>
          </p:nvSpPr>
          <p:spPr>
            <a:xfrm flipH="1">
              <a:off x="108000" y="765000"/>
              <a:ext cx="2266560" cy="1453680"/>
            </a:xfrm>
            <a:prstGeom prst="cloudCallout">
              <a:avLst>
                <a:gd name="adj1" fmla="val -60041"/>
                <a:gd name="adj2" fmla="val 66967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оле 8"/>
            <p:cNvSpPr/>
            <p:nvPr/>
          </p:nvSpPr>
          <p:spPr>
            <a:xfrm>
              <a:off x="108000" y="888480"/>
              <a:ext cx="1927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Уравня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модул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коэффициен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перед 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Автофигура 13"/>
          <p:cNvSpPr/>
          <p:nvPr/>
        </p:nvSpPr>
        <p:spPr>
          <a:xfrm>
            <a:off x="611280" y="354024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15"/>
          <p:cNvSpPr/>
          <p:nvPr/>
        </p:nvSpPr>
        <p:spPr>
          <a:xfrm>
            <a:off x="281160" y="371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е 16"/>
          <p:cNvSpPr/>
          <p:nvPr/>
        </p:nvSpPr>
        <p:spPr>
          <a:xfrm>
            <a:off x="611280" y="393372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3"/>
          <p:cNvGrpSpPr/>
          <p:nvPr/>
        </p:nvGrpSpPr>
        <p:grpSpPr>
          <a:xfrm>
            <a:off x="2411280" y="2708280"/>
            <a:ext cx="1981440" cy="762120"/>
            <a:chOff x="2411280" y="2708280"/>
            <a:chExt cx="1981440" cy="762120"/>
          </a:xfrm>
        </p:grpSpPr>
        <p:sp>
          <p:nvSpPr>
            <p:cNvPr id="117" name="Автофигура 21"/>
            <p:cNvSpPr/>
            <p:nvPr/>
          </p:nvSpPr>
          <p:spPr>
            <a:xfrm>
              <a:off x="2411280" y="270828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оле 22"/>
            <p:cNvSpPr/>
            <p:nvPr/>
          </p:nvSpPr>
          <p:spPr>
            <a:xfrm>
              <a:off x="2567880" y="2784600"/>
              <a:ext cx="17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ложим уравне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ия почлен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26"/>
          <p:cNvGrpSpPr/>
          <p:nvPr/>
        </p:nvGrpSpPr>
        <p:grpSpPr>
          <a:xfrm>
            <a:off x="2484360" y="4005360"/>
            <a:ext cx="1904760" cy="685800"/>
            <a:chOff x="2484360" y="4005360"/>
            <a:chExt cx="1904760" cy="685800"/>
          </a:xfrm>
        </p:grpSpPr>
        <p:sp>
          <p:nvSpPr>
            <p:cNvPr id="120" name="Автофигура 24"/>
            <p:cNvSpPr/>
            <p:nvPr/>
          </p:nvSpPr>
          <p:spPr>
            <a:xfrm>
              <a:off x="2484360" y="400536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е 25"/>
            <p:cNvSpPr/>
            <p:nvPr/>
          </p:nvSpPr>
          <p:spPr>
            <a:xfrm>
              <a:off x="2775240" y="400536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ш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оле 27"/>
          <p:cNvSpPr/>
          <p:nvPr/>
        </p:nvSpPr>
        <p:spPr>
          <a:xfrm>
            <a:off x="4872600" y="32846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х + 3у =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41"/>
          <p:cNvGrpSpPr/>
          <p:nvPr/>
        </p:nvGrpSpPr>
        <p:grpSpPr>
          <a:xfrm>
            <a:off x="5435640" y="2349360"/>
            <a:ext cx="2039760" cy="1922760"/>
            <a:chOff x="5435640" y="2349360"/>
            <a:chExt cx="2039760" cy="1922760"/>
          </a:xfrm>
        </p:grpSpPr>
        <p:cxnSp>
          <p:nvCxnSpPr>
            <p:cNvPr id="124" name="Автофигура 38"/>
            <p:cNvCxnSpPr/>
            <p:nvPr/>
          </p:nvCxnSpPr>
          <p:spPr>
            <a:xfrm flipH="1" rot="16200000">
              <a:off x="5025240" y="3630960"/>
              <a:ext cx="822960" cy="2160"/>
            </a:xfrm>
            <a:prstGeom prst="bentConnector5">
              <a:avLst>
                <a:gd name="adj1" fmla="val -27789"/>
                <a:gd name="adj2" fmla="val 76100000"/>
                <a:gd name="adj3" fmla="val 12778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25" name="Автофигура 39"/>
            <p:cNvSpPr/>
            <p:nvPr/>
          </p:nvSpPr>
          <p:spPr>
            <a:xfrm>
              <a:off x="5722920" y="234936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е 40"/>
            <p:cNvSpPr/>
            <p:nvPr/>
          </p:nvSpPr>
          <p:spPr>
            <a:xfrm>
              <a:off x="6014520" y="249372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став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46"/>
          <p:cNvGrpSpPr/>
          <p:nvPr/>
        </p:nvGrpSpPr>
        <p:grpSpPr>
          <a:xfrm>
            <a:off x="6372360" y="3284640"/>
            <a:ext cx="1904760" cy="685800"/>
            <a:chOff x="6372360" y="3284640"/>
            <a:chExt cx="1904760" cy="685800"/>
          </a:xfrm>
        </p:grpSpPr>
        <p:sp>
          <p:nvSpPr>
            <p:cNvPr id="128" name="Автофигура 47"/>
            <p:cNvSpPr/>
            <p:nvPr/>
          </p:nvSpPr>
          <p:spPr>
            <a:xfrm>
              <a:off x="6372360" y="328464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оле 48"/>
            <p:cNvSpPr/>
            <p:nvPr/>
          </p:nvSpPr>
          <p:spPr>
            <a:xfrm>
              <a:off x="6663240" y="32846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ш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оле 60"/>
          <p:cNvSpPr/>
          <p:nvPr/>
        </p:nvSpPr>
        <p:spPr>
          <a:xfrm>
            <a:off x="594036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4873680" y="170352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х+3у=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9280" y="377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м, в каком году вышла его книга. Решить системы уравнений и записать числа, противоположные  решению первой системы и подписать решение втор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556000" y="42552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  <a:ea typeface="Times New Roman"/>
              </a:rPr>
              <a:t>Книга вышла в 17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Автофигура 55"/>
          <p:cNvSpPr/>
          <p:nvPr/>
        </p:nvSpPr>
        <p:spPr>
          <a:xfrm>
            <a:off x="4643280" y="177336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792000"/>
              <a:gd name="textAreaBottom" fmla="*/ 7754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Автофигура 55"/>
          <p:cNvSpPr/>
          <p:nvPr/>
        </p:nvSpPr>
        <p:spPr>
          <a:xfrm>
            <a:off x="1258920" y="184464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792360"/>
              <a:gd name="textAreaBottom" fmla="*/ 7758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403280" y="17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+у=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104292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 1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4651200" y="292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 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24000" y="1188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х+2у=17;             4х-у=3;              2х+3у=9;             5х- 4у=7,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7.                  х-у=6.               4х-5у=-15.          8х+5у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м классификацию систем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мых методом алгебраического с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Автофигура 55"/>
          <p:cNvSpPr/>
          <p:nvPr/>
        </p:nvSpPr>
        <p:spPr>
          <a:xfrm>
            <a:off x="324000" y="1268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Автофигура 55"/>
          <p:cNvSpPr/>
          <p:nvPr/>
        </p:nvSpPr>
        <p:spPr>
          <a:xfrm>
            <a:off x="2484360" y="126828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Автофигура 55"/>
          <p:cNvSpPr/>
          <p:nvPr/>
        </p:nvSpPr>
        <p:spPr>
          <a:xfrm>
            <a:off x="4356000" y="126828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Автофигура 55"/>
          <p:cNvSpPr/>
          <p:nvPr/>
        </p:nvSpPr>
        <p:spPr>
          <a:xfrm>
            <a:off x="6372360" y="1268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993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сти уравнения системы к одинаковым по модулю коэффициентам при переменны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коэффициенты одинаковы, то из одного уравнения вычесть друг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же коэффициенты  противоположные, то уравнения склад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ь полученное уравнение (найти значение одной из переменных сист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тавить известное значение переменной в одно из уравнений и найти значение второй перемен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    Записать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476360" y="115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Алгоритм метода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324000" y="182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ин из великих ученых, высоко ценивший книгу, назвал ее «вратами учености». Сам он не только ее изучил, но и знал ее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"/>
          <p:cNvSpPr/>
          <p:nvPr/>
        </p:nvSpPr>
        <p:spPr>
          <a:xfrm>
            <a:off x="1619280" y="112536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719280"/>
              <a:gd name="textAreaBottom" fmla="*/ 709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1686960" y="112536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x = 4,6 + 3 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y + 3,2 = 6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о решить системы уравнени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вариант                                                                               2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759240" y="7650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х + 3у = 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х - 5у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Автофигура 4"/>
          <p:cNvSpPr/>
          <p:nvPr/>
        </p:nvSpPr>
        <p:spPr>
          <a:xfrm>
            <a:off x="539640" y="765000"/>
            <a:ext cx="228600" cy="719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19280"/>
              <a:gd name="textAreaBottom" fmla="*/ 6994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3"/>
                  <a:pt x="10800" y="1905"/>
                </a:cubicBezTo>
                <a:lnTo>
                  <a:pt x="10800" y="8895"/>
                </a:lnTo>
                <a:cubicBezTo>
                  <a:pt x="10800" y="9848"/>
                  <a:pt x="5400" y="10800"/>
                  <a:pt x="0" y="10800"/>
                </a:cubicBezTo>
                <a:cubicBezTo>
                  <a:pt x="5400" y="10800"/>
                  <a:pt x="10800" y="11753"/>
                  <a:pt x="10800" y="12705"/>
                </a:cubicBezTo>
                <a:lnTo>
                  <a:pt x="10800" y="19695"/>
                </a:lnTo>
                <a:cubicBezTo>
                  <a:pt x="10800" y="2064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1379520" y="15573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ровнять модули коэффициентов при одной из перем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2261880" y="270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ложить или вычесть уравнения почл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2288880" y="350028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Решить уравнение с одной перем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1692360" y="4292640"/>
            <a:ext cx="5688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Подставить известное значение переменной в одно из уравнений и найти значение второй перем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2273400" y="6308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Автофигура 4"/>
          <p:cNvSpPr/>
          <p:nvPr/>
        </p:nvSpPr>
        <p:spPr>
          <a:xfrm>
            <a:off x="5651640" y="907920"/>
            <a:ext cx="228600" cy="649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649440"/>
              <a:gd name="textAreaBottom" fmla="*/ 6296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8"/>
                  <a:pt x="10800" y="2116"/>
                </a:cubicBezTo>
                <a:lnTo>
                  <a:pt x="10800" y="8684"/>
                </a:lnTo>
                <a:cubicBezTo>
                  <a:pt x="10800" y="9742"/>
                  <a:pt x="5400" y="10800"/>
                  <a:pt x="0" y="10800"/>
                </a:cubicBezTo>
                <a:cubicBezTo>
                  <a:pt x="5400" y="10800"/>
                  <a:pt x="10800" y="11858"/>
                  <a:pt x="10800" y="12916"/>
                </a:cubicBezTo>
                <a:lnTo>
                  <a:pt x="10800" y="19484"/>
                </a:lnTo>
                <a:cubicBezTo>
                  <a:pt x="10800" y="20542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3"/>
          <p:cNvSpPr/>
          <p:nvPr/>
        </p:nvSpPr>
        <p:spPr>
          <a:xfrm>
            <a:off x="5873040" y="616572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е 11"/>
          <p:cNvSpPr/>
          <p:nvPr/>
        </p:nvSpPr>
        <p:spPr>
          <a:xfrm>
            <a:off x="2126520" y="10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е 11"/>
          <p:cNvSpPr/>
          <p:nvPr/>
        </p:nvSpPr>
        <p:spPr>
          <a:xfrm>
            <a:off x="2126880" y="765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539640" y="1989000"/>
            <a:ext cx="18716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х +  9у =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х - 10у =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Автофигура 4"/>
          <p:cNvSpPr/>
          <p:nvPr/>
        </p:nvSpPr>
        <p:spPr>
          <a:xfrm>
            <a:off x="611280" y="1989000"/>
            <a:ext cx="301680" cy="648000"/>
          </a:xfrm>
          <a:custGeom>
            <a:avLst/>
            <a:gdLst>
              <a:gd name="textAreaLeft" fmla="*/ 192960 w 301680"/>
              <a:gd name="textAreaRight" fmla="*/ 302040 w 301680"/>
              <a:gd name="textAreaTop" fmla="*/ 25920 h 648000"/>
              <a:gd name="textAreaBottom" fmla="*/ 62208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7"/>
                  <a:pt x="10800" y="2794"/>
                </a:cubicBezTo>
                <a:lnTo>
                  <a:pt x="10800" y="8006"/>
                </a:lnTo>
                <a:cubicBezTo>
                  <a:pt x="10800" y="9403"/>
                  <a:pt x="5400" y="10800"/>
                  <a:pt x="0" y="10800"/>
                </a:cubicBezTo>
                <a:cubicBezTo>
                  <a:pt x="5400" y="10800"/>
                  <a:pt x="10800" y="12197"/>
                  <a:pt x="10800" y="13594"/>
                </a:cubicBezTo>
                <a:lnTo>
                  <a:pt x="10800" y="18806"/>
                </a:lnTo>
                <a:cubicBezTo>
                  <a:pt x="10800" y="2020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"/>
          <p:cNvSpPr/>
          <p:nvPr/>
        </p:nvSpPr>
        <p:spPr>
          <a:xfrm>
            <a:off x="755640" y="2997360"/>
            <a:ext cx="1368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19 у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"/>
          <p:cNvSpPr/>
          <p:nvPr/>
        </p:nvSpPr>
        <p:spPr>
          <a:xfrm>
            <a:off x="1047240" y="3789360"/>
            <a:ext cx="61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у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"/>
          <p:cNvSpPr/>
          <p:nvPr/>
        </p:nvSpPr>
        <p:spPr>
          <a:xfrm>
            <a:off x="692640" y="4869000"/>
            <a:ext cx="1392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+ 3 ·  1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= 7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х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3059280" y="623736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( 2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580000" y="836640"/>
            <a:ext cx="158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х+5у=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х+7у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6"/>
          <p:cNvSpPr/>
          <p:nvPr/>
        </p:nvSpPr>
        <p:spPr>
          <a:xfrm>
            <a:off x="6659640" y="1989000"/>
            <a:ext cx="1728720" cy="69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0х+25у=5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0х+28у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Автофигура 4"/>
          <p:cNvSpPr/>
          <p:nvPr/>
        </p:nvSpPr>
        <p:spPr>
          <a:xfrm>
            <a:off x="6659640" y="2060640"/>
            <a:ext cx="228600" cy="576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576360"/>
              <a:gd name="textAreaBottom" fmla="*/ 556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5400" y="10800"/>
                  <a:pt x="0" y="10800"/>
                </a:cubicBezTo>
                <a:cubicBezTo>
                  <a:pt x="54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ле 11"/>
          <p:cNvSpPr/>
          <p:nvPr/>
        </p:nvSpPr>
        <p:spPr>
          <a:xfrm>
            <a:off x="6879240" y="836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е 11"/>
          <p:cNvSpPr/>
          <p:nvPr/>
        </p:nvSpPr>
        <p:spPr>
          <a:xfrm>
            <a:off x="6879240" y="1197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0"/>
          <p:cNvSpPr/>
          <p:nvPr/>
        </p:nvSpPr>
        <p:spPr>
          <a:xfrm>
            <a:off x="6732720" y="3068640"/>
            <a:ext cx="1368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-3 у = -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1"/>
          <p:cNvSpPr/>
          <p:nvPr/>
        </p:nvSpPr>
        <p:spPr>
          <a:xfrm>
            <a:off x="7097400" y="3789360"/>
            <a:ext cx="61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у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2"/>
          <p:cNvSpPr/>
          <p:nvPr/>
        </p:nvSpPr>
        <p:spPr>
          <a:xfrm>
            <a:off x="7029000" y="4869000"/>
            <a:ext cx="1340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+ 5 · 5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= 1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= 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х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3"/>
          <p:cNvSpPr/>
          <p:nvPr/>
        </p:nvSpPr>
        <p:spPr>
          <a:xfrm>
            <a:off x="6659640" y="6165720"/>
            <a:ext cx="115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( -6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468360" y="1341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Домашняя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ик стр. 85, задачник № 13.9 в) г),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бороте титульного листа Магницкий обращается к будущему, учени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«Арифметике любезно учися, 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В ней разных правил и штук придержися,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Ибо в гражданстве к делам есть потребно...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И пути в небе решит, и на мори,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Еще на войне полезно, и в поли...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ысл всего стихотворения таков: математика дает человеку возможность рассчитывать и соображать свои поступки в разных обстоятельст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0" y="0"/>
          <a:ext cx="11448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4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"/>
          <p:cNvGraphicFramePr/>
          <p:nvPr/>
        </p:nvGraphicFramePr>
        <p:xfrm>
          <a:off x="1042920" y="476280"/>
          <a:ext cx="274500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76280"/>
                    <a:ext cx="27450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49600" y="79560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зывается решением системы уравнений с двумя пер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Что значит решить систему уравнени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способов решения систем линейных уравнений вы знаете? Назовите, эти спос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Если коэффициенты при одной из переменных являются противоположными числами, то с чего вы начинаете решение системы линейных уравнени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Из каких уравнений можно составить систему, решением которой будет пара чисел (1;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0920" y="141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5х+у=8         Б. 4х+у=4         В. 2х-3у=2          Г. 6х+5у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501200" y="3429000"/>
            <a:ext cx="5406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Исключить одну из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900000" y="414972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х + у = 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х + у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826920" y="414972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276720" y="414972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+ у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203640" y="414972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5940360" y="407664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940360" y="40766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– 2у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564000" y="2133720"/>
            <a:ext cx="151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4х+у=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341000" y="50846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х 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573720" y="508464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3х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6443640" y="508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 7у = 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3564000" y="256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2х-3у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3492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3760 h 934920"/>
              <a:gd name="textAreaBottom" fmla="*/ 91116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1"/>
                  <a:pt x="10800" y="1761"/>
                </a:cubicBezTo>
                <a:lnTo>
                  <a:pt x="10800" y="9039"/>
                </a:lnTo>
                <a:cubicBezTo>
                  <a:pt x="10800" y="9920"/>
                  <a:pt x="5400" y="10800"/>
                  <a:pt x="0" y="10800"/>
                </a:cubicBezTo>
                <a:cubicBezTo>
                  <a:pt x="5400" y="10800"/>
                  <a:pt x="10800" y="11681"/>
                  <a:pt x="10800" y="12561"/>
                </a:cubicBezTo>
                <a:lnTo>
                  <a:pt x="10800" y="19839"/>
                </a:lnTo>
                <a:cubicBezTo>
                  <a:pt x="10800" y="207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ics.livejournal.com/gorlex72/pic/000fh7q2/s640x480"/>
          <p:cNvPicPr/>
          <p:nvPr/>
        </p:nvPicPr>
        <p:blipFill>
          <a:blip r:embed="rId1"/>
          <a:stretch/>
        </p:blipFill>
        <p:spPr>
          <a:xfrm>
            <a:off x="324000" y="907920"/>
            <a:ext cx="3456000" cy="52848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" name="Прямоугольник 2"/>
          <p:cNvSpPr/>
          <p:nvPr/>
        </p:nvSpPr>
        <p:spPr>
          <a:xfrm>
            <a:off x="971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Леонтий Филиппович Магницкий (1669-17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4067280" y="1052640"/>
            <a:ext cx="482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тр I «имев случай узнать сего достойного мужа,... с ним многократно о математических науках беседовал и так был восхищен глубокими познаниями его в оных, что называл его магнитом и приказал писаться Магницк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го величеству Петром первому… учинен… учителем математики, в котором звании ревностно, верно, честно, всеприлежно и бессрочно служ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333360"/>
          <a:ext cx="8642160" cy="1096920"/>
        </p:xfrm>
        <a:graphic>
          <a:graphicData uri="http://schemas.openxmlformats.org/drawingml/2006/table">
            <a:tbl>
              <a:tblPr/>
              <a:tblGrid>
                <a:gridCol w="2665440"/>
                <a:gridCol w="3671640"/>
                <a:gridCol w="2305080"/>
              </a:tblGrid>
              <a:tr h="3661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кажите номер парты и номер 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низонн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о-навигацк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ирн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Прямоугольник 2"/>
          <p:cNvSpPr/>
          <p:nvPr/>
        </p:nvSpPr>
        <p:spPr>
          <a:xfrm>
            <a:off x="978840" y="148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– 3у= -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900000" y="148428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ostashkov.codis.ru/okmmag.jpg"/>
          <p:cNvPicPr/>
          <p:nvPr/>
        </p:nvPicPr>
        <p:blipFill>
          <a:blip r:embed="rId1"/>
          <a:srcRect l="0" t="2919" r="0" b="0"/>
          <a:stretch/>
        </p:blipFill>
        <p:spPr>
          <a:xfrm>
            <a:off x="826920" y="836640"/>
            <a:ext cx="727416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Прямоугольник 2"/>
          <p:cNvSpPr/>
          <p:nvPr/>
        </p:nvSpPr>
        <p:spPr>
          <a:xfrm>
            <a:off x="250920" y="115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"Арифметика" Магницк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84360" y="91152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х+2у=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611280" y="907920"/>
            <a:ext cx="2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263240" y="26172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ло лет – решение системы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177336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жить уравнения почл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4048200" y="3397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24000" y="3068640"/>
            <a:ext cx="849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тавить известное значение переменной в одно из уравнений и найти значение второй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2700360" y="558972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3;4).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5148360" y="1052640"/>
            <a:ext cx="37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34 года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Леонтий Филипповичу Магницкому, когда вышла его книга «Арифме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826920" y="220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8 х = 24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х = 3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468360" y="3789360"/>
            <a:ext cx="3922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1" lang="ru-RU" sz="2400" spc="-1" strike="noStrike" baseline="30000">
                <a:solidFill>
                  <a:srgbClr val="984807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3 + 2у = 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9 + 2у = 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2у = 17 – 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2у =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у =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873680" y="170352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х+3у=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79280" y="377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м, в каком году вышла его книга. Решить системы уравнений и записать числа первой системы и подписать решение втор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Автофигура 55"/>
          <p:cNvSpPr/>
          <p:nvPr/>
        </p:nvSpPr>
        <p:spPr>
          <a:xfrm>
            <a:off x="4643280" y="177336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792000"/>
              <a:gd name="textAreaBottom" fmla="*/ 7754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Автофигура 55"/>
          <p:cNvSpPr/>
          <p:nvPr/>
        </p:nvSpPr>
        <p:spPr>
          <a:xfrm>
            <a:off x="1258920" y="184464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792360"/>
              <a:gd name="textAreaBottom" fmla="*/ 7758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403280" y="17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+у=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-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Автофигура 4"/>
          <p:cNvSpPr/>
          <p:nvPr/>
        </p:nvSpPr>
        <p:spPr>
          <a:xfrm>
            <a:off x="611280" y="62064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259200" y="134136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нять модули коэффициентов при одной из перем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72880" y="2852640"/>
            <a:ext cx="50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ить или вычесть уравнения почл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66040" y="378936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ешить уравнение с одной пере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179280" y="486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Подставить известное значение переменной в одно из уравнений и найти значение второй пере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378000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826920" y="549360"/>
            <a:ext cx="20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8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 - 2у= 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684360" y="191628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      у =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 -  2у  = 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Автофигура 4"/>
          <p:cNvSpPr/>
          <p:nvPr/>
        </p:nvSpPr>
        <p:spPr>
          <a:xfrm>
            <a:off x="468360" y="1916280"/>
            <a:ext cx="228600" cy="865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865080"/>
              <a:gd name="textAreaBottom" fmla="*/ 845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4"/>
                  <a:pt x="10800" y="1587"/>
                </a:cubicBezTo>
                <a:lnTo>
                  <a:pt x="10800" y="9213"/>
                </a:lnTo>
                <a:cubicBezTo>
                  <a:pt x="10800" y="10007"/>
                  <a:pt x="5400" y="10800"/>
                  <a:pt x="0" y="10800"/>
                </a:cubicBezTo>
                <a:cubicBezTo>
                  <a:pt x="5400" y="10800"/>
                  <a:pt x="10800" y="11594"/>
                  <a:pt x="10800" y="12387"/>
                </a:cubicBezTo>
                <a:lnTo>
                  <a:pt x="10800" y="20013"/>
                </a:lnTo>
                <a:cubicBezTo>
                  <a:pt x="10800" y="20807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84360" y="1989000"/>
            <a:ext cx="43164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1619280" y="1989000"/>
            <a:ext cx="43164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2627280" y="1989000"/>
            <a:ext cx="43200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2700360" y="549360"/>
            <a:ext cx="50328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1116000" y="33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     у =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9"/>
          <p:cNvSpPr/>
          <p:nvPr/>
        </p:nvSpPr>
        <p:spPr>
          <a:xfrm flipH="1">
            <a:off x="2626560" y="3357720"/>
            <a:ext cx="36036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1692360" y="3357720"/>
            <a:ext cx="35856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1"/>
          <p:cNvSpPr/>
          <p:nvPr/>
        </p:nvSpPr>
        <p:spPr>
          <a:xfrm>
            <a:off x="755640" y="3357720"/>
            <a:ext cx="39528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2"/>
          <p:cNvSpPr/>
          <p:nvPr/>
        </p:nvSpPr>
        <p:spPr>
          <a:xfrm>
            <a:off x="1193040" y="537372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L</cp:lastModifiedBy>
  <dcterms:modified xsi:type="dcterms:W3CDTF">2011-11-16T18:14:30Z</dcterms:modified>
  <cp:revision>276</cp:revision>
  <dc:subject/>
  <dc:title>Слайд 1</dc:title>
</cp:coreProperties>
</file>