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8DAF-F4BB-4667-85D5-529524C0DC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BD5-7F8E-4F65-BDF5-C95908E56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17ED-9B62-43E2-9D74-ED5E41E004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DBC7-90D5-4575-91AD-FB87ED55DF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59A5-881D-47E8-917D-3D6E8C3E80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BBB-194A-494B-B48D-7EDAEF02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C7C-C9E9-421B-AAD0-BEBE4A7E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5837-B92A-4DEA-9120-ED150A7A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0AB7-8BCE-4EF4-BAFF-F4F43A4E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54E-7BAE-4CB7-A10A-C00E731A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10F-06BC-4505-B90F-0C495AA7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5F1-7C5B-408E-862A-2C6ED81E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9D2-DB68-4794-A03B-2F786751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90E-701F-48FC-B33B-E39BE6E1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585-140D-4660-A617-9D37EC2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E0B-4C0B-4921-93CB-2E7377B1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C82-1AB0-48F0-B70E-C43BF109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B3F2-8548-4954-AF81-ACAA10021F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64072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0253f"/>
                </a:solidFill>
                <a:latin typeface="Mistral"/>
              </a:rPr>
              <a:t>Решение систем уравнений.</a:t>
            </a:r>
            <a:br>
              <a:rPr sz="6000"/>
            </a:br>
            <a:r>
              <a:rPr b="0" lang="ru-RU" sz="6000" spc="-1" strike="noStrike">
                <a:solidFill>
                  <a:srgbClr val="10253f"/>
                </a:solidFill>
                <a:latin typeface="Mistral"/>
              </a:rPr>
              <a:t>Способ алгебраического сложения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88000" y="5732640"/>
            <a:ext cx="2232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46c0a"/>
                </a:solidFill>
                <a:latin typeface="Mistral"/>
              </a:rPr>
              <a:t>Алгебра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Группа 5"/>
          <p:cNvGrpSpPr/>
          <p:nvPr/>
        </p:nvGrpSpPr>
        <p:grpSpPr>
          <a:xfrm>
            <a:off x="533520" y="2244600"/>
            <a:ext cx="1315440" cy="762120"/>
            <a:chOff x="533520" y="2244600"/>
            <a:chExt cx="1315440" cy="762120"/>
          </a:xfrm>
        </p:grpSpPr>
        <p:sp>
          <p:nvSpPr>
            <p:cNvPr id="108" name="Поле 3"/>
            <p:cNvSpPr/>
            <p:nvPr/>
          </p:nvSpPr>
          <p:spPr>
            <a:xfrm>
              <a:off x="689760" y="2276640"/>
              <a:ext cx="115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х+3у=9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4х-5у=-15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Группа 9"/>
          <p:cNvGrpSpPr/>
          <p:nvPr/>
        </p:nvGrpSpPr>
        <p:grpSpPr>
          <a:xfrm>
            <a:off x="108000" y="765000"/>
            <a:ext cx="2266560" cy="1453680"/>
            <a:chOff x="108000" y="765000"/>
            <a:chExt cx="2266560" cy="1453680"/>
          </a:xfrm>
        </p:grpSpPr>
        <p:sp>
          <p:nvSpPr>
            <p:cNvPr id="111" name="Автофигура 6"/>
            <p:cNvSpPr/>
            <p:nvPr/>
          </p:nvSpPr>
          <p:spPr>
            <a:xfrm flipH="1">
              <a:off x="108000" y="765000"/>
              <a:ext cx="2266560" cy="1453680"/>
            </a:xfrm>
            <a:prstGeom prst="cloudCallout">
              <a:avLst>
                <a:gd name="adj1" fmla="val -60041"/>
                <a:gd name="adj2" fmla="val 66967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оле 8"/>
            <p:cNvSpPr/>
            <p:nvPr/>
          </p:nvSpPr>
          <p:spPr>
            <a:xfrm>
              <a:off x="108000" y="888480"/>
              <a:ext cx="1927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Уравня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модул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коэффициен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перед 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Автофигура 13"/>
          <p:cNvSpPr/>
          <p:nvPr/>
        </p:nvSpPr>
        <p:spPr>
          <a:xfrm>
            <a:off x="611280" y="354024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е 15"/>
          <p:cNvSpPr/>
          <p:nvPr/>
        </p:nvSpPr>
        <p:spPr>
          <a:xfrm>
            <a:off x="281160" y="371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е 16"/>
          <p:cNvSpPr/>
          <p:nvPr/>
        </p:nvSpPr>
        <p:spPr>
          <a:xfrm>
            <a:off x="611280" y="3933720"/>
            <a:ext cx="15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3"/>
          <p:cNvGrpSpPr/>
          <p:nvPr/>
        </p:nvGrpSpPr>
        <p:grpSpPr>
          <a:xfrm>
            <a:off x="2411280" y="2708280"/>
            <a:ext cx="1981440" cy="762120"/>
            <a:chOff x="2411280" y="2708280"/>
            <a:chExt cx="1981440" cy="762120"/>
          </a:xfrm>
        </p:grpSpPr>
        <p:sp>
          <p:nvSpPr>
            <p:cNvPr id="117" name="Автофигура 21"/>
            <p:cNvSpPr/>
            <p:nvPr/>
          </p:nvSpPr>
          <p:spPr>
            <a:xfrm>
              <a:off x="2411280" y="270828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оле 22"/>
            <p:cNvSpPr/>
            <p:nvPr/>
          </p:nvSpPr>
          <p:spPr>
            <a:xfrm>
              <a:off x="2567880" y="2784600"/>
              <a:ext cx="177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ложим уравне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ия почлен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26"/>
          <p:cNvGrpSpPr/>
          <p:nvPr/>
        </p:nvGrpSpPr>
        <p:grpSpPr>
          <a:xfrm>
            <a:off x="2484360" y="4005360"/>
            <a:ext cx="1904760" cy="685800"/>
            <a:chOff x="2484360" y="4005360"/>
            <a:chExt cx="1904760" cy="685800"/>
          </a:xfrm>
        </p:grpSpPr>
        <p:sp>
          <p:nvSpPr>
            <p:cNvPr id="120" name="Автофигура 24"/>
            <p:cNvSpPr/>
            <p:nvPr/>
          </p:nvSpPr>
          <p:spPr>
            <a:xfrm>
              <a:off x="2484360" y="400536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оле 25"/>
            <p:cNvSpPr/>
            <p:nvPr/>
          </p:nvSpPr>
          <p:spPr>
            <a:xfrm>
              <a:off x="2775240" y="400536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ш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Поле 27"/>
          <p:cNvSpPr/>
          <p:nvPr/>
        </p:nvSpPr>
        <p:spPr>
          <a:xfrm>
            <a:off x="4872600" y="328464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х + 3у =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Группа 41"/>
          <p:cNvGrpSpPr/>
          <p:nvPr/>
        </p:nvGrpSpPr>
        <p:grpSpPr>
          <a:xfrm>
            <a:off x="5435640" y="2349360"/>
            <a:ext cx="2039760" cy="1922760"/>
            <a:chOff x="5435640" y="2349360"/>
            <a:chExt cx="2039760" cy="1922760"/>
          </a:xfrm>
        </p:grpSpPr>
        <p:cxnSp>
          <p:nvCxnSpPr>
            <p:cNvPr id="124" name="Автофигура 38"/>
            <p:cNvCxnSpPr/>
            <p:nvPr/>
          </p:nvCxnSpPr>
          <p:spPr>
            <a:xfrm flipH="1" rot="16200000">
              <a:off x="5025240" y="3630960"/>
              <a:ext cx="822960" cy="2160"/>
            </a:xfrm>
            <a:prstGeom prst="bentConnector5">
              <a:avLst>
                <a:gd name="adj1" fmla="val -27789"/>
                <a:gd name="adj2" fmla="val 76100000"/>
                <a:gd name="adj3" fmla="val 127789"/>
              </a:avLst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25" name="Автофигура 39"/>
            <p:cNvSpPr/>
            <p:nvPr/>
          </p:nvSpPr>
          <p:spPr>
            <a:xfrm>
              <a:off x="5722920" y="234936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оле 40"/>
            <p:cNvSpPr/>
            <p:nvPr/>
          </p:nvSpPr>
          <p:spPr>
            <a:xfrm>
              <a:off x="6014520" y="249372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став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Группа 46"/>
          <p:cNvGrpSpPr/>
          <p:nvPr/>
        </p:nvGrpSpPr>
        <p:grpSpPr>
          <a:xfrm>
            <a:off x="6372360" y="3284640"/>
            <a:ext cx="1904760" cy="685800"/>
            <a:chOff x="6372360" y="3284640"/>
            <a:chExt cx="1904760" cy="685800"/>
          </a:xfrm>
        </p:grpSpPr>
        <p:sp>
          <p:nvSpPr>
            <p:cNvPr id="128" name="Автофигура 47"/>
            <p:cNvSpPr/>
            <p:nvPr/>
          </p:nvSpPr>
          <p:spPr>
            <a:xfrm>
              <a:off x="6372360" y="328464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8eb4e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оле 48"/>
            <p:cNvSpPr/>
            <p:nvPr/>
          </p:nvSpPr>
          <p:spPr>
            <a:xfrm>
              <a:off x="6663240" y="3284640"/>
              <a:ext cx="122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ш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Поле 60"/>
          <p:cNvSpPr/>
          <p:nvPr/>
        </p:nvSpPr>
        <p:spPr>
          <a:xfrm>
            <a:off x="594036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4873680" y="1703520"/>
            <a:ext cx="16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х+3у=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х-5у=-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179280" y="377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м, в каком году вышла его книга. Решить системы уравнений и записать числа, противоположные  решению первой системы и подписать решение втор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556000" y="42552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: </a:t>
            </a:r>
            <a:r>
              <a:rPr b="1" lang="ru-RU" sz="2400" spc="-1" strike="noStrike">
                <a:solidFill>
                  <a:srgbClr val="e46c0a"/>
                </a:solidFill>
                <a:latin typeface="Calibri"/>
                <a:ea typeface="Times New Roman"/>
              </a:rPr>
              <a:t>Книга вышла в 170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Автофигура 55"/>
          <p:cNvSpPr/>
          <p:nvPr/>
        </p:nvSpPr>
        <p:spPr>
          <a:xfrm>
            <a:off x="4643280" y="177336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792000"/>
              <a:gd name="textAreaBottom" fmla="*/ 7754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7"/>
                  <a:pt x="10800" y="1473"/>
                </a:cubicBezTo>
                <a:lnTo>
                  <a:pt x="10800" y="9327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7"/>
                  <a:pt x="10800" y="12273"/>
                </a:cubicBezTo>
                <a:lnTo>
                  <a:pt x="10800" y="20127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Автофигура 55"/>
          <p:cNvSpPr/>
          <p:nvPr/>
        </p:nvSpPr>
        <p:spPr>
          <a:xfrm>
            <a:off x="1258920" y="1844640"/>
            <a:ext cx="144360" cy="7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792360"/>
              <a:gd name="textAreaBottom" fmla="*/ 77580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7"/>
                  <a:pt x="10800" y="1473"/>
                </a:cubicBezTo>
                <a:lnTo>
                  <a:pt x="10800" y="9327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7"/>
                  <a:pt x="10800" y="12273"/>
                </a:cubicBezTo>
                <a:lnTo>
                  <a:pt x="10800" y="20127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1403280" y="1773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+у=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х-5у=-1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104292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( 1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8"/>
          <p:cNvSpPr/>
          <p:nvPr/>
        </p:nvSpPr>
        <p:spPr>
          <a:xfrm>
            <a:off x="4651200" y="29242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( 0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24000" y="1188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х+2у=17;             4х-у=3;              2х+3у=9;             5х- 4у=7,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х-2у=7.                  х-у=6.               4х-5у=-15.          8х+5у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250920" y="18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м классификацию систем урав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аемых методом алгебраического с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Автофигура 55"/>
          <p:cNvSpPr/>
          <p:nvPr/>
        </p:nvSpPr>
        <p:spPr>
          <a:xfrm>
            <a:off x="324000" y="1268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Автофигура 55"/>
          <p:cNvSpPr/>
          <p:nvPr/>
        </p:nvSpPr>
        <p:spPr>
          <a:xfrm>
            <a:off x="2484360" y="126828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Автофигура 55"/>
          <p:cNvSpPr/>
          <p:nvPr/>
        </p:nvSpPr>
        <p:spPr>
          <a:xfrm>
            <a:off x="4356000" y="1268280"/>
            <a:ext cx="152640" cy="685800"/>
          </a:xfrm>
          <a:custGeom>
            <a:avLst/>
            <a:gdLst>
              <a:gd name="textAreaLeft" fmla="*/ 97560 w 152640"/>
              <a:gd name="textAreaRight" fmla="*/ 15300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Автофигура 55"/>
          <p:cNvSpPr/>
          <p:nvPr/>
        </p:nvSpPr>
        <p:spPr>
          <a:xfrm>
            <a:off x="6372360" y="1268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0920" y="764640"/>
            <a:ext cx="7993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сти уравнения системы к одинаковым по модулю коэффициентам при переменны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коэффициенты одинаковы, то из одного уравнения вычесть друг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же коэффициенты  противоположные, то уравнения складываю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ь полученное уравнение (найти значение одной из переменных систем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тавить известное значение переменной в одно из уравнений и найти значение второй переменн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)    Записать отв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476360" y="115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alibri"/>
              </a:rPr>
              <a:t>Алгоритм метода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324000" y="1821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ин из великих ученых, высоко ценивший книгу, назвал ее «вратами учености». Сам он не только ее изучил, но и знал ее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"/>
          <p:cNvSpPr/>
          <p:nvPr/>
        </p:nvSpPr>
        <p:spPr>
          <a:xfrm>
            <a:off x="1619280" y="1125360"/>
            <a:ext cx="144360" cy="71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719280"/>
              <a:gd name="textAreaBottom" fmla="*/ 70992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1"/>
                  <a:pt x="10800" y="902"/>
                </a:cubicBezTo>
                <a:lnTo>
                  <a:pt x="10800" y="9898"/>
                </a:lnTo>
                <a:cubicBezTo>
                  <a:pt x="10800" y="10349"/>
                  <a:pt x="5400" y="10800"/>
                  <a:pt x="0" y="10800"/>
                </a:cubicBezTo>
                <a:cubicBezTo>
                  <a:pt x="5400" y="10800"/>
                  <a:pt x="10800" y="11251"/>
                  <a:pt x="10800" y="11702"/>
                </a:cubicBezTo>
                <a:lnTo>
                  <a:pt x="10800" y="20698"/>
                </a:lnTo>
                <a:cubicBezTo>
                  <a:pt x="10800" y="211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1686960" y="1125360"/>
            <a:ext cx="178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 x = 4,6 + 3 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 y + 3,2 = 6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250920" y="1890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о решить системы уравнений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вариант                                                                               2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"/>
          <p:cNvSpPr/>
          <p:nvPr/>
        </p:nvSpPr>
        <p:spPr>
          <a:xfrm>
            <a:off x="759240" y="765000"/>
            <a:ext cx="13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х + 3у = 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х - 5у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Автофигура 4"/>
          <p:cNvSpPr/>
          <p:nvPr/>
        </p:nvSpPr>
        <p:spPr>
          <a:xfrm>
            <a:off x="539640" y="765000"/>
            <a:ext cx="228600" cy="719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19280"/>
              <a:gd name="textAreaBottom" fmla="*/ 69948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3"/>
                  <a:pt x="10800" y="1905"/>
                </a:cubicBezTo>
                <a:lnTo>
                  <a:pt x="10800" y="8895"/>
                </a:lnTo>
                <a:cubicBezTo>
                  <a:pt x="10800" y="9848"/>
                  <a:pt x="5400" y="10800"/>
                  <a:pt x="0" y="10800"/>
                </a:cubicBezTo>
                <a:cubicBezTo>
                  <a:pt x="5400" y="10800"/>
                  <a:pt x="10800" y="11753"/>
                  <a:pt x="10800" y="12705"/>
                </a:cubicBezTo>
                <a:lnTo>
                  <a:pt x="10800" y="19695"/>
                </a:lnTo>
                <a:cubicBezTo>
                  <a:pt x="10800" y="2064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"/>
          <p:cNvSpPr/>
          <p:nvPr/>
        </p:nvSpPr>
        <p:spPr>
          <a:xfrm>
            <a:off x="1379520" y="1557360"/>
            <a:ext cx="63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Уровнять модули коэффициентов при одной из переме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7"/>
          <p:cNvSpPr/>
          <p:nvPr/>
        </p:nvSpPr>
        <p:spPr>
          <a:xfrm>
            <a:off x="2261880" y="270828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ложить или вычесть уравнения почл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2288880" y="3500280"/>
            <a:ext cx="43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Решить уравнение с одной перем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"/>
          <p:cNvSpPr/>
          <p:nvPr/>
        </p:nvSpPr>
        <p:spPr>
          <a:xfrm>
            <a:off x="1692360" y="4292640"/>
            <a:ext cx="5688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Подставить известное значение переменной в одно из уравнений и найти значение второй переме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0"/>
          <p:cNvSpPr/>
          <p:nvPr/>
        </p:nvSpPr>
        <p:spPr>
          <a:xfrm>
            <a:off x="2273400" y="63086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Автофигура 4"/>
          <p:cNvSpPr/>
          <p:nvPr/>
        </p:nvSpPr>
        <p:spPr>
          <a:xfrm>
            <a:off x="5651640" y="907920"/>
            <a:ext cx="228600" cy="6494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649440"/>
              <a:gd name="textAreaBottom" fmla="*/ 62964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58"/>
                  <a:pt x="10800" y="2116"/>
                </a:cubicBezTo>
                <a:lnTo>
                  <a:pt x="10800" y="8684"/>
                </a:lnTo>
                <a:cubicBezTo>
                  <a:pt x="10800" y="9742"/>
                  <a:pt x="5400" y="10800"/>
                  <a:pt x="0" y="10800"/>
                </a:cubicBezTo>
                <a:cubicBezTo>
                  <a:pt x="5400" y="10800"/>
                  <a:pt x="10800" y="11858"/>
                  <a:pt x="10800" y="12916"/>
                </a:cubicBezTo>
                <a:lnTo>
                  <a:pt x="10800" y="19484"/>
                </a:lnTo>
                <a:cubicBezTo>
                  <a:pt x="10800" y="20542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3"/>
          <p:cNvSpPr/>
          <p:nvPr/>
        </p:nvSpPr>
        <p:spPr>
          <a:xfrm>
            <a:off x="5873040" y="616572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е 11"/>
          <p:cNvSpPr/>
          <p:nvPr/>
        </p:nvSpPr>
        <p:spPr>
          <a:xfrm>
            <a:off x="2126520" y="10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е 11"/>
          <p:cNvSpPr/>
          <p:nvPr/>
        </p:nvSpPr>
        <p:spPr>
          <a:xfrm>
            <a:off x="2126880" y="765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6"/>
          <p:cNvSpPr/>
          <p:nvPr/>
        </p:nvSpPr>
        <p:spPr>
          <a:xfrm>
            <a:off x="539640" y="1989000"/>
            <a:ext cx="187164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6х +  9у = 2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6х - 10у =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Автофигура 4"/>
          <p:cNvSpPr/>
          <p:nvPr/>
        </p:nvSpPr>
        <p:spPr>
          <a:xfrm>
            <a:off x="611280" y="1989000"/>
            <a:ext cx="301680" cy="648000"/>
          </a:xfrm>
          <a:custGeom>
            <a:avLst/>
            <a:gdLst>
              <a:gd name="textAreaLeft" fmla="*/ 192960 w 301680"/>
              <a:gd name="textAreaRight" fmla="*/ 302040 w 301680"/>
              <a:gd name="textAreaTop" fmla="*/ 25920 h 648000"/>
              <a:gd name="textAreaBottom" fmla="*/ 62208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97"/>
                  <a:pt x="10800" y="2794"/>
                </a:cubicBezTo>
                <a:lnTo>
                  <a:pt x="10800" y="8006"/>
                </a:lnTo>
                <a:cubicBezTo>
                  <a:pt x="10800" y="9403"/>
                  <a:pt x="5400" y="10800"/>
                  <a:pt x="0" y="10800"/>
                </a:cubicBezTo>
                <a:cubicBezTo>
                  <a:pt x="5400" y="10800"/>
                  <a:pt x="10800" y="12197"/>
                  <a:pt x="10800" y="13594"/>
                </a:cubicBezTo>
                <a:lnTo>
                  <a:pt x="10800" y="18806"/>
                </a:lnTo>
                <a:cubicBezTo>
                  <a:pt x="10800" y="2020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20"/>
          <p:cNvSpPr/>
          <p:nvPr/>
        </p:nvSpPr>
        <p:spPr>
          <a:xfrm>
            <a:off x="755640" y="2997360"/>
            <a:ext cx="1368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19 у =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1"/>
          <p:cNvSpPr/>
          <p:nvPr/>
        </p:nvSpPr>
        <p:spPr>
          <a:xfrm>
            <a:off x="1047240" y="3789360"/>
            <a:ext cx="618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у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2"/>
          <p:cNvSpPr/>
          <p:nvPr/>
        </p:nvSpPr>
        <p:spPr>
          <a:xfrm>
            <a:off x="692640" y="4869000"/>
            <a:ext cx="13924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х + 3 ·  1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х = 7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х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х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3"/>
          <p:cNvSpPr/>
          <p:nvPr/>
        </p:nvSpPr>
        <p:spPr>
          <a:xfrm>
            <a:off x="3059280" y="623736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( 2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580000" y="836640"/>
            <a:ext cx="158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х+5у=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х+7у=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6"/>
          <p:cNvSpPr/>
          <p:nvPr/>
        </p:nvSpPr>
        <p:spPr>
          <a:xfrm>
            <a:off x="6659640" y="1989000"/>
            <a:ext cx="1728720" cy="69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0х+25у=5</a:t>
            </a: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,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20х+28у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Автофигура 4"/>
          <p:cNvSpPr/>
          <p:nvPr/>
        </p:nvSpPr>
        <p:spPr>
          <a:xfrm>
            <a:off x="6659640" y="2060640"/>
            <a:ext cx="228600" cy="576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576360"/>
              <a:gd name="textAreaBottom" fmla="*/ 5565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0"/>
                  <a:pt x="10800" y="2380"/>
                </a:cubicBezTo>
                <a:lnTo>
                  <a:pt x="10800" y="8420"/>
                </a:lnTo>
                <a:cubicBezTo>
                  <a:pt x="10800" y="9610"/>
                  <a:pt x="5400" y="10800"/>
                  <a:pt x="0" y="10800"/>
                </a:cubicBezTo>
                <a:cubicBezTo>
                  <a:pt x="5400" y="10800"/>
                  <a:pt x="10800" y="11990"/>
                  <a:pt x="10800" y="13180"/>
                </a:cubicBezTo>
                <a:lnTo>
                  <a:pt x="10800" y="19220"/>
                </a:lnTo>
                <a:cubicBezTo>
                  <a:pt x="10800" y="2041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7964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оле 11"/>
          <p:cNvSpPr/>
          <p:nvPr/>
        </p:nvSpPr>
        <p:spPr>
          <a:xfrm>
            <a:off x="6879240" y="8366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е 11"/>
          <p:cNvSpPr/>
          <p:nvPr/>
        </p:nvSpPr>
        <p:spPr>
          <a:xfrm>
            <a:off x="6879240" y="1197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·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0"/>
          <p:cNvSpPr/>
          <p:nvPr/>
        </p:nvSpPr>
        <p:spPr>
          <a:xfrm>
            <a:off x="6732720" y="3068640"/>
            <a:ext cx="1368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e46c0a"/>
                </a:solidFill>
                <a:latin typeface="Calibri"/>
              </a:rPr>
              <a:t>-3 у = -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1"/>
          <p:cNvSpPr/>
          <p:nvPr/>
        </p:nvSpPr>
        <p:spPr>
          <a:xfrm>
            <a:off x="7097400" y="3789360"/>
            <a:ext cx="618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у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2"/>
          <p:cNvSpPr/>
          <p:nvPr/>
        </p:nvSpPr>
        <p:spPr>
          <a:xfrm>
            <a:off x="7029000" y="4869000"/>
            <a:ext cx="1340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4х + 5 · 5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4х = 1 -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4х = 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e46c0a"/>
                </a:solidFill>
                <a:latin typeface="Calibri"/>
              </a:rPr>
              <a:t>х = 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3"/>
          <p:cNvSpPr/>
          <p:nvPr/>
        </p:nvSpPr>
        <p:spPr>
          <a:xfrm>
            <a:off x="6659640" y="6165720"/>
            <a:ext cx="1152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46c0a"/>
                </a:solidFill>
                <a:latin typeface="Calibri"/>
              </a:rPr>
              <a:t>( -6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468360" y="1341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Домашняя 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ебник стр. 85, задачник № 13.9 в) г),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обороте титульного листа Магницкий обращается к будущему, учени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«Арифметике любезно учися, </a:t>
            </a:r>
            <a:br>
              <a:rPr sz="2800"/>
            </a:b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В ней разных правил и штук придержися,</a:t>
            </a:r>
            <a:br>
              <a:rPr sz="2800"/>
            </a:b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Ибо в гражданстве к делам есть потребно...</a:t>
            </a:r>
            <a:br>
              <a:rPr sz="2800"/>
            </a:b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И пути в небе решит, и на мори,</a:t>
            </a:r>
            <a:br>
              <a:rPr sz="2800"/>
            </a:b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Еще на войне полезно, и в поли...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ысл всего стихотворения таков: математика дает человеку возможность рассчитывать и соображать свои поступки в разных обстоятельств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0" y="0"/>
          <a:ext cx="11448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4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"/>
          <p:cNvGraphicFramePr/>
          <p:nvPr/>
        </p:nvGraphicFramePr>
        <p:xfrm>
          <a:off x="1042920" y="476280"/>
          <a:ext cx="2745000" cy="14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76280"/>
                    <a:ext cx="274500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49600" y="79560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23640" y="18864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зывается решением системы уравнений с двумя пер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Что значит решить систему уравнени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способов решения систем линейных уравнений вы знаете? Назовите, эти способ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9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alibri"/>
              </a:rPr>
              <a:t>Если коэффициенты при одной из переменных являются противоположными числами, то с чего вы начинаете решение системы линейных уравнени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Из каких уравнений можно составить систему, решением которой будет пара чисел (1;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50920" y="141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5х+у=8         Б. 4х+у=4         В. 2х-3у=2          Г. 6х+5у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501200" y="3429000"/>
            <a:ext cx="5406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Исключить одну из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900000" y="414972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х + у = -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х + у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826920" y="4149720"/>
            <a:ext cx="73080" cy="9349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3276720" y="4149720"/>
            <a:ext cx="18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y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+ у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3203640" y="4149720"/>
            <a:ext cx="73080" cy="9349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5940360" y="4076640"/>
            <a:ext cx="73080" cy="9349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5940360" y="40766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 – 2у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6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х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3564000" y="2133720"/>
            <a:ext cx="151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4х+у=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1341000" y="508464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-х =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3573720" y="508464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3х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6443640" y="508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- 7у = 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3564000" y="2565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2х-3у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3492360" y="2133720"/>
            <a:ext cx="71640" cy="934920"/>
          </a:xfrm>
          <a:custGeom>
            <a:avLst/>
            <a:gdLst>
              <a:gd name="textAreaLeft" fmla="*/ 45720 w 71640"/>
              <a:gd name="textAreaRight" fmla="*/ 72000 w 71640"/>
              <a:gd name="textAreaTop" fmla="*/ 23760 h 934920"/>
              <a:gd name="textAreaBottom" fmla="*/ 91116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1"/>
                  <a:pt x="10800" y="1761"/>
                </a:cubicBezTo>
                <a:lnTo>
                  <a:pt x="10800" y="9039"/>
                </a:lnTo>
                <a:cubicBezTo>
                  <a:pt x="10800" y="9920"/>
                  <a:pt x="5400" y="10800"/>
                  <a:pt x="0" y="10800"/>
                </a:cubicBezTo>
                <a:cubicBezTo>
                  <a:pt x="5400" y="10800"/>
                  <a:pt x="10800" y="11681"/>
                  <a:pt x="10800" y="12561"/>
                </a:cubicBezTo>
                <a:lnTo>
                  <a:pt x="10800" y="19839"/>
                </a:lnTo>
                <a:cubicBezTo>
                  <a:pt x="10800" y="2072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pics.livejournal.com/gorlex72/pic/000fh7q2/s640x480"/>
          <p:cNvPicPr/>
          <p:nvPr/>
        </p:nvPicPr>
        <p:blipFill>
          <a:blip r:embed="rId1"/>
          <a:stretch/>
        </p:blipFill>
        <p:spPr>
          <a:xfrm>
            <a:off x="324000" y="907920"/>
            <a:ext cx="3456000" cy="52848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7" name="Прямоугольник 2"/>
          <p:cNvSpPr/>
          <p:nvPr/>
        </p:nvSpPr>
        <p:spPr>
          <a:xfrm>
            <a:off x="971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Леонтий Филиппович Магницкий (1669-173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4067280" y="1052640"/>
            <a:ext cx="482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тр I «имев случай узнать сего достойного мужа,... с ним многократно о математических науках беседовал и так был восхищен глубокими познаниями его в оных, что называл его магнитом и приказал писаться Магницк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го величеству Петром первому… учинен… учителем математики, в котором звании ревностно, верно, честно, всеприлежно и бессрочно служ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333360"/>
          <a:ext cx="8642160" cy="1096920"/>
        </p:xfrm>
        <a:graphic>
          <a:graphicData uri="http://schemas.openxmlformats.org/drawingml/2006/table">
            <a:tbl>
              <a:tblPr/>
              <a:tblGrid>
                <a:gridCol w="2665440"/>
                <a:gridCol w="3671640"/>
                <a:gridCol w="2305080"/>
              </a:tblGrid>
              <a:tr h="3661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кажите номер парты и номер 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низонна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о-навигацка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фирная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Прямоугольник 2"/>
          <p:cNvSpPr/>
          <p:nvPr/>
        </p:nvSpPr>
        <p:spPr>
          <a:xfrm>
            <a:off x="978840" y="148428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у = 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 – 3у= -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900000" y="1484280"/>
            <a:ext cx="73080" cy="93492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ostashkov.codis.ru/okmmag.jpg"/>
          <p:cNvPicPr/>
          <p:nvPr/>
        </p:nvPicPr>
        <p:blipFill>
          <a:blip r:embed="rId1"/>
          <a:srcRect l="0" t="2919" r="0" b="0"/>
          <a:stretch/>
        </p:blipFill>
        <p:spPr>
          <a:xfrm>
            <a:off x="826920" y="836640"/>
            <a:ext cx="727416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Прямоугольник 2"/>
          <p:cNvSpPr/>
          <p:nvPr/>
        </p:nvSpPr>
        <p:spPr>
          <a:xfrm>
            <a:off x="250920" y="115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"Арифметика" Магницк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84360" y="91152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х+2у=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х-2у=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611280" y="907920"/>
            <a:ext cx="28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{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1263240" y="261720"/>
            <a:ext cx="64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ло лет – решение системы у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250920" y="177336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ожить уравнения почл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4048200" y="33973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24000" y="3068640"/>
            <a:ext cx="849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ставить известное значение переменной в одно из уравнений и найти значение второй переме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2700360" y="558972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 (3;4).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3"/>
          <p:cNvSpPr/>
          <p:nvPr/>
        </p:nvSpPr>
        <p:spPr>
          <a:xfrm>
            <a:off x="5148360" y="1052640"/>
            <a:ext cx="37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34 года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Леонтий Филипповичу Магницкому, когда вышла его книга «Арифмет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826920" y="220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8 х = 24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х = 3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468360" y="3789360"/>
            <a:ext cx="39225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3 </a:t>
            </a:r>
            <a:r>
              <a:rPr b="1" lang="ru-RU" sz="2400" spc="-1" strike="noStrike" baseline="30000">
                <a:solidFill>
                  <a:srgbClr val="984807"/>
                </a:solidFill>
                <a:latin typeface="Calibri"/>
              </a:rPr>
              <a:t>.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3 + 2у = 1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9 + 2у = 1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2у = 17 – 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2у = 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у =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4873680" y="1703520"/>
            <a:ext cx="16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х+3у=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х-5у=-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179280" y="377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ределим, в каком году вышла его книга. Решить системы уравнений и записать числа первой системы и подписать решение втор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Автофигура 55"/>
          <p:cNvSpPr/>
          <p:nvPr/>
        </p:nvSpPr>
        <p:spPr>
          <a:xfrm>
            <a:off x="4643280" y="1773360"/>
            <a:ext cx="144720" cy="79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792000"/>
              <a:gd name="textAreaBottom" fmla="*/ 7754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7"/>
                  <a:pt x="10800" y="1473"/>
                </a:cubicBezTo>
                <a:lnTo>
                  <a:pt x="10800" y="9327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7"/>
                  <a:pt x="10800" y="12273"/>
                </a:cubicBezTo>
                <a:lnTo>
                  <a:pt x="10800" y="20127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Автофигура 55"/>
          <p:cNvSpPr/>
          <p:nvPr/>
        </p:nvSpPr>
        <p:spPr>
          <a:xfrm>
            <a:off x="1258920" y="1844640"/>
            <a:ext cx="144360" cy="7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792360"/>
              <a:gd name="textAreaBottom" fmla="*/ 77580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7"/>
                  <a:pt x="10800" y="1473"/>
                </a:cubicBezTo>
                <a:lnTo>
                  <a:pt x="10800" y="9327"/>
                </a:lnTo>
                <a:cubicBezTo>
                  <a:pt x="10800" y="10064"/>
                  <a:pt x="5400" y="10800"/>
                  <a:pt x="0" y="10800"/>
                </a:cubicBezTo>
                <a:cubicBezTo>
                  <a:pt x="5400" y="10800"/>
                  <a:pt x="10800" y="11537"/>
                  <a:pt x="10800" y="12273"/>
                </a:cubicBezTo>
                <a:lnTo>
                  <a:pt x="10800" y="20127"/>
                </a:lnTo>
                <a:cubicBezTo>
                  <a:pt x="10800" y="20864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1403280" y="177336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+у=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х-2у=-9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Автофигура 4"/>
          <p:cNvSpPr/>
          <p:nvPr/>
        </p:nvSpPr>
        <p:spPr>
          <a:xfrm>
            <a:off x="611280" y="62064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259200" y="134136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внять модули коэффициентов при одной из перем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72880" y="2852640"/>
            <a:ext cx="50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ить или вычесть уравнения почл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8"/>
          <p:cNvSpPr/>
          <p:nvPr/>
        </p:nvSpPr>
        <p:spPr>
          <a:xfrm>
            <a:off x="266040" y="378936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Решить уравнение с одной перем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179280" y="4869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Подставить известное значение переменной в одно из уравнений и найти значение второй перем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0"/>
          <p:cNvSpPr/>
          <p:nvPr/>
        </p:nvSpPr>
        <p:spPr>
          <a:xfrm>
            <a:off x="3780000" y="6021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826920" y="549360"/>
            <a:ext cx="20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у = 8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х - 2у= -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684360" y="191628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      у = 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х -  2у  = -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Автофигура 4"/>
          <p:cNvSpPr/>
          <p:nvPr/>
        </p:nvSpPr>
        <p:spPr>
          <a:xfrm>
            <a:off x="468360" y="1916280"/>
            <a:ext cx="228600" cy="865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865080"/>
              <a:gd name="textAreaBottom" fmla="*/ 84528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4"/>
                  <a:pt x="10800" y="1587"/>
                </a:cubicBezTo>
                <a:lnTo>
                  <a:pt x="10800" y="9213"/>
                </a:lnTo>
                <a:cubicBezTo>
                  <a:pt x="10800" y="10007"/>
                  <a:pt x="5400" y="10800"/>
                  <a:pt x="0" y="10800"/>
                </a:cubicBezTo>
                <a:cubicBezTo>
                  <a:pt x="5400" y="10800"/>
                  <a:pt x="10800" y="11594"/>
                  <a:pt x="10800" y="12387"/>
                </a:cubicBezTo>
                <a:lnTo>
                  <a:pt x="10800" y="20013"/>
                </a:lnTo>
                <a:cubicBezTo>
                  <a:pt x="10800" y="20807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684360" y="1989000"/>
            <a:ext cx="431640" cy="432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1619280" y="1989000"/>
            <a:ext cx="431640" cy="432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2627280" y="1989000"/>
            <a:ext cx="432000" cy="4320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2700360" y="549360"/>
            <a:ext cx="503280" cy="4316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8"/>
          <p:cNvSpPr/>
          <p:nvPr/>
        </p:nvSpPr>
        <p:spPr>
          <a:xfrm>
            <a:off x="1116000" y="3357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     у =     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9"/>
          <p:cNvSpPr/>
          <p:nvPr/>
        </p:nvSpPr>
        <p:spPr>
          <a:xfrm flipH="1">
            <a:off x="2626560" y="3357720"/>
            <a:ext cx="360360" cy="4316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0"/>
          <p:cNvSpPr/>
          <p:nvPr/>
        </p:nvSpPr>
        <p:spPr>
          <a:xfrm>
            <a:off x="1692360" y="3357720"/>
            <a:ext cx="358560" cy="4316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1"/>
          <p:cNvSpPr/>
          <p:nvPr/>
        </p:nvSpPr>
        <p:spPr>
          <a:xfrm>
            <a:off x="755640" y="3357720"/>
            <a:ext cx="395280" cy="43164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2"/>
          <p:cNvSpPr/>
          <p:nvPr/>
        </p:nvSpPr>
        <p:spPr>
          <a:xfrm>
            <a:off x="1193040" y="5373720"/>
            <a:ext cx="11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у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L</cp:lastModifiedBy>
  <dcterms:modified xsi:type="dcterms:W3CDTF">2011-11-16T18:14:30Z</dcterms:modified>
  <cp:revision>276</cp:revision>
  <dc:subject/>
  <dc:title>Слайд 1</dc:title>
</cp:coreProperties>
</file>