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4D95-6D57-423C-AC1D-B3BD3D1E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B2A-30FE-4DFA-AC13-9261B61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5441-6D36-4E94-8A5A-4FB08C38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7ED-5E4B-40FE-A631-394B236E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F4F-D5CE-4C69-B6A2-1E9D7F94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295-F683-4C0C-9060-1FF2A356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3E0F-AA02-4D2A-8180-7BBA315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5E1-A0AA-4D2F-8ED5-F5AEF44C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5A2-9DDC-4CCA-A6E5-B975EE0E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6A2-A14A-4247-8AC7-7BDFD85D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82C-BE30-4B71-B3D7-473F5B1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DC3-6DBD-42F1-BA40-24595C50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3A61-E353-4B83-BCC2-B0F63E5F8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857160" y="-285840"/>
            <a:ext cx="714384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28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1" descr=""/>
          <p:cNvPicPr/>
          <p:nvPr/>
        </p:nvPicPr>
        <p:blipFill>
          <a:blip r:embed="rId1"/>
          <a:stretch/>
        </p:blipFill>
        <p:spPr>
          <a:xfrm>
            <a:off x="17859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4" descr=""/>
          <p:cNvPicPr/>
          <p:nvPr/>
        </p:nvPicPr>
        <p:blipFill>
          <a:blip r:embed="rId1"/>
          <a:stretch/>
        </p:blipFill>
        <p:spPr>
          <a:xfrm>
            <a:off x="192888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516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7" descr=""/>
          <p:cNvPicPr/>
          <p:nvPr/>
        </p:nvPicPr>
        <p:blipFill>
          <a:blip r:embed="rId1"/>
          <a:stretch/>
        </p:blipFill>
        <p:spPr>
          <a:xfrm>
            <a:off x="1785960" y="-357120"/>
            <a:ext cx="5214960" cy="7429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0096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0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15160" y="5643720"/>
            <a:ext cx="60012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43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6" descr=""/>
          <p:cNvPicPr/>
          <p:nvPr/>
        </p:nvPicPr>
        <p:blipFill>
          <a:blip r:embed="rId1"/>
          <a:stretch/>
        </p:blipFill>
        <p:spPr>
          <a:xfrm>
            <a:off x="214308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8680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9" descr=""/>
          <p:cNvPicPr/>
          <p:nvPr/>
        </p:nvPicPr>
        <p:blipFill>
          <a:blip r:embed="rId1"/>
          <a:stretch/>
        </p:blipFill>
        <p:spPr>
          <a:xfrm>
            <a:off x="214308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15160" y="5643720"/>
            <a:ext cx="60012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2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8072280" y="55008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5" descr=""/>
          <p:cNvPicPr/>
          <p:nvPr/>
        </p:nvPicPr>
        <p:blipFill>
          <a:blip r:embed="rId1"/>
          <a:stretch/>
        </p:blipFill>
        <p:spPr>
          <a:xfrm>
            <a:off x="1785960" y="-214200"/>
            <a:ext cx="5143320" cy="732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64388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57200" y="285480"/>
            <a:ext cx="2214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тр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Стр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Стр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Стр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Стр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Стр.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Стр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Стр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Стр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тр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Стр.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4714920" y="357120"/>
            <a:ext cx="2500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Стр.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Стр.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Стр.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Стр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Стр.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Стр.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Стр.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 action="ppaction://hlinksldjump"/>
              </a:rPr>
              <a:t>Стр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Стр.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Стр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 action="ppaction://hlinksldjump"/>
              </a:rPr>
              <a:t>Стр.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 action="ppaction://hlinksldjump"/>
              </a:rPr>
              <a:t>Стр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8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8680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1" descr=""/>
          <p:cNvPicPr/>
          <p:nvPr/>
        </p:nvPicPr>
        <p:blipFill>
          <a:blip r:embed="rId1"/>
          <a:stretch/>
        </p:blipFill>
        <p:spPr>
          <a:xfrm>
            <a:off x="185724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8680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4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71516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67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64388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70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572240" y="59292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73" descr=""/>
          <p:cNvPicPr/>
          <p:nvPr/>
        </p:nvPicPr>
        <p:blipFill>
          <a:blip r:embed="rId1"/>
          <a:stretch/>
        </p:blipFill>
        <p:spPr>
          <a:xfrm>
            <a:off x="1000080" y="0"/>
            <a:ext cx="5286600" cy="714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:\Мои документы\Школа\курсы\Мастер-класс\7 занятие.  Кроссворды\стрелки\4.bmp"/>
          <p:cNvPicPr/>
          <p:nvPr/>
        </p:nvPicPr>
        <p:blipFill>
          <a:blip r:embed="rId2"/>
          <a:stretch/>
        </p:blipFill>
        <p:spPr>
          <a:xfrm>
            <a:off x="785808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"/>
          <p:cNvPicPr/>
          <p:nvPr/>
        </p:nvPicPr>
        <p:blipFill>
          <a:blip r:embed="rId1"/>
          <a:stretch/>
        </p:blipFill>
        <p:spPr>
          <a:xfrm>
            <a:off x="1706400" y="-214200"/>
            <a:ext cx="5115240" cy="7286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4388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0" descr=""/>
          <p:cNvPicPr/>
          <p:nvPr/>
        </p:nvPicPr>
        <p:blipFill>
          <a:blip r:embed="rId1"/>
          <a:stretch/>
        </p:blipFill>
        <p:spPr>
          <a:xfrm>
            <a:off x="2286000" y="-165240"/>
            <a:ext cx="4929120" cy="702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78628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3" descr=""/>
          <p:cNvPicPr/>
          <p:nvPr/>
        </p:nvPicPr>
        <p:blipFill>
          <a:blip r:embed="rId1"/>
          <a:stretch/>
        </p:blipFill>
        <p:spPr>
          <a:xfrm>
            <a:off x="2000160" y="-21420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6800" y="57150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6" descr=""/>
          <p:cNvPicPr/>
          <p:nvPr/>
        </p:nvPicPr>
        <p:blipFill>
          <a:blip r:embed="rId1"/>
          <a:stretch/>
        </p:blipFill>
        <p:spPr>
          <a:xfrm>
            <a:off x="207180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85792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9" descr=""/>
          <p:cNvPicPr/>
          <p:nvPr/>
        </p:nvPicPr>
        <p:blipFill>
          <a:blip r:embed="rId1"/>
          <a:stretch/>
        </p:blipFill>
        <p:spPr>
          <a:xfrm>
            <a:off x="2143080" y="-368280"/>
            <a:ext cx="5072040" cy="722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9720" y="5929200"/>
            <a:ext cx="59976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2" descr=""/>
          <p:cNvPicPr/>
          <p:nvPr/>
        </p:nvPicPr>
        <p:blipFill>
          <a:blip r:embed="rId1"/>
          <a:stretch/>
        </p:blipFill>
        <p:spPr>
          <a:xfrm>
            <a:off x="2000160" y="-266760"/>
            <a:ext cx="5000760" cy="7124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92920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5" descr=""/>
          <p:cNvPicPr/>
          <p:nvPr/>
        </p:nvPicPr>
        <p:blipFill>
          <a:blip r:embed="rId1"/>
          <a:stretch/>
        </p:blipFill>
        <p:spPr>
          <a:xfrm>
            <a:off x="2214720" y="-165240"/>
            <a:ext cx="4929120" cy="702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:\Мои документы\Школа\курсы\Мастер-класс\7 занятие.  Кроссворды\стрелки\4.bm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6000840"/>
            <a:ext cx="6001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3:43:56Z</dcterms:created>
  <dc:creator>Техно сила</dc:creator>
  <dc:description/>
  <dc:language>en-US</dc:language>
  <cp:lastModifiedBy>Техно сила</cp:lastModifiedBy>
  <dcterms:modified xsi:type="dcterms:W3CDTF">2012-06-20T14:36:04Z</dcterms:modified>
  <cp:revision>6</cp:revision>
  <dc:subject/>
  <dc:title>Слайд 1</dc:title>
</cp:coreProperties>
</file>