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61D-D0C9-4FF7-AF93-EBCB6AF3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8D9-DC79-439C-8BE1-203EBCD5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785-7C10-4D79-B705-6A196731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85F4-6D4C-44CF-8565-CCB1C014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DAC6-0B00-41F5-9FB2-4E9C004E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7998-6DEA-48D3-B52A-7E9DE078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1D4F-2FBF-4529-A250-20B09A7C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0908-24A7-4BB0-BC87-39E8A597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CCD9-A6F0-4866-91ED-EE586E0E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16B8-0516-4B12-8AFB-F54378E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9675-6AEB-4394-9370-33574C91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684-5746-401E-89EA-12F75CCF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B808-3E10-45A8-BF39-3139C893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38FE-F979-44B9-A38A-CB70D556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DFC5-6CF1-4F75-8915-FDE15296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7A32-2AD5-4DFE-B362-8C92C5B5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2C78-1618-4C27-8672-A1C77598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0FE63-1BA2-43C2-B296-2CBB4888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9D8F6-24E5-41BC-AE3A-14A11944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4B83-55F9-482C-85A0-927CF3C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2879-436C-4DF0-9C64-E6A84C22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4401-2967-4E43-B50F-B180387C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116-9911-42F6-B234-51E31D95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2009-760C-4E87-B285-93BD99F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19DA-5B3E-4CCA-A5C2-6C146A4A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7FBE-7C8F-4C5A-A359-FA6B8036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69FE-9BE2-463A-A3A1-9D4976D0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4B89-4688-4548-A397-52AE752E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1F5F-FF17-45D7-BB3F-16DD642F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12DD-CC44-4907-9DFA-C2498F03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569-9E3D-4625-B283-7BF09144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97A-2DA1-4DAD-A44C-2656B6C1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9B1-08D8-4915-8E97-FE4660EA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D23-0C68-4051-9725-B0831C8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270-1FB8-41AC-9875-AB9F6466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712-506F-406C-A5C7-8DA0B07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9E7-4A6B-4F11-A8E5-59CB9EA54164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D068-800F-46E3-85A5-F7465F62360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BA16-938C-49F9-8C3B-0DE2B72FA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740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Monotype Corsiva"/>
              </a:rPr>
              <a:t>Советский тыл в годы войны</a:t>
            </a:r>
            <a:endParaRPr b="0" lang="en-US" sz="8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415280" y="5876640"/>
            <a:ext cx="1728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103"/>
                </a:solidFill>
                <a:latin typeface="Monotype Corsiva"/>
              </a:rPr>
              <a:t>9, 11 клас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690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1f08"/>
                </a:solidFill>
                <a:latin typeface="Monotype Corsiva"/>
              </a:rPr>
              <a:t>Перевод экономики на «военные рельсы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1f08"/>
                </a:solidFill>
                <a:uFillTx/>
                <a:latin typeface="Monotype Corsiva"/>
              </a:rPr>
              <a:t>Потери  СССР на 1941 г.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более 1,5 млн. кв. км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42% населения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47% посевных площадей                           Превосходство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1/3 пром. производства                            Германи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40% производства  электроэнергии                 над СССР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70% производства чугуна                         в 3-4 раз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60% производства стали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63% производства угля</a:t>
            </a:r>
            <a:r>
              <a:rPr b="0" lang="en-US" sz="2400" spc="-1" strike="noStrike">
                <a:solidFill>
                  <a:srgbClr val="3e0bf7"/>
                </a:solidFill>
                <a:latin typeface="Monotype Corsiva"/>
              </a:rPr>
              <a:t>                                                  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"/>
          <p:cNvSpPr/>
          <p:nvPr/>
        </p:nvSpPr>
        <p:spPr>
          <a:xfrm>
            <a:off x="4643280" y="278136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EEF-2093-469D-8769-FAA5574D9BE5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80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0204e"/>
                </a:solidFill>
                <a:uFillTx/>
                <a:latin typeface="Monotype Corsiva"/>
              </a:rPr>
              <a:t>Организация работы тыла и итог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4  июня 1941 г. - Совет по эвакуации (Н.М.Шверник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вакуация предприятий на Урал, в Поволжье, Сибирь,  Казахстан и Среднюю 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евод экономики на военные нужды (всеобщая трудовая повинность, увеличение рабочего времени, отмена отпусков, уголовная ответственность за нарушение трудовой дисципл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1125360"/>
            <a:ext cx="442764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0b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0bf7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юль- ноябрь 1941г. в восточные районы было эвакуировано 1523 предприятия (в т. ч. 1360 крупных военных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0% численности рабочих в промышленности - женщины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60 тыс. учащихся VIII-X классов пришли на производство во второй половине 1941г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944г.- среди рабочего класса 2,5 млн. человек до 18 лет (в т. ч. 700 тыс. подростков)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8 млн. человек были удостоены звания Героя Социалистического труда, 16 млн. награждены медалью «За доблестный труд в Великой Отечественной войне 1941-1945гг.»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125360"/>
            <a:ext cx="0" cy="5112000"/>
          </a:xfrm>
          <a:prstGeom prst="line">
            <a:avLst/>
          </a:prstGeom>
          <a:ln w="9360">
            <a:solidFill>
              <a:srgbClr val="e02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257C-30B3-4445-9F45-C071EEF4714C}" type="slidenum">
              <a:t>3</a:t>
            </a:fld>
          </a:p>
        </p:txBody>
      </p:sp>
    </p:spTree>
  </p:cSld>
  <p:transition spd="med"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1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85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e0204e"/>
                </a:solidFill>
                <a:latin typeface="Monotype Corsiva"/>
              </a:rPr>
              <a:t>Значение тыла в годы войны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7846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ыл в годы войны - широкое понятие: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мышленность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сельское хозяйство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сбор средств, личных сбережений трудящихся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всенародная забота о сиротах и вдовах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посылки и письма на фронт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ыл – это все, что делали люди во имя великой цели – Победы над врагом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4FC-EADF-4EF1-999C-E12599DE9FC9}" type="slidenum">
              <a:t>4</a:t>
            </a:fld>
          </a:p>
        </p:txBody>
      </p:sp>
    </p:spTree>
  </p:cSld>
  <p:transition spd="med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e1f08"/>
                </a:solidFill>
                <a:latin typeface="Monotype Corsiva"/>
              </a:rPr>
              <a:t>Трудовой вклад Удмуртии в победу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вакуировано – 20 предприятий из Киева, Харькова, Баку, Одессы, Подольска и др. Город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онтаж оборудования в кратчайшие сроки(неделя – месяц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жедневная выработка -250-300 %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бочий день – 16-18 часов в сутк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37080" cy="453564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405" name=""/>
          <p:cNvSpPr/>
          <p:nvPr/>
        </p:nvSpPr>
        <p:spPr>
          <a:xfrm>
            <a:off x="4356000" y="602136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Сборка пулеметов на одном из заводов г.Ижевск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1FDC-E2FF-4F43-B838-DBB6FE021145}" type="slidenum">
              <a:t>5</a:t>
            </a:fld>
          </a:p>
        </p:txBody>
      </p:sp>
    </p:spTree>
  </p:cSld>
  <p:transition spd="med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9280" y="301320"/>
            <a:ext cx="66247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Monotype Corsiva"/>
              </a:rPr>
              <a:t>Трудовой вклад Удмуртии и </a:t>
            </a:r>
            <a:br>
              <a:rPr sz="3200"/>
            </a:br>
            <a:r>
              <a:rPr b="1" lang="en-US" sz="3200" spc="-1" strike="noStrike">
                <a:solidFill>
                  <a:srgbClr val="fe1f08"/>
                </a:solidFill>
                <a:latin typeface="Monotype Corsiva"/>
              </a:rPr>
              <a:t>г.Сарапула в победу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708360" cy="381636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066920" y="2004480"/>
            <a:ext cx="4825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Эвакуированы радиозавод им. Орджоникидзе, завод им. Дзержинского и др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строен ЭГЗ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руд за двоих: за себя и за товарища, ушедшего на фронт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абочий день по 16 – 18 часов в сутки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оревнование за право носить звание фронтовых бригад (1945г. - 396 бригад)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полнение своих ежедневных заданий на 200-300 %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олее 25 тыс. тонн металлолома собрали комсомольцы во время воскресников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мощь школе: учащиеся были обеспечены обувью, одеждой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омощь сельским труженикам, особенно в дни уборки урожая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"/>
          <p:cNvSpPr/>
          <p:nvPr/>
        </p:nvSpPr>
        <p:spPr>
          <a:xfrm>
            <a:off x="5272200" y="352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67120" y="640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4000" y="580536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ронтовая бригада Сидяковой,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вод им.Орджоникидзе  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F36B-834B-4ACE-B352-3EB4BF172C45}" type="slidenum">
              <a:t>6</a:t>
            </a:fld>
          </a:p>
        </p:txBody>
      </p:sp>
    </p:spTree>
  </p:cSld>
  <p:transition spd="med"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0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56865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Monotype Corsiva"/>
              </a:rPr>
              <a:t>Госпитали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7640" y="476280"/>
            <a:ext cx="6840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змещено - 8 стационарных, 9 полевых госпиталей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 Головной госпиталь размещался в школе № 15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* В здании  педагогического колледжа находился госпиталь № 1736, а также госпиталь № 8675 по улице Первомайской  и т.д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лавный хирург нашего города – Пётр Петрович Митрофанов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2700360" y="256536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1f08"/>
                </a:solidFill>
                <a:latin typeface="Monotype Corsiva"/>
              </a:rPr>
              <a:t>Займы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997360"/>
            <a:ext cx="626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нд обороны - 3063 тыс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ймов облигаций – 2069 тыс. руб.   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 строительство танков и самолетов – 3630 тыс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том числе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ионеры  и школьники – 1943г. – 55 тыс. рубле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944г. – 64тыс рубле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сомольцы – 1944г. – около 600 тыс. рублей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сего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нд обороны – 8756 тыс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блигаций – 40 млн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отерейных билетов – 6021 тыс.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рагоценности  -3063000 руб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F56-F58B-4B6D-9423-59C6BAD87E05}" type="slidenum">
              <a:t>7</a:t>
            </a:fld>
          </a:p>
        </p:txBody>
      </p:sp>
    </p:spTree>
  </p:cSld>
  <p:transition spd="med">
    <p:cover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5:46:54Z</dcterms:created>
  <dc:creator>ленин</dc:creator>
  <dc:description/>
  <dc:language>en-US</dc:language>
  <cp:lastModifiedBy>1</cp:lastModifiedBy>
  <dcterms:modified xsi:type="dcterms:W3CDTF">2009-09-01T17:40:59Z</dcterms:modified>
  <cp:revision>14</cp:revision>
  <dc:subject/>
  <dc:title>Советский тыл  в годы войны</dc:title>
</cp:coreProperties>
</file>