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7CB-B6CD-4275-A06C-D809E12D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5D1A-4712-43FD-9C95-1C634590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A50-5C07-4B07-9452-67910A4C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0F2-CEFF-4C67-BAFB-84F9BDC9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5E93-7881-4200-B237-1669138D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67ED-8DC8-483B-942D-4A0697A4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8956-86B9-4A5E-BAA2-92FDD69A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A88F-220E-4231-B08D-DECBDE11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F417-7D8F-45B3-A418-028A8812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D835-3855-4CE6-B0DC-9C3757E7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D2DA-9E67-43E4-B5D6-F7FD8EC4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354C-6480-4899-81F3-373549CB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B90C-4EF0-4F92-8F62-A04BEEFF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D85D-57FC-4E78-BDD4-CFED32CF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E9F4-D8DA-471A-B426-3E658BBD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C708-CB84-4B8A-B1DE-417F56E2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7159-A852-459A-BCD3-13EA3C83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8384C-B661-4695-A7B9-0D4DB8BA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115D9-24F8-4C5F-A725-D5B2F66E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4A911-E6DE-4546-BD76-89363DB1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A06B7-E31C-4369-BCDF-203EBBD1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98C72-2F85-46C8-BC8A-2E13F171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E341-2423-4C38-B76A-B7E279BA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FB498-BC1A-4D0F-81D8-7BAE5FE8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701A1-CB40-4E50-89F9-0948E6C1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33194-53DA-4A49-AFAD-56B02A7C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FE537-C47D-4C59-969F-BFCA4A35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3C787-1810-4ACB-888F-A23C8BD0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F9B70-3CB3-401D-BD19-4C9D9D3B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B6CA0-D405-43A5-8A0A-8E57177B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C1AE-D4B0-4F42-A4D3-76670784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8E0-3A81-4AF3-85E0-7E4953FF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380-A0F0-4589-BE8F-D533337D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868-91B5-4E43-B3C7-C3623050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496A-1B47-4393-BD1C-8ED905C8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6CA-CCA8-48DD-B64D-A159B38B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1F2D-E549-4C2B-9DFC-E37B6AFCB682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5B19-FFCD-400B-949D-43ED3AC39803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1FC2-A7A7-4F62-917A-2F581F640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740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Monotype Corsiva"/>
              </a:rPr>
              <a:t>Советский тыл в годы войны</a:t>
            </a:r>
            <a:endParaRPr b="0" lang="en-US" sz="8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415280" y="5876640"/>
            <a:ext cx="172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103"/>
                </a:solidFill>
                <a:latin typeface="Monotype Corsiva"/>
              </a:rPr>
              <a:t>9, 11 класс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7690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1f08"/>
                </a:solidFill>
                <a:latin typeface="Monotype Corsiva"/>
              </a:rPr>
              <a:t>Перевод экономики на «военные рельсы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1f08"/>
                </a:solidFill>
                <a:uFillTx/>
                <a:latin typeface="Monotype Corsiva"/>
              </a:rPr>
              <a:t>Потери  СССР на 1941 г.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более 1,5 млн. кв. км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42% населени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47% посевных площадей                           Превосходство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1/3 пром. производства                            Германи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40% производства  электроэнергии                 над СССР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70% производства чугуна                         в 3-4 раз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60% производства стали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63% производства угля</a:t>
            </a:r>
            <a:r>
              <a:rPr b="0" lang="en-US" sz="2400" spc="-1" strike="noStrike">
                <a:solidFill>
                  <a:srgbClr val="3e0bf7"/>
                </a:solidFill>
                <a:latin typeface="Monotype Corsiva"/>
              </a:rPr>
              <a:t>                                                   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"/>
          <p:cNvSpPr/>
          <p:nvPr/>
        </p:nvSpPr>
        <p:spPr>
          <a:xfrm>
            <a:off x="4643280" y="2781360"/>
            <a:ext cx="432000" cy="3600360"/>
          </a:xfrm>
          <a:custGeom>
            <a:avLst/>
            <a:gdLst>
              <a:gd name="textAreaLeft" fmla="*/ 0 w 432000"/>
              <a:gd name="textAreaRight" fmla="*/ 155880 w 43200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E61F-F87E-489C-AB65-1024E5180EA8}" type="slidenum">
              <a:t>2</a:t>
            </a:fld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803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0204e"/>
                </a:solidFill>
                <a:uFillTx/>
                <a:latin typeface="Monotype Corsiva"/>
              </a:rPr>
              <a:t>Организация работы тыла и итог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4  июня 1941 г. - Совет по эвакуации (Н.М.Шверник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вакуация предприятий на Урал, в Поволжье, Сибирь,  Казахстан и Среднюю Аз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ревод экономики на военные нужды (всеобщая трудовая повинность, увеличение рабочего времени, отмена отпусков, уголовная ответственность за нарушение трудовой дисциплин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716360" y="1125360"/>
            <a:ext cx="4427640" cy="57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e0b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0bf7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юль- ноябрь 1941г. в восточные районы было эвакуировано 1523 предприятия (в т. ч. 1360 крупных военных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0% численности рабочих в промышленности - женщины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60 тыс. учащихся VIII-X классов пришли на производство во второй половине 1941г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44г.- среди рабочего класса 2,5 млн. человек до 18 лет (в т. ч. 700 тыс. подростков)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8 млн. человек были удостоены звания Героя Социалистического труда, 16 млн. награждены медалью «За доблестный труд в Великой Отечественной войне 1941-1945гг.»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0" y="1125360"/>
            <a:ext cx="0" cy="5112000"/>
          </a:xfrm>
          <a:prstGeom prst="line">
            <a:avLst/>
          </a:prstGeom>
          <a:ln w="9360">
            <a:solidFill>
              <a:srgbClr val="e02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2736C-5410-4948-986E-AD3BD8D6D6A9}" type="slidenum">
              <a:t>3</a:t>
            </a:fld>
          </a:p>
        </p:txBody>
      </p:sp>
    </p:spTree>
  </p:cSld>
  <p:transition spd="med"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1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8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e0204e"/>
                </a:solidFill>
                <a:latin typeface="Monotype Corsiva"/>
              </a:rPr>
              <a:t>Значение тыла в годы войны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7846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ыл в годы войны - широкое понятие: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омышленность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сельское хозяйство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 сбор средств, личных сбережений трудящихся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всенародная забота о сиротах и вдовах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посылки и письма на фронт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ыл – это все, что делали люди во имя великой цели – Победы над врагом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B03B-D7A1-4EE1-AFF5-43FF23E785EA}" type="slidenum">
              <a:t>4</a:t>
            </a:fld>
          </a:p>
        </p:txBody>
      </p:sp>
    </p:spTree>
  </p:cSld>
  <p:transition spd="med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e1f08"/>
                </a:solidFill>
                <a:latin typeface="Monotype Corsiva"/>
              </a:rPr>
              <a:t>Трудовой вклад Удмуртии в победу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4113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вакуировано – 20 предприятий из Киева, Харькова, Баку, Одессы, Подольска и др. Городов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онтаж оборудования в кратчайшие сроки(неделя – месяц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жедневная выработка -250-300 %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бочий день – 16-18 часов в сутк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537080" cy="453564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405" name=""/>
          <p:cNvSpPr/>
          <p:nvPr/>
        </p:nvSpPr>
        <p:spPr>
          <a:xfrm>
            <a:off x="4356000" y="602136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Сборка пулеметов на одном из заводов г.Ижевск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BB0-7212-408B-A68A-E80E6B9EFED0}" type="slidenum">
              <a:t>5</a:t>
            </a:fld>
          </a:p>
        </p:txBody>
      </p:sp>
    </p:spTree>
  </p:cSld>
  <p:transition spd="med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280" y="301320"/>
            <a:ext cx="66247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Monotype Corsiva"/>
              </a:rPr>
              <a:t>Трудовой вклад Удмуртии и </a:t>
            </a:r>
            <a:br>
              <a:rPr sz="3200"/>
            </a:br>
            <a:r>
              <a:rPr b="1" lang="en-US" sz="3200" spc="-1" strike="noStrike">
                <a:solidFill>
                  <a:srgbClr val="fe1f08"/>
                </a:solidFill>
                <a:latin typeface="Monotype Corsiva"/>
              </a:rPr>
              <a:t>г.Сарапула в победу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708360" cy="38163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066920" y="2004480"/>
            <a:ext cx="4825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Эвакуированы радиозавод им. Орджоникидзе, завод им. Дзержинского и др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остроен ЭГЗ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руд за двоих: за себя и за товарища, ушедшего на фронт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абочий день по 16 – 18 часов в сутк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оревнование за право носить звание фронтовых бригад (1945г. - 396 бригад)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полнение своих ежедневных заданий на 200-300 %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более 25 тыс. тонн металлолома собрали комсомольцы во время воскресников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омощь школе: учащиеся были обеспечены обувью, одеждой 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омощь сельским труженикам, особенно в дни уборки урожая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"/>
          <p:cNvSpPr/>
          <p:nvPr/>
        </p:nvSpPr>
        <p:spPr>
          <a:xfrm>
            <a:off x="527220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76712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4000" y="5805360"/>
            <a:ext cx="41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Фронтовая бригада Сидяковой,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вод им.Орджоникидзе  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A74-9F59-464A-95A6-BFB354341EC6}" type="slidenum">
              <a:t>6</a:t>
            </a:fld>
          </a:p>
        </p:txBody>
      </p:sp>
    </p:spTree>
  </p:cSld>
  <p:transition spd="med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000"/>
                            </p:stCondLst>
                            <p:childTnLst>
                              <p:par>
                                <p:cTn id="2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000"/>
                            </p:stCondLst>
                            <p:childTnLst>
                              <p:par>
                                <p:cTn id="2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56865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Monotype Corsiva"/>
              </a:rPr>
              <a:t>Госпитали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7640" y="476280"/>
            <a:ext cx="6840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азмещено - 8 стационарных, 9 полевых госпиталей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  Головной госпиталь размещался в школе № 15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 В здании  педагогического колледжа находился госпиталь № 1736, а также госпиталь № 8675 по улице Первомайской  и т.д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Главный хирург нашего города – Пётр Петрович Митрофанов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"/>
          <p:cNvSpPr/>
          <p:nvPr/>
        </p:nvSpPr>
        <p:spPr>
          <a:xfrm>
            <a:off x="2700360" y="256536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Monotype Corsiva"/>
              </a:rPr>
              <a:t>Займы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2997360"/>
            <a:ext cx="62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нд обороны - 3063 тыс. руб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ймов облигаций – 2069 тыс. руб.   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 строительство танков и самолетов – 3630 тыс. руб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том числе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ионеры  и школьники – 1943г. – 55 тыс. рублей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944г. – 64тыс рублей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мсомольцы – 1944г. – около 600 тыс. рублей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Всего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нд обороны – 8756 тыс. руб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лигаций – 40 млн. руб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отерейных билетов – 6021 тыс. руб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рагоценности  -3063000 руб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9D09-92FD-46BD-ACC5-E3786AF17484}" type="slidenum">
              <a:t>7</a:t>
            </a:fld>
          </a:p>
        </p:txBody>
      </p:sp>
    </p:spTree>
  </p:cSld>
  <p:transition spd="med">
    <p:cover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5:46:54Z</dcterms:created>
  <dc:creator>ленин</dc:creator>
  <dc:description/>
  <dc:language>en-US</dc:language>
  <cp:lastModifiedBy>1</cp:lastModifiedBy>
  <dcterms:modified xsi:type="dcterms:W3CDTF">2009-09-01T17:40:59Z</dcterms:modified>
  <cp:revision>14</cp:revision>
  <dc:subject/>
  <dc:title>Советский тыл  в годы войны</dc:title>
</cp:coreProperties>
</file>