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0164-DEB1-4F1B-A2AC-282E6FB62D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7655-6DD0-41C5-B9CB-B51C04C58A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5D36-5DBD-474E-9E21-F313A97C73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EFF5-E5B0-45F4-B565-6DADB1D721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60E3-B66E-4D02-B661-6C83D0A635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9897-7128-4F82-93FD-3BAB3BA1A2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9F9C-5C7A-4D21-9108-250DC29407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317F-5A68-4147-8BE6-4727280E32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4743-97B7-43E7-A636-857551B702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FC1F-1913-4C72-95DA-BE69A70675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8E16-EDD0-4014-90C3-41977D2067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1467-A8E3-4B54-BE66-A27EAE819B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2D7D-5743-49FF-8B4B-262536C79B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7AC5-93DB-48E1-8074-428E80FDC8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9B0E-DDA5-4ADC-892C-D8C6B010DD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2274-5B13-41A1-BF98-FB54517528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B1A1-D9AE-4023-9C3C-00A502E34C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5576-D841-44DE-A3C9-3F6265FB21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AF1F-F2C7-4A8D-BF3D-18FF8870CA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E260-E83D-4967-8E58-65D74A8429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F5C2-4C1D-4D63-B132-9F5299EB85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FCBB-AC04-4029-81B4-32BE9D19E7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ED46-D299-4365-810F-8F5939AD99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EA8E-50C4-4E94-B49A-5CDBB60540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EB28-E041-4B4D-B21F-403B0CDE1B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84D-A0B7-44F6-B727-97BE4316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F4C-EA3C-45C2-ABC6-9F3296C7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2B6-7058-466C-9B8F-64D773E1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BD8-E70E-444C-88F0-022DEAAE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5BE-FADE-4824-A007-E8B1778D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C07-2781-4DA3-9AE1-41CD4600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32EB-DCAD-4FC5-891E-AD778B3B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214-9748-4169-A02F-7ABA133F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3E9-3CF0-4F14-A9EA-685758C5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CA4-4455-490E-B08A-17A3657F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45D-183E-44D9-9A3C-EC885C83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852-98E3-4113-9B3A-65837A40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4F4C-4CC9-42D4-B801-959AAD3F28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Виртуальная экскурсия по городу Добрянка.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выполнена учениками МБОУ»ДО(С)ОШ №9» Ромашовой Полиной И Сибиряковой Еле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тель – Азанова М.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012 г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Школы Добрянки 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ухэтажное каменное здание Софийской школы(гимназии) было построено в 1845 г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ание построено на средства графини С.В.Строгановой по проекту архитектора Комар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 было самое крупное учебное заведение нашего кр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пускники становились заводскими рабоч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887 году Добрянское двухклассное  училище на Екатеринбургской художественно-промышленной выставке оно получило «Похвальный отзыв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емские школы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емские школы появились в нашем крае после отмены крепостного права, в 60-х годах 19 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а из них была размещена в здании правления Добрянско-заводской  волости. Это правление ведало делами мастеровых(ныне здание… на улице Куйбышев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48980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806436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Женские школы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добрянская женская школа была открыта в1865 году.В1894 году она переехала в новое здание, которое было выстроено для женской школы. Попечительница этой школы Любовь Александровна Сюзева построила его на свои средства в память о муже Павле Ивановиче Сюзеве. В 1093 году передала здание в дар Пермскому уездному земст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Здание бывшей женской школы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4" name="Rectangle 3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8066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Школы церковного ведомств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обное, светлое здание для Добрянской церковно-приходской школы было выстроено в 1910 году на средства местного торговца Александра Ивановича Плюсн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ржественное открытие школы состоялось Задобрянкой  в сентябре 1910 г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ремя открытия школы звонили церковные колокола, пел хор,кругом виднелись торжественные одежды священн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ытие нового здания было приурочено к 25-летию со времени царского указа о церковно-приходских школ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овременные школы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й старой школой является школа № 1, открытая в 1918 год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935 году открыта школа рабочей молодежи( ныне № 9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1964 году открыта школа №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80-е годы построены школы №2, №3, №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Немного истории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623-24 годы – первое упоминание о Добрян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1752 год-начало строительства Добрянского металлургического за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1924 год–образование Добрянского рай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-1943 год – присвоение Добрянке статуса го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92" name="Picture 4" descr="x_20c9d6e6"/>
          <p:cNvPicPr/>
          <p:nvPr/>
        </p:nvPicPr>
        <p:blipFill>
          <a:blip r:embed="rId1"/>
          <a:stretch/>
        </p:blipFill>
        <p:spPr>
          <a:xfrm>
            <a:off x="324000" y="1916280"/>
            <a:ext cx="5752800" cy="43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вято-Митрофаниевская церковь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то-Митрофаниевская церковь была открыта в Добрянке в 1837 г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рковь названа в честь святого Митрофания, Воронежского чудотвор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оначально это был однопрестольный  деревянный храм на кладбищ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й же приход был открыт в 1756 году. В 1831 году он сгорел со всем имущест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Церкви Добрянки 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Рождество-Богородицкая церковь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ание церкви было построено в 1852 году. Над оформлением церкви трудились известные крепостные мастера графа  С.Г.Строганова- И.С. Дощенников и С.П.Юш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ремена советской власти церковь закры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67 в здании церкви открылся районный дом культу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27884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ание Добрянской заводской конторы – одно из первых каменных зданий Добрянки. Его строительство началось в 30-е годы 19 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дание интересно тем, что в нем сохранилась уникальная винтовая лестница, сооруженная в 80-х годах 19 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Здание заводоуправления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8280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воначально часовня была установлена на базарной площади ,в центре старой Добрянки, освящена 30 августа 1892 года ,в день рождения Императора Александра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асовня – краса зав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ид часовни в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XIX 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еке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F:\часовня в добр\часовня.bmp"/>
          <p:cNvPicPr/>
          <p:nvPr/>
        </p:nvPicPr>
        <p:blipFill>
          <a:blip r:embed="rId1"/>
          <a:stretch/>
        </p:blipFill>
        <p:spPr>
          <a:xfrm>
            <a:off x="785880" y="150012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x_3661be00"/>
          <p:cNvPicPr/>
          <p:nvPr/>
        </p:nvPicPr>
        <p:blipFill>
          <a:blip r:embed="rId1"/>
          <a:stretch/>
        </p:blipFill>
        <p:spPr>
          <a:xfrm>
            <a:off x="1619280" y="1341360"/>
            <a:ext cx="6913440" cy="4651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овременное состояние часовн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C:\Users\Пользователь\Desktop\фото церковь\фото Добрянка\Сканирован07-12-19 1318.tif"/>
          <p:cNvPicPr/>
          <p:nvPr/>
        </p:nvPicPr>
        <p:blipFill>
          <a:blip r:embed="rId1"/>
          <a:stretch/>
        </p:blipFill>
        <p:spPr>
          <a:xfrm>
            <a:off x="0" y="103320"/>
            <a:ext cx="9144000" cy="66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История часовн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янская металлическая часовня во имя Св.Благоверного Князя Александра Невского являлась уникальным памятником художественного лит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одом для ее строительства послужило «чудесное спасение Его Величества Государя Имп.Александра Александровича и Его Августейшего семейства,случившееся 17 октября 1888 года» во время крушения царского поез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over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овременное состояние часовн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3" descr="x_3661be00"/>
          <p:cNvPicPr/>
          <p:nvPr/>
        </p:nvPicPr>
        <p:blipFill>
          <a:blip r:embed="rId1"/>
          <a:stretch/>
        </p:blipFill>
        <p:spPr>
          <a:xfrm>
            <a:off x="1714680" y="1643040"/>
            <a:ext cx="5715000" cy="3571920"/>
          </a:xfrm>
          <a:prstGeom prst="rect">
            <a:avLst/>
          </a:prstGeom>
          <a:ln w="0">
            <a:noFill/>
          </a:ln>
        </p:spPr>
      </p:pic>
    </p:spTree>
  </p:cSld>
  <p:transition advTm="1000">
    <p:pull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овременное состояние часовн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21" name="Picture 4" descr="file"/>
          <p:cNvPicPr/>
          <p:nvPr/>
        </p:nvPicPr>
        <p:blipFill>
          <a:blip r:embed="rId1"/>
          <a:stretch/>
        </p:blipFill>
        <p:spPr>
          <a:xfrm>
            <a:off x="3348000" y="1484280"/>
            <a:ext cx="38880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250" autoRev="1" fill="hold"/>
                                        <p:tgtEl>
                                          <p:spTgt spid="1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деемся вам очень понравилась наша экскурсия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ш маленький городок самый красивый, зеленый, уютный и комфортный для всех жителей го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История названий некоторых улиц города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названии этого поселка помнят не все добрянцы – это поселок Жуковский .На пересечении улиц Копылова и Жуковского стали расти первые пятиэтаж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Поселок Жуковский строится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56108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Улица Советская в настоящем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x_a0653caf"/>
          <p:cNvPicPr/>
          <p:nvPr/>
        </p:nvPicPr>
        <p:blipFill>
          <a:blip r:embed="rId1"/>
          <a:stretch/>
        </p:blipFill>
        <p:spPr>
          <a:xfrm>
            <a:off x="1692360" y="2276640"/>
            <a:ext cx="5753160" cy="3895560"/>
          </a:xfrm>
          <a:prstGeom prst="rect">
            <a:avLst/>
          </a:prstGeom>
          <a:ln w="0">
            <a:noFill/>
          </a:ln>
        </p:spPr>
      </p:pic>
    </p:spTree>
  </p:cSld>
  <p:transition advTm="2000"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Улица Советская в прошлом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26436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Улица Билимбаевска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ыне улица Совет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img_1238609697"/>
          <p:cNvPicPr/>
          <p:nvPr/>
        </p:nvPicPr>
        <p:blipFill>
          <a:blip r:embed="rId1"/>
          <a:stretch/>
        </p:blipFill>
        <p:spPr>
          <a:xfrm>
            <a:off x="1403280" y="2205000"/>
            <a:ext cx="6985080" cy="46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Здание музея( в прошлом – училища)…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472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1:06:02Z</dcterms:created>
  <dc:creator>Марина</dc:creator>
  <dc:description/>
  <dc:language>en-US</dc:language>
  <cp:lastModifiedBy>Марина</cp:lastModifiedBy>
  <dcterms:modified xsi:type="dcterms:W3CDTF">2012-06-20T10:46:38Z</dcterms:modified>
  <cp:revision>24</cp:revision>
  <dc:subject/>
  <dc:title>Проект виртуальной экскурсии по г Добрянка </dc:title>
</cp:coreProperties>
</file>