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25C4-A031-4095-98A5-0303C1CB3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25F3-D8C6-4F1D-8B38-37F2612000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2F69-73DD-4D8C-AC55-1B027E2B70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68C7-3E5C-41AC-9A0D-73B329D886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7EE8-E1D0-436D-90E3-15661CFD1C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B02-2AFC-41DF-B2F7-C1AFB12DB9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7401-D77A-471A-8350-97B723C322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887A-C690-4F25-A337-8D9AF94B81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E563-BF5B-41D4-B1EC-5CACA25AE0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E8B2-273A-4B7A-B286-68C448390C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BA13-1FE6-429A-8B5A-E03A5369FE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9061-96EE-400F-AA4B-125B4B6824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1EFC-6762-42CF-868A-2886377507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17C0-5F66-4A14-B945-78CBA064D8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D071-70B5-4EFC-9843-107481BC9C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8DE5-50C8-4480-8FC8-C186D1D302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6B06-F126-405B-BBD0-B089582EF1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8A2D-B736-45D6-A687-2BB95E0C8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A03-446D-4BDE-9F2B-BCEFF2BAAD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B255-D3DB-41C5-B314-071F815E2F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DE99-166B-4E02-8E11-084C1333CC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D980-D647-4568-920F-71D7455B59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003-F8EC-43AA-ACB7-6C0F2462CB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5CBB-9746-4353-8B5D-B52FF73BE4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A675-13CA-4ACE-8D11-D3AC9D7381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2F1-A455-430E-8828-DED8642B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7C5-93DB-4AB9-9501-29F20906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329-75B6-4F3C-98C7-5B4B3829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722-6BBA-4EF3-938D-A7D4F5EC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315-D704-4F48-9183-CF8C93D1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63C-C893-472D-85D5-6ED1B0C5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803-4480-4D48-ABCC-BC5B04EA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DC9-F2F7-4915-B0AF-D1DDB984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777-CB6E-4FEF-AA31-1D83F01C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024-DA75-4B86-9652-775D4E6B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9A1-F1B8-48B6-A6A7-B5979BCA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5D8-770C-4B3D-94B2-B3CBDBD6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A1D-D2B3-46CE-B164-7749C0DE5B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иртуальная экскурсия по городу Добрянка.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ыполнена учениками МБОУ»ДО(С)ОШ №9» Ромашовой Полиной И Сибиряковой Еле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 – Азанова М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12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Школы Добрянки 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ухэтажное каменное здание Софийской школы(гимназии) было построено в 184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ание построено на средства графини С.В.Строгановой по проекту архитектора Комар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было самое крупное учебное заведение нашего кр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ускники становились заводскими рабоч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87 году Добрянское двухклассное  училище на Екатеринбургской художественно-промышленной выставке оно получило «Похвальный отзыв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емские школ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мские школы появились в нашем крае после отмены крепостного права, в 60-х годах 19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 из них была размещена в здании правления Добрянско-заводской  волости. Это правление ведало делами мастеровых(ныне здание… на улице Куйбышев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4898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Женские школ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добрянская женская школа была открыта в1865 году.В1894 году она переехала в новое здание, которое было выстроено для женской школы. Попечительница этой школы Любовь Александровна Сюзева построила его на свои средства в память о муже Павле Ивановиче Сюзеве. В 1093 году передала здание в дар Пермскому уездному земст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ание бывшей женской школ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8066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Школы церковного ведомств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бное, светлое здание для Добрянской церковно-приходской школы было выстроено в 1910 году на средства местного торговца Александра Ивановича Плюс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ржественное открытие школы состоялось Задобрянкой  в сентябре 1910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ремя открытия школы звонили церковные колокола, пел хор,кругом виднелись торжественные одежды священ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ие нового здания было приурочено к 25-летию со времени царского указа о церковно-приходских школ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временные школ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й старой школой является школа № 1, открытая в 1918 го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35 году открыта школа рабочей молодежи( ныне № 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64 году открыта школа №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80-е годы построены школы №2, №3, №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емного истории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623-24 годы – первое упоминание о Добря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1752 год-начало строительства Добрянского металлургического за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1924 год–образование Добрянск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1943 год – присвоение Добрянке статуса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2" name="Picture 4" descr="x_20c9d6e6"/>
          <p:cNvPicPr/>
          <p:nvPr/>
        </p:nvPicPr>
        <p:blipFill>
          <a:blip r:embed="rId1"/>
          <a:stretch/>
        </p:blipFill>
        <p:spPr>
          <a:xfrm>
            <a:off x="324000" y="1916280"/>
            <a:ext cx="5752800" cy="43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вято-Митрофаниевская церковь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то-Митрофаниевская церковь была открыта в Добрянке в 1837 г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рковь названа в честь святого Митрофания, Воронежского чудотвор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оначально это был однопрестольный  деревянный храм на кладбищ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же приход был открыт в 1756 году. В 1831 году он сгорел со всем имущест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Церкви Добрянки 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ождество-Богородицкая церковь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ание церкви было построено в 1852 году. Над оформлением церкви трудились известные крепостные мастера графа  С.Г.Строганова- И.С. Дощенников и С.П.Юш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ремена советской власти церковь закры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67 в здании церкви открылся районный дом куль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884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ание Добрянской заводской конторы – одно из первых каменных зданий Добрянки. Его строительство началось в 30-е годы 19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ание интересно тем, что в нем сохранилась уникальная винтовая лестница, сооруженная в 80-х годах 19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дание заводоуправления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280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оначально часовня была установлена на базарной площади ,в центре старой Добрянки, освящена 30 августа 1892 года ,в день рождения Императора Александра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овня – краса зав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ид часовни в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XIX 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еке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F:\часовня в добр\часовня.bmp"/>
          <p:cNvPicPr/>
          <p:nvPr/>
        </p:nvPicPr>
        <p:blipFill>
          <a:blip r:embed="rId1"/>
          <a:stretch/>
        </p:blipFill>
        <p:spPr>
          <a:xfrm>
            <a:off x="785880" y="150012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x_3661be00"/>
          <p:cNvPicPr/>
          <p:nvPr/>
        </p:nvPicPr>
        <p:blipFill>
          <a:blip r:embed="rId1"/>
          <a:stretch/>
        </p:blipFill>
        <p:spPr>
          <a:xfrm>
            <a:off x="1619280" y="1341360"/>
            <a:ext cx="6913440" cy="4651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овременное состояние часовн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:\Users\Пользователь\Desktop\фото церковь\фото Добрянка\Сканирован07-12-19 1318.tif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стория часовн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янская металлическая часовня во имя Св.Благоверного Князя Александра Невского являлась уникальным памятником художественного лит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одом для ее строительства послужило «чудесное спасение Его Величества Государя Имп.Александра Александровича и Его Августейшего семейства,случившееся 17 октября 1888 года» во время крушения царского по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овременное состояние часовн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3" descr="x_3661be00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овременное состояние часовн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1" name="Picture 4" descr="file"/>
          <p:cNvPicPr/>
          <p:nvPr/>
        </p:nvPicPr>
        <p:blipFill>
          <a:blip r:embed="rId1"/>
          <a:stretch/>
        </p:blipFill>
        <p:spPr>
          <a:xfrm>
            <a:off x="3348000" y="1484280"/>
            <a:ext cx="3888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еемся вам очень понравилась наша экскурси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ш маленький городок самый красивый, зеленый, уютный и комфортный для всех жителей г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История названий некоторых улиц город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названии этого поселка помнят не все добрянцы – это поселок Жуковский .На пересечении улиц Копылова и Жуковского стали расти первые пятиэтаж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оселок Жуковский строится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56108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Улица Советская в настоящем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x_a0653caf"/>
          <p:cNvPicPr/>
          <p:nvPr/>
        </p:nvPicPr>
        <p:blipFill>
          <a:blip r:embed="rId1"/>
          <a:stretch/>
        </p:blipFill>
        <p:spPr>
          <a:xfrm>
            <a:off x="1692360" y="2276640"/>
            <a:ext cx="5753160" cy="389556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Улица Советская в прошлом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2643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лица Билимбаевска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ыне улица Совет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img_1238609697"/>
          <p:cNvPicPr/>
          <p:nvPr/>
        </p:nvPicPr>
        <p:blipFill>
          <a:blip r:embed="rId1"/>
          <a:stretch/>
        </p:blipFill>
        <p:spPr>
          <a:xfrm>
            <a:off x="1403280" y="2205000"/>
            <a:ext cx="698508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ание музея( в прошлом – училища)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1:06:02Z</dcterms:created>
  <dc:creator>Марина</dc:creator>
  <dc:description/>
  <dc:language>en-US</dc:language>
  <cp:lastModifiedBy>Марина</cp:lastModifiedBy>
  <dcterms:modified xsi:type="dcterms:W3CDTF">2012-06-20T10:46:38Z</dcterms:modified>
  <cp:revision>24</cp:revision>
  <dc:subject/>
  <dc:title>Проект виртуальной экскурсии по г Добрянка </dc:title>
</cp:coreProperties>
</file>