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F423-0664-42CC-820D-740180AAE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2820-8278-4F05-8C8F-3B6BEF386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DCA1-1A18-4F69-91F2-ABDBFCBEB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FB7F-7232-4F98-A997-045A6CA95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00571-B082-4BBF-AE5E-4E7D52B5C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6CA5D-DE5A-4EF1-A3AD-2D689298E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DE185-21AB-4C25-80C8-3A550BB5A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9308E-20C1-40AF-A6ED-39F195741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21EB7-1CEF-49EB-9A25-23C4572C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1FFBF-E5BA-43FE-A88A-DF4E010E9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51A82-0E5A-4A78-B31B-CC7CC33F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3408-466F-4267-B227-C097A65D2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7AA63-AA92-4A3D-AE29-2593A09B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72410-3C5D-494D-8749-E6F6AB96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06BA1-D553-4081-ABD2-D76F000B8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556A9-85B1-4D20-8EA1-94720E83E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94FFE-8E67-4E67-8861-1EA8C44F8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A5F777-DECB-4504-B6A2-0A525608E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F5DEED-931E-484B-BB24-BF36E89CF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CB43E1-3074-44D9-A34D-244BE9E4F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1BE2EF-2C27-4F31-B177-FFD92BECB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E47DFE-B6C8-492C-B6E9-BF73164F6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30F4-AADC-4B8C-B93B-EF7D73ED3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70EA0B-E19E-443F-9E6E-F18BCF70A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17FEAF-6E32-4A08-9FC6-863FE8F5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8AB772-3A22-4252-8378-1C7FE561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2CF9F3-83D2-48AD-BCE6-395EDAAC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A0F3E6-4F1A-4163-B9DD-EEB9A6FB7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1242C4-4264-481C-BD27-BCA4F2890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294707-A286-4E2D-88FF-4D3BDC507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651DB-A0C2-496D-A930-EBF17E6BF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4840A-6FB1-401B-8B61-350296FFB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EED54-E1A9-4BED-8986-577BB3633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F13B-5CFF-4FB6-A42C-71A21AFE0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9D0C2-D10F-41CB-AE8F-FFAC8BC81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5A98D-E047-45D3-8A0F-C571E6995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57BC6-0E90-4216-AB34-0110DC1DD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16697-AD3A-4C65-B3F5-F5F5F752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6A379-87B8-47EB-8A27-ADC68030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38221-8F03-4411-8985-47049DDF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9AAA4-0230-40ED-97EE-D8D234A98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BBD73-8D00-4CEE-9B79-B6905CB71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57DA3-7466-4CDA-94C5-D864C0F86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13EF65-6480-48FD-92EC-C28F4EB65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B79F-5544-40A0-9022-A7BF9D8D6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426695-A8E7-4BCD-9811-0C1D3C2F4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6C579D-244F-4FE3-84EA-44A88DAD6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E08DDA-5162-4BE7-AB05-DC6531F35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248F15-8241-457E-9D83-05847198E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2C0997-D2EA-4F6D-8895-CF65F7302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76FC79-38DA-4F1C-8540-F32DD326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54534D-498C-4782-B489-E53046CA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294ED6-C2B0-43B6-9522-70251CFE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4092F2-D29B-4692-924C-9B7B2C51D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C34C6C-44F0-44DA-BCDA-8CFEEAD7E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6D9B-9173-4B23-A7AA-707CADAEA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10A230-B19F-4FB2-8102-0C42AF2D7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31EAA0-F713-4733-A255-D31FDF70D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32AE19-AAA0-4AEF-BCE5-A4EB517F9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144E0A-5307-4A39-8BAC-1C18544F2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FECD42-6BC3-4D92-80E2-725A5D8C4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13C251-A1DC-4F69-9F6F-9530AFFBD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A2CA29-66DC-4067-8AF4-3A9EF9BFF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2D70C0-A0A2-4F8A-BFA8-FC3CDFED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B6B8CB-5FCE-49B2-8DCF-9422522A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78274C-85AC-40AD-8229-AF70FDA9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B72A-18A2-48D8-A98D-BBAB3702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8B8B4A-6619-4C1A-8F84-BC6C1D9DF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EC2A95-0233-475F-8493-EF544FD9F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9C3937-EFC1-4D2A-A17B-9F95FC1EB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94C5C7-CAF2-4B6F-8310-AE73D2052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263914-C778-4ECA-ABA6-7A2564F8B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C10ECE-138F-42FE-8044-B09861EE6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8C580A-D8D5-476D-952B-AE68600D4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D9CBEA-2ACD-452D-89AE-4EFA16EAE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C7E2DE-758F-414E-B575-F0337263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EE9917-EE1B-4746-8BFA-86EA0524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C5FB-D536-4B29-9408-6D35645D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8F4819-3DDF-4EE1-9B86-2BB8571A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FC5C52-7D91-45D6-91B4-3E90A738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C7EBB9-B04D-4EDA-ABFC-05A66D24F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EC3BF6-C3A4-4F0C-BB3F-E033DCF30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1AD422-4E91-4DD3-B7F6-0C62F892D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C3D5-DB90-4D36-A603-1D5A8DE9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5F0DE-004F-43E5-9F5E-3064A3307B27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CD595-0F21-42E3-AE2C-A5C560F0ED8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4C102-D169-47D5-BD92-613F1FD9479B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FC985-4689-4CCD-A456-7302919431F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A559C-1926-47B0-B024-968912F05995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7E015-EB3D-4D77-B64C-B821A7EEFD9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1C1B1-00BE-4381-9753-3B31829AC15B}" type="datetime"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F595-2E8F-4199-B84B-78AFC7D39DF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01414-2852-479C-B122-FA16824E356B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DAB7B-20AD-4B47-AED8-069FB0B28FF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00237-A952-4B59-A954-38D9BCE176B6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93F2D-344C-4E16-84BA-52A0D9EEBD8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6EB3C-96B8-48FD-B8CA-289A6F3696F3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48871-0436-4238-B212-3A8EFF73E45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rt-salon-iris.ru/index.php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hyperlink" Target="http://www.lobzikov.ru/img/img1_prev/58821370931012011.jpg" TargetMode="External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file://upload.wikimedia.org/wikipedia/commons/d/d5/Chromolithografie-Glasmalerei.jpg" TargetMode="External"/><Relationship Id="rId3" Type="http://schemas.openxmlformats.org/officeDocument/2006/relationships/image" Target="../media/image8.jpeg"/><Relationship Id="rId4" Type="http://schemas.openxmlformats.org/officeDocument/2006/relationships/hyperlink" Target="file://upload.wikimedia.org/wikipedia/commons/2/2a/Nidaros_Cathedral_Trondheim_2005-08-22.jpg" TargetMode="External"/><Relationship Id="rId5" Type="http://schemas.openxmlformats.org/officeDocument/2006/relationships/image" Target="../media/image9.jpeg"/><Relationship Id="rId6" Type="http://schemas.openxmlformats.org/officeDocument/2006/relationships/hyperlink" Target="file://upload.wikimedia.org/wikipedia/commons/b/b5/Canterbury_Cathedral_021_Poor_mans_Bible_window_upper_half.JPG" TargetMode="External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880-&#1077;" TargetMode="External"/><Relationship Id="rId2" Type="http://schemas.openxmlformats.org/officeDocument/2006/relationships/hyperlink" Target="http://ru.wikipedia.org/wiki/1910-&#1077;" TargetMode="External"/><Relationship Id="rId3" Type="http://schemas.openxmlformats.org/officeDocument/2006/relationships/hyperlink" Target="http://ru.wikipedia.org/wiki/&#1045;&#1074;&#1088;&#1086;&#1087;&#1072;" TargetMode="External"/><Relationship Id="rId4" Type="http://schemas.openxmlformats.org/officeDocument/2006/relationships/hyperlink" Target="http://ru.wikipedia.org/wiki/&#1040;&#1085;&#1075;&#1083;&#1080;&#1103;" TargetMode="External"/><Relationship Id="rId5" Type="http://schemas.openxmlformats.org/officeDocument/2006/relationships/hyperlink" Target="http://ru.wikipedia.org/wiki/&#1040;&#1084;&#1077;&#1088;&#1080;&#1082;&#1072;" TargetMode="External"/><Relationship Id="rId6" Type="http://schemas.openxmlformats.org/officeDocument/2006/relationships/hyperlink" Target="http://ru.wikipedia.org/wiki/&#1044;&#1077;&#1082;&#1086;&#1088;" TargetMode="External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hyperlink" Target="http://artultra.ru/photos/vitrazhi/vidy-vitrazhej/zalivnoj-vitrazh/izgotovlenie-zalivnogo-vitrazha-4.jpg" TargetMode="External"/><Relationship Id="rId11" Type="http://schemas.openxmlformats.org/officeDocument/2006/relationships/image" Target="../media/image15.jpeg"/><Relationship Id="rId1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hyperlink" Target="http://artultra.ru/photos/vitraji/Tekhniki/Klassicheskaya%20Tekhnika/srednevekovye-vitrazhi-1283.jpg" TargetMode="External"/><Relationship Id="rId8" Type="http://schemas.openxmlformats.org/officeDocument/2006/relationships/image" Target="../media/image22.jpeg"/><Relationship Id="rId9" Type="http://schemas.openxmlformats.org/officeDocument/2006/relationships/hyperlink" Target="http://artultra.ru/photos/vitraji/Tekhniki/Klassicheskaya%20Tekhnika/srednevekovye-vitrazhi-963.jpg" TargetMode="External"/><Relationship Id="rId10" Type="http://schemas.openxmlformats.org/officeDocument/2006/relationships/image" Target="../media/image23.jpeg"/><Relationship Id="rId1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«РОСПИСЬ ПО СТЕКЛУ»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a160b"/>
                </a:solidFill>
                <a:latin typeface="Century Schoolbook"/>
              </a:rPr>
              <a:t>Доклад ученика 5 «А» класс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a160b"/>
                </a:solidFill>
                <a:latin typeface="Century Schoolbook"/>
              </a:rPr>
              <a:t>ГБОУ СОШ №769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a160b"/>
                </a:solidFill>
                <a:latin typeface="Century Schoolbook"/>
              </a:rPr>
              <a:t>БАРАНОВА  КОНСТАНТИН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0920" y="5805360"/>
            <a:ext cx="3276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75f6d"/>
                </a:solidFill>
                <a:latin typeface="Century Schoolbook"/>
              </a:rPr>
              <a:t>ОБРАЗЦЫ ВИТРАЖЕЙ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300720" y="692280"/>
            <a:ext cx="251928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Витра́ж</a:t>
            </a:r>
            <a:r>
              <a:rPr b="1" lang="ru-RU" sz="19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(фр. vitrage — остекление, от лат. vitrum — стекло) — произведение декоративного искусства изобразительного или орнаментального характера из цветного стекла, рассчитанное на сквозное освещение и предназначенное для заполнения проёма, чаще всего оконного, в каком-либо архитектурном сооружении.</a:t>
            </a:r>
            <a:br>
              <a:rPr sz="1400"/>
            </a:b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2" descr="http://img0.liveinternet.ru/images/attach/c/2/73/858/73858290_31.jpg"/>
          <p:cNvPicPr/>
          <p:nvPr/>
        </p:nvPicPr>
        <p:blipFill>
          <a:blip r:embed="rId2"/>
          <a:stretch/>
        </p:blipFill>
        <p:spPr>
          <a:xfrm>
            <a:off x="611280" y="189000"/>
            <a:ext cx="2349360" cy="1757160"/>
          </a:xfrm>
          <a:prstGeom prst="rect">
            <a:avLst/>
          </a:prstGeom>
          <a:ln w="0">
            <a:noFill/>
          </a:ln>
        </p:spPr>
      </p:pic>
      <p:pic>
        <p:nvPicPr>
          <p:cNvPr id="356" name="Содержимое 4" descr="Vitraux.jpg"/>
          <p:cNvPicPr/>
          <p:nvPr/>
        </p:nvPicPr>
        <p:blipFill>
          <a:blip r:embed="rId3"/>
          <a:stretch/>
        </p:blipFill>
        <p:spPr>
          <a:xfrm>
            <a:off x="4524480" y="4508640"/>
            <a:ext cx="1008000" cy="1871640"/>
          </a:xfrm>
          <a:prstGeom prst="rect">
            <a:avLst/>
          </a:prstGeom>
          <a:ln w="0">
            <a:noFill/>
          </a:ln>
        </p:spPr>
      </p:pic>
      <p:pic>
        <p:nvPicPr>
          <p:cNvPr id="357" name="Содержимое 6" descr="Harkow_witraz.jpg"/>
          <p:cNvPicPr/>
          <p:nvPr/>
        </p:nvPicPr>
        <p:blipFill>
          <a:blip r:embed="rId4"/>
          <a:stretch/>
        </p:blipFill>
        <p:spPr>
          <a:xfrm>
            <a:off x="4211640" y="189000"/>
            <a:ext cx="1008000" cy="18716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" descr="Картинка 11 из 11197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6920" y="2133720"/>
            <a:ext cx="1368720" cy="1309680"/>
          </a:xfrm>
          <a:prstGeom prst="rect">
            <a:avLst/>
          </a:prstGeom>
          <a:ln w="0">
            <a:noFill/>
          </a:ln>
        </p:spPr>
      </p:pic>
      <p:pic>
        <p:nvPicPr>
          <p:cNvPr id="359" name="Содержимое 5" descr="vipzal.jpg"/>
          <p:cNvPicPr/>
          <p:nvPr/>
        </p:nvPicPr>
        <p:blipFill>
          <a:blip r:embed="rId7"/>
          <a:stretch/>
        </p:blipFill>
        <p:spPr>
          <a:xfrm>
            <a:off x="3059280" y="2205000"/>
            <a:ext cx="2863800" cy="20160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2" descr="http://am111.ru/cache/5b2744990ddc7bdc906f7f818635bbf7.jpg"/>
          <p:cNvPicPr/>
          <p:nvPr/>
        </p:nvPicPr>
        <p:blipFill>
          <a:blip r:embed="rId8"/>
          <a:stretch/>
        </p:blipFill>
        <p:spPr>
          <a:xfrm>
            <a:off x="324000" y="3645000"/>
            <a:ext cx="2519280" cy="2098440"/>
          </a:xfrm>
          <a:prstGeom prst="rect">
            <a:avLst/>
          </a:prstGeom>
          <a:ln w="0">
            <a:noFill/>
          </a:ln>
        </p:spPr>
      </p:pic>
      <p:sp>
        <p:nvSpPr>
          <p:cNvPr id="361" name="Номер слайда 10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CBE8C-2FF6-41D4-8DE3-B890BEF641E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68360" y="6237360"/>
            <a:ext cx="4680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75f6d"/>
                </a:solidFill>
                <a:latin typeface="Century Schoolbook"/>
              </a:rPr>
              <a:t>ВИТРАЖИ В ХРАМАХ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300720" y="0"/>
            <a:ext cx="28432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400"/>
              </a:spcBef>
              <a:spcAft>
                <a:spcPts val="1001"/>
              </a:spcAft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С давних пор витраж использовался в храмах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400"/>
              </a:spcBef>
              <a:spcAft>
                <a:spcPts val="1001"/>
              </a:spcAft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В раннехристианском храме окна заполнялись тонкими прозрачными пластинами камня (алебастра, селенита), из которых составляли орнамент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400"/>
              </a:spcBef>
              <a:spcAft>
                <a:spcPts val="1001"/>
              </a:spcAft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Многоцветные, большие по размеру витражи из разнообразных по форме стёкол, скреплённых свинцовыми перемычками, являлись особенностью готических соборов. Чаще всего готические витражи изображали религиозные и бытовые сцены. Они размещались в огромных стрельчатых окнах, так называемых «розах». 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400"/>
              </a:spcBef>
              <a:spcAft>
                <a:spcPts val="1001"/>
              </a:spcAft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В эпоху Возрождения витраж существовал как живопись на стекле, применялась техника выскабливания по специально покрашенному разноцветному стеклу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400"/>
              </a:spcBef>
              <a:spcAft>
                <a:spcPts val="1001"/>
              </a:spcAft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В России витражи существовали еще в X</a:t>
            </a:r>
            <a:r>
              <a:rPr b="0" lang="en-US" sz="1300" spc="-1" strike="noStrike">
                <a:solidFill>
                  <a:srgbClr val="000000"/>
                </a:solidFill>
                <a:latin typeface="Century Schoolbook"/>
              </a:rPr>
              <a:t>V</a:t>
            </a: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I веке, однако они не были характерным элементом убранства интерьеров русских домов.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4" name="Содержимое 6" descr="1fcae_13.jpg"/>
          <p:cNvPicPr/>
          <p:nvPr/>
        </p:nvPicPr>
        <p:blipFill>
          <a:blip r:embed="rId1"/>
          <a:stretch/>
        </p:blipFill>
        <p:spPr>
          <a:xfrm>
            <a:off x="324000" y="0"/>
            <a:ext cx="2295360" cy="28414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" descr="Файл:Chromolithografie-Glasmalerei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771640" y="260280"/>
            <a:ext cx="3313080" cy="24066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2" descr="Файл:Nidaros Cathedral Trondheim 2005-08-22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284720" y="2997360"/>
            <a:ext cx="1942920" cy="32004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4" descr="Файл:Canterbury Cathedral 021 Poor mans Bible window upper half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24000" y="2997360"/>
            <a:ext cx="1871640" cy="31683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" descr="http://bylix.com/uploads/posts/2009-11/thumbs/1257408911_1257368688_windowstainedglass0055_l.jpg"/>
          <p:cNvPicPr/>
          <p:nvPr/>
        </p:nvPicPr>
        <p:blipFill>
          <a:blip r:embed="rId8"/>
          <a:stretch/>
        </p:blipFill>
        <p:spPr>
          <a:xfrm>
            <a:off x="2484360" y="2997360"/>
            <a:ext cx="1582920" cy="3216240"/>
          </a:xfrm>
          <a:prstGeom prst="rect">
            <a:avLst/>
          </a:prstGeom>
          <a:ln w="0">
            <a:noFill/>
          </a:ln>
        </p:spPr>
      </p:pic>
      <p:sp>
        <p:nvSpPr>
          <p:cNvPr id="369" name="Номер слайда 8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AC305-610C-4965-B079-39E3048DD86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79280" y="6165720"/>
            <a:ext cx="5213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75f6d"/>
                </a:solidFill>
                <a:latin typeface="Century Schoolbook"/>
              </a:rPr>
              <a:t>ВИДЫ СОВРЕМЕННЫХ ВИТРАЖЕЙ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372000" y="907920"/>
            <a:ext cx="2447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В конце XIX века наступил новый этап в развитии витражного искусства, которое за короткий период </a:t>
            </a:r>
            <a:r>
              <a:rPr b="0" lang="ru-RU" sz="15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1880</a:t>
            </a: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—</a:t>
            </a:r>
            <a:r>
              <a:rPr b="0" lang="ru-RU" sz="15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1910-х</a:t>
            </a: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 годов достигло необычайного расцвета в странах </a:t>
            </a:r>
            <a:r>
              <a:rPr b="0" lang="ru-RU" sz="1500" spc="-1" strike="noStrike" u="sng">
                <a:solidFill>
                  <a:srgbClr val="d2611c"/>
                </a:solidFill>
                <a:uFillTx/>
                <a:latin typeface="Century Schoolbook"/>
                <a:hlinkClick r:id="rId3"/>
              </a:rPr>
              <a:t>Европы</a:t>
            </a: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ru-RU" sz="1500" spc="-1" strike="noStrike" u="sng">
                <a:solidFill>
                  <a:srgbClr val="d2611c"/>
                </a:solidFill>
                <a:uFillTx/>
                <a:latin typeface="Century Schoolbook"/>
                <a:hlinkClick r:id="rId4"/>
              </a:rPr>
              <a:t>Англии</a:t>
            </a: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 и </a:t>
            </a:r>
            <a:r>
              <a:rPr b="0" lang="ru-RU" sz="1500" spc="-1" strike="noStrike" u="sng">
                <a:solidFill>
                  <a:srgbClr val="d2611c"/>
                </a:solidFill>
                <a:uFillTx/>
                <a:latin typeface="Century Schoolbook"/>
                <a:hlinkClick r:id="rId5"/>
              </a:rPr>
              <a:t>Америке</a:t>
            </a: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Благодаря техническому прогрессу в области стеклоделия упростилось производство листового стекла, были разработаны новые технологии его окраски, обработки, </a:t>
            </a:r>
            <a:r>
              <a:rPr b="0" lang="ru-RU" sz="1500" spc="-1" strike="noStrike" u="sng">
                <a:solidFill>
                  <a:srgbClr val="d2611c"/>
                </a:solidFill>
                <a:uFillTx/>
                <a:latin typeface="Century Schoolbook"/>
                <a:hlinkClick r:id="rId6"/>
              </a:rPr>
              <a:t>декорирования</a:t>
            </a: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304920" y="274320"/>
            <a:ext cx="5851440" cy="57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Витражи Тиффан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Заливной витраж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3" name="Picture 2" descr="http://artultra.ru/images/fon/vitrazhi/vitrazhi-tiffani/hudozhestvennye-vitrazhi-tiffani.jpg"/>
          <p:cNvPicPr/>
          <p:nvPr/>
        </p:nvPicPr>
        <p:blipFill>
          <a:blip r:embed="rId7"/>
          <a:stretch/>
        </p:blipFill>
        <p:spPr>
          <a:xfrm>
            <a:off x="611280" y="836640"/>
            <a:ext cx="1296720" cy="216864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6" descr="http://artultra.ru/images/fon/vitrazhi/vitrazhi-tiffani/stil-tiffani.jpg"/>
          <p:cNvPicPr/>
          <p:nvPr/>
        </p:nvPicPr>
        <p:blipFill>
          <a:blip r:embed="rId8"/>
          <a:stretch/>
        </p:blipFill>
        <p:spPr>
          <a:xfrm>
            <a:off x="2843280" y="809640"/>
            <a:ext cx="1368360" cy="21607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24" descr="http://artultra.ru/photos/vitrazhi/vidy-vitrazhej/zalivnoj-vitrazh/tehnika-zalivnogo-vitrazha-5.jpg"/>
          <p:cNvPicPr/>
          <p:nvPr/>
        </p:nvPicPr>
        <p:blipFill>
          <a:blip r:embed="rId9"/>
          <a:stretch/>
        </p:blipFill>
        <p:spPr>
          <a:xfrm>
            <a:off x="539640" y="3357720"/>
            <a:ext cx="3355920" cy="25318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фото изготовление заливного витража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4010040" y="3357720"/>
            <a:ext cx="2133720" cy="1428480"/>
          </a:xfrm>
          <a:prstGeom prst="rect">
            <a:avLst/>
          </a:prstGeom>
          <a:ln w="0">
            <a:noFill/>
          </a:ln>
        </p:spPr>
      </p:pic>
      <p:sp>
        <p:nvSpPr>
          <p:cNvPr id="377" name="Номер слайда 10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79672-D7EE-48D9-B792-049980AB824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560" y="6093000"/>
            <a:ext cx="746748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buClr>
                <a:srgbClr val="575f6d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75f6d"/>
                </a:solidFill>
                <a:latin typeface="Century Schoolbook"/>
              </a:rPr>
              <a:t>ВИДЫ СОВРЕМЕННЫХ ВИТРАЖЕЙ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616880" y="274680"/>
            <a:ext cx="15271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6840" y="188640"/>
            <a:ext cx="82184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Роспись по стекл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Классический витраж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1" name="Содержимое 11" descr="vitrazhi-rospis-po-steklu-432.jpg"/>
          <p:cNvPicPr/>
          <p:nvPr/>
        </p:nvPicPr>
        <p:blipFill>
          <a:blip r:embed="rId1"/>
          <a:stretch/>
        </p:blipFill>
        <p:spPr>
          <a:xfrm>
            <a:off x="684360" y="620640"/>
            <a:ext cx="1506240" cy="2008440"/>
          </a:xfrm>
          <a:prstGeom prst="rect">
            <a:avLst/>
          </a:prstGeom>
          <a:ln w="0">
            <a:noFill/>
          </a:ln>
        </p:spPr>
      </p:pic>
      <p:pic>
        <p:nvPicPr>
          <p:cNvPr id="382" name="Содержимое 13" descr="tekhnika-rospisi-stekla-436.jpg"/>
          <p:cNvPicPr/>
          <p:nvPr/>
        </p:nvPicPr>
        <p:blipFill>
          <a:blip r:embed="rId2"/>
          <a:stretch/>
        </p:blipFill>
        <p:spPr>
          <a:xfrm>
            <a:off x="2340000" y="620640"/>
            <a:ext cx="1511280" cy="20163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http://artultra.ru/photos/vitraji/Tekhniki/Rospisnoi%20vitrazh/vitrazh-rospis-stekla-434.jpg"/>
          <p:cNvPicPr/>
          <p:nvPr/>
        </p:nvPicPr>
        <p:blipFill>
          <a:blip r:embed="rId3"/>
          <a:stretch/>
        </p:blipFill>
        <p:spPr>
          <a:xfrm>
            <a:off x="3995640" y="620640"/>
            <a:ext cx="1416240" cy="20163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6" descr="http://artultra.ru/photos/vitraji/Tekhniki/Rospisnoi%20vitrazh/rospis-po-zerkalu-440.jpg"/>
          <p:cNvPicPr/>
          <p:nvPr/>
        </p:nvPicPr>
        <p:blipFill>
          <a:blip r:embed="rId4"/>
          <a:stretch/>
        </p:blipFill>
        <p:spPr>
          <a:xfrm>
            <a:off x="5580000" y="692280"/>
            <a:ext cx="2592360" cy="1946160"/>
          </a:xfrm>
          <a:prstGeom prst="rect">
            <a:avLst/>
          </a:prstGeom>
          <a:ln w="0">
            <a:noFill/>
          </a:ln>
        </p:spPr>
      </p:pic>
      <p:pic>
        <p:nvPicPr>
          <p:cNvPr id="385" name="Содержимое 15" descr="vitrazhi-shagala-1144.jpg"/>
          <p:cNvPicPr/>
          <p:nvPr/>
        </p:nvPicPr>
        <p:blipFill>
          <a:blip r:embed="rId5"/>
          <a:stretch/>
        </p:blipFill>
        <p:spPr>
          <a:xfrm>
            <a:off x="755640" y="3357720"/>
            <a:ext cx="936720" cy="2255760"/>
          </a:xfrm>
          <a:prstGeom prst="rect">
            <a:avLst/>
          </a:prstGeom>
          <a:ln w="0">
            <a:noFill/>
          </a:ln>
        </p:spPr>
      </p:pic>
      <p:pic>
        <p:nvPicPr>
          <p:cNvPr id="386" name="Содержимое 19" descr="vitrazhi-sobora-parizhskoi-bogomateri-956.jpg"/>
          <p:cNvPicPr/>
          <p:nvPr/>
        </p:nvPicPr>
        <p:blipFill>
          <a:blip r:embed="rId6"/>
          <a:stretch/>
        </p:blipFill>
        <p:spPr>
          <a:xfrm>
            <a:off x="2303640" y="3370320"/>
            <a:ext cx="792000" cy="22636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Фотография витражи шагала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759280" y="3411360"/>
            <a:ext cx="1333800" cy="23036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8" descr="Фото средневековые витражи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614760" y="3394080"/>
            <a:ext cx="1388880" cy="2303280"/>
          </a:xfrm>
          <a:prstGeom prst="rect">
            <a:avLst/>
          </a:prstGeom>
          <a:ln w="0">
            <a:noFill/>
          </a:ln>
        </p:spPr>
      </p:pic>
      <p:sp>
        <p:nvSpPr>
          <p:cNvPr id="389" name="Номер слайда 1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3141-5377-4144-96C5-9915BD558FB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560" y="6093000"/>
            <a:ext cx="746748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buClr>
                <a:srgbClr val="575f6d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75f6d"/>
                </a:solidFill>
                <a:latin typeface="Century Schoolbook"/>
              </a:rPr>
              <a:t>ВИДЫ СОВРЕМЕННЫХ ВИТРАЖЕЙ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7616880" y="274680"/>
            <a:ext cx="15271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88640"/>
            <a:ext cx="82184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ечать на стекл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Комбинированный витраж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3" name="Picture 10" descr="http://artultra.ru/photos/vidy-vitrazhey/fotovitrazh/fotovitrazh-na-dveri-5.jpg"/>
          <p:cNvPicPr/>
          <p:nvPr/>
        </p:nvPicPr>
        <p:blipFill>
          <a:blip r:embed="rId1"/>
          <a:stretch/>
        </p:blipFill>
        <p:spPr>
          <a:xfrm>
            <a:off x="2401920" y="727200"/>
            <a:ext cx="2709720" cy="21240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2" descr="http://artultra.ru/photos/vitraji/Tekhniki/Smeshannaya%20tekhnika/vitrazhi-dekor-452.jpg"/>
          <p:cNvPicPr/>
          <p:nvPr/>
        </p:nvPicPr>
        <p:blipFill>
          <a:blip r:embed="rId2"/>
          <a:stretch/>
        </p:blipFill>
        <p:spPr>
          <a:xfrm>
            <a:off x="1835280" y="3473280"/>
            <a:ext cx="1784160" cy="23767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4" descr="http://artultra.ru/photos/vitraji/Tekhniki/Smeshannaya%20tekhnika/luchshie-vitrazhi-456.jpg"/>
          <p:cNvPicPr/>
          <p:nvPr/>
        </p:nvPicPr>
        <p:blipFill>
          <a:blip r:embed="rId3"/>
          <a:stretch/>
        </p:blipFill>
        <p:spPr>
          <a:xfrm>
            <a:off x="4427640" y="3476520"/>
            <a:ext cx="1368360" cy="2376720"/>
          </a:xfrm>
          <a:prstGeom prst="rect">
            <a:avLst/>
          </a:prstGeom>
          <a:ln w="0">
            <a:noFill/>
          </a:ln>
        </p:spPr>
      </p:pic>
      <p:sp>
        <p:nvSpPr>
          <p:cNvPr id="396" name="Номер слайда 10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675CA-A115-40B0-AE2E-200C58CC049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560" y="6093000"/>
            <a:ext cx="746748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buClr>
                <a:srgbClr val="575f6d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75f6d"/>
                </a:solidFill>
                <a:latin typeface="Century Schoolbook"/>
              </a:rPr>
              <a:t>ВИДЫ СОВРЕМЕННЫХ ВИТРАЖЕЙ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616880" y="274680"/>
            <a:ext cx="15271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6840" y="188640"/>
            <a:ext cx="82184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Фацетный витраж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Мозаичный витраж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0" name="Picture 18" descr="http://artultra.ru/photos/vitraji/Tekhniki/Facetnyi%20vitrazh/oformlenie-vitrazhei-567.jpg"/>
          <p:cNvPicPr/>
          <p:nvPr/>
        </p:nvPicPr>
        <p:blipFill>
          <a:blip r:embed="rId1"/>
          <a:stretch/>
        </p:blipFill>
        <p:spPr>
          <a:xfrm>
            <a:off x="611280" y="692280"/>
            <a:ext cx="1800000" cy="21603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0" descr="Фото фацеты для витражей"/>
          <p:cNvPicPr/>
          <p:nvPr/>
        </p:nvPicPr>
        <p:blipFill>
          <a:blip r:embed="rId2"/>
          <a:stretch/>
        </p:blipFill>
        <p:spPr>
          <a:xfrm>
            <a:off x="2771640" y="907920"/>
            <a:ext cx="1457640" cy="142884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2" descr="Фотография оформление витражей"/>
          <p:cNvPicPr/>
          <p:nvPr/>
        </p:nvPicPr>
        <p:blipFill>
          <a:blip r:embed="rId3"/>
          <a:stretch/>
        </p:blipFill>
        <p:spPr>
          <a:xfrm>
            <a:off x="4643280" y="692280"/>
            <a:ext cx="1441440" cy="21603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30" descr="Картинка 1 из 10244"/>
          <p:cNvPicPr/>
          <p:nvPr/>
        </p:nvPicPr>
        <p:blipFill>
          <a:blip r:embed="rId4"/>
          <a:stretch/>
        </p:blipFill>
        <p:spPr>
          <a:xfrm>
            <a:off x="3059280" y="3789360"/>
            <a:ext cx="1831680" cy="22255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2" descr="Картинка 5 из 10244"/>
          <p:cNvPicPr/>
          <p:nvPr/>
        </p:nvPicPr>
        <p:blipFill>
          <a:blip r:embed="rId5"/>
          <a:stretch/>
        </p:blipFill>
        <p:spPr>
          <a:xfrm>
            <a:off x="5292720" y="3933720"/>
            <a:ext cx="1936800" cy="19368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4" descr="Картинка 11 из 10259"/>
          <p:cNvPicPr/>
          <p:nvPr/>
        </p:nvPicPr>
        <p:blipFill>
          <a:blip r:embed="rId6"/>
          <a:stretch/>
        </p:blipFill>
        <p:spPr>
          <a:xfrm>
            <a:off x="539640" y="3860640"/>
            <a:ext cx="2009880" cy="2009880"/>
          </a:xfrm>
          <a:prstGeom prst="rect">
            <a:avLst/>
          </a:prstGeom>
          <a:ln w="0">
            <a:noFill/>
          </a:ln>
        </p:spPr>
      </p:pic>
      <p:sp>
        <p:nvSpPr>
          <p:cNvPr id="406" name="Номер слайда 10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26546-F9F8-4D28-827F-3EA043C3A78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979640" y="1341000"/>
            <a:ext cx="594504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СПАСИБО ЗА ВНИМАНИЕ!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8" name="Номер слайда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068AC-D7E6-46A8-B910-00446A9F02D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3T08:18:56Z</dcterms:created>
  <dc:creator>1</dc:creator>
  <dc:description/>
  <dc:language>en-US</dc:language>
  <cp:lastModifiedBy>Учитель</cp:lastModifiedBy>
  <dcterms:modified xsi:type="dcterms:W3CDTF">2012-06-20T11:48:05Z</dcterms:modified>
  <cp:revision>45</cp:revision>
  <dc:subject/>
  <dc:title>Слайд 1</dc:title>
</cp:coreProperties>
</file>