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30F-60F7-48A8-9965-DFF19924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34B-F899-4C49-BFD7-3ABCFE6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C98-C6DF-469A-ADB4-C755A679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4CEE-8A64-4611-B5D2-0C87C1DC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F1DB-C548-48BE-B3D3-ABCD4C2D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160B-B2E8-4D39-8FAE-9687B23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CF68-ACD9-4405-8AEA-8097E316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466A-A3C9-4F03-A348-F80C3694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1094-D700-4040-BF45-A26C758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1271-63E7-4992-B11F-1803FB8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D51A-6C6C-4AA3-8B8D-DD3607E0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C6C-8C8C-4075-9B22-8AB93D83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320A-B5AF-46F6-A238-A57801A3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5B8D-0A3E-42BF-9769-B26710C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81AC-4C95-48D1-9F7B-8EB8E39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A65F-EFA0-46ED-8155-529B2D30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4539-5D02-4DB3-9D27-0B391B37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8DE42-1511-4E44-B3B0-FCAB97D8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CA04B-6034-438D-8564-0E44E7A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D67F9-71E1-4ADD-BF35-88164951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9C355-DAC7-4FAC-8EF1-7BA36DBC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6AC7B-B82E-448B-96A0-D2D7020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DB1-D0DF-4F33-83D5-F83DE447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66B6B-E90E-47C8-B39D-3D250232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ACD29-461B-47C2-865E-B80E7DBB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12A60-4B25-4AFC-8697-DE762AF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05C13-41D4-4649-8E29-79273A4C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076DA-5932-427C-8F67-A1426DD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99F16-30FD-488D-9752-A7286464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5B176-0F5C-4447-AFC1-EB622D86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3450-B8D4-4396-AAA5-B93ABEBC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D985-2ECB-4E36-BC50-27E8A8B0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793F8-8E52-4E31-892A-5644BF5B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553-5658-4EDA-B0E2-66A04178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45A0-2A95-4ECE-9495-66DA57DD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CA597-F408-440D-9792-898F8AB9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EB3B-5F8D-4993-95A2-DADF0A1B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32621-3557-4A55-B71E-E1AD5E4F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7DEB-4E68-4AEA-8CEA-0C9A835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0F28F-63B3-46A0-A33F-8E171440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5B6E5-761B-413B-B1C2-CC6355D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8495C-A917-4BAD-B207-733EF10C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29B5-8E03-4E3D-AFAD-B295DCEE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7440D-FBBC-4910-9177-A383D41C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45F-0C4C-4921-99F7-763D34F8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23B89-6A73-4022-B632-994CB3A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91F1E5-248B-464A-8DD1-C1EC125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EAE66-090C-48C9-A112-BE643C6A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DAD663-C2B1-4871-84F3-B18B365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8FDDD-77E7-4343-BBF6-43626C03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C8B7B-E143-4BFF-8661-8587F72C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508C4-C883-4774-996C-1B3162D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B8A06-3C8B-46A6-A3D8-BF88B62D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FCD8D-5C73-4969-A885-8BB331A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AA49A-CB15-4E46-AB6C-63DD5A31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E25-AF41-4687-A86E-E0BD746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D7C57-4C62-42D8-A842-F89958F7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8F110-5B4E-47E8-A44D-A9D25127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C8422-460F-41F5-BE5B-0086022F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5CED2-0D97-420A-A23B-227B4E02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0DA73-6A20-4C7F-AFA1-2716CF8F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8A0BD-A3AE-40EA-B9B6-347AA26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4F060-E016-4560-A173-415C25D3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64AEBD-7EE6-411C-9899-01E24DEA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9211B-D8C5-4C13-843C-4182A8A3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CD292-7467-49DF-A077-FD45651B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49F-92CE-4DB7-8CE6-034D22A6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06036-428F-46EF-BF61-1E68246A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0969A-1ACD-41AA-8D1D-F731A4FC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C0801-81FF-4CE4-BDDB-FDD4DB54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89790-074A-491C-85EC-EA8814E0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2E9F8-F303-4CE1-86DB-39834649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90611-D12C-45FB-9D87-971F33AF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AC4504-A7F5-472B-9C17-618FE55C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A94261-CB43-4B8D-86BD-2ED9DC6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DCF24-D6E8-4138-BF07-580D8290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B8CE3-C01A-446C-B444-1A8AFA7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C32-BAA7-4D09-B291-C45F055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8D0F8-45E8-40A3-8733-05EEC5C2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64F08-6DC3-4EAC-AE25-861B9D5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A753F-252A-47A1-9778-1FE64503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615B74-EF22-47A4-8D64-B57A57B6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58E6C8-03B2-46BF-80E9-37A4D5DE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708-9C28-4AB5-B23B-AC803BF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710B-9AA5-4A44-A760-3366D9BD54E9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724C-E3D1-423C-922E-6C0E8325B6B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933C-1F4A-445F-AE69-D680234ED5F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F492-4EF7-4BE1-A12D-BFFE8B78D5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F5E9-C58F-447A-A071-E073F9A84F1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BB6E-1227-4A3A-8FF5-56FBAFE505F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F061-0DF5-43FE-9832-775BEEA2E27B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B50-2065-4A23-BCB7-069CE9E551B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CDB-8E7C-401E-BB4D-287F6ED589F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4FD7-E42D-4E79-B176-0C4DCF2702B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AE0-1985-44C3-BF61-4E3D492E7B8B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F4A-9E8D-409C-AC9E-BD74C2E62C5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53F5-68BC-4B6E-AABC-402F6B1F04C0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225F-65E2-4EE7-8815-3A064F87497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-salon-iris.ru/index.ph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lobzikov.ru/img/img1_prev/58821370931012011.jpg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d/d5/Chromolithografie-Glasmalerei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file://upload.wikimedia.org/wikipedia/commons/2/2a/Nidaros_Cathedral_Trondheim_2005-08-22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upload.wikimedia.org/wikipedia/commons/b/b5/Canterbury_Cathedral_021_Poor_mans_Bible_window_upper_half.JPG" TargetMode="External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80-&#1077;" TargetMode="External"/><Relationship Id="rId2" Type="http://schemas.openxmlformats.org/officeDocument/2006/relationships/hyperlink" Target="http://ru.wikipedia.org/wiki/1910-&#1077;" TargetMode="External"/><Relationship Id="rId3" Type="http://schemas.openxmlformats.org/officeDocument/2006/relationships/hyperlink" Target="http://ru.wikipedia.org/wiki/&#1045;&#1074;&#1088;&#1086;&#1087;&#1072;" TargetMode="External"/><Relationship Id="rId4" Type="http://schemas.openxmlformats.org/officeDocument/2006/relationships/hyperlink" Target="http://ru.wikipedia.org/wiki/&#1040;&#1085;&#1075;&#1083;&#1080;&#1103;" TargetMode="External"/><Relationship Id="rId5" Type="http://schemas.openxmlformats.org/officeDocument/2006/relationships/hyperlink" Target="http://ru.wikipedia.org/wiki/&#1040;&#1084;&#1077;&#1088;&#1080;&#1082;&#1072;" TargetMode="External"/><Relationship Id="rId6" Type="http://schemas.openxmlformats.org/officeDocument/2006/relationships/hyperlink" Target="http://ru.wikipedia.org/wiki/&#1044;&#1077;&#1082;&#1086;&#1088;" TargetMode="External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hyperlink" Target="http://artultra.ru/photos/vitrazhi/vidy-vitrazhej/zalivnoj-vitrazh/izgotovlenie-zalivnogo-vitrazha-4.jpg" TargetMode="External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artultra.ru/photos/vitraji/Tekhniki/Klassicheskaya%20Tekhnika/srednevekovye-vitrazhi-1283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artultra.ru/photos/vitraji/Tekhniki/Klassicheskaya%20Tekhnika/srednevekovye-vitrazhi-963.jpg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«РОСПИСЬ ПО СТЕКЛУ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Доклад ученика 5 «А» класс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ГБОУ СОШ №76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160b"/>
                </a:solidFill>
                <a:latin typeface="Century Schoolbook"/>
              </a:rPr>
              <a:t>БАРАНОВА  КОНСТАНТИН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0920" y="5805360"/>
            <a:ext cx="3276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ОБРАЗЦЫ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300720" y="692280"/>
            <a:ext cx="25192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Витра́ж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(фр. vitrage — остекление, от лат. vitrum — стекло) — произведение декоративного искусства изобразительного или орнаментального характера из цветного стекла, рассчитанное на сквозное освещение и предназначенное для заполнения проёма, чаще всего оконного, в каком-либо архитектурном сооружении.</a:t>
            </a:r>
            <a:br>
              <a:rPr sz="1400"/>
            </a:b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http://img0.liveinternet.ru/images/attach/c/2/73/858/73858290_31.jpg"/>
          <p:cNvPicPr/>
          <p:nvPr/>
        </p:nvPicPr>
        <p:blipFill>
          <a:blip r:embed="rId2"/>
          <a:stretch/>
        </p:blipFill>
        <p:spPr>
          <a:xfrm>
            <a:off x="611280" y="189000"/>
            <a:ext cx="2349360" cy="175716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4" descr="Vitraux.jpg"/>
          <p:cNvPicPr/>
          <p:nvPr/>
        </p:nvPicPr>
        <p:blipFill>
          <a:blip r:embed="rId3"/>
          <a:stretch/>
        </p:blipFill>
        <p:spPr>
          <a:xfrm>
            <a:off x="4524480" y="450864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6" descr="Harkow_witraz.jpg"/>
          <p:cNvPicPr/>
          <p:nvPr/>
        </p:nvPicPr>
        <p:blipFill>
          <a:blip r:embed="rId4"/>
          <a:stretch/>
        </p:blipFill>
        <p:spPr>
          <a:xfrm>
            <a:off x="4211640" y="18900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Картинка 11 из 11197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2133720"/>
            <a:ext cx="1368720" cy="1309680"/>
          </a:xfrm>
          <a:prstGeom prst="rect">
            <a:avLst/>
          </a:prstGeom>
          <a:ln w="0">
            <a:noFill/>
          </a:ln>
        </p:spPr>
      </p:pic>
      <p:pic>
        <p:nvPicPr>
          <p:cNvPr id="359" name="Содержимое 5" descr="vipzal.jpg"/>
          <p:cNvPicPr/>
          <p:nvPr/>
        </p:nvPicPr>
        <p:blipFill>
          <a:blip r:embed="rId7"/>
          <a:stretch/>
        </p:blipFill>
        <p:spPr>
          <a:xfrm>
            <a:off x="3059280" y="2205000"/>
            <a:ext cx="2863800" cy="2016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http://am111.ru/cache/5b2744990ddc7bdc906f7f818635bbf7.jpg"/>
          <p:cNvPicPr/>
          <p:nvPr/>
        </p:nvPicPr>
        <p:blipFill>
          <a:blip r:embed="rId8"/>
          <a:stretch/>
        </p:blipFill>
        <p:spPr>
          <a:xfrm>
            <a:off x="324000" y="3645000"/>
            <a:ext cx="2519280" cy="2098440"/>
          </a:xfrm>
          <a:prstGeom prst="rect">
            <a:avLst/>
          </a:prstGeom>
          <a:ln w="0">
            <a:noFill/>
          </a:ln>
        </p:spPr>
      </p:pic>
      <p:sp>
        <p:nvSpPr>
          <p:cNvPr id="361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51C-994D-428B-BF77-9786250CD5E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6237360"/>
            <a:ext cx="468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ТРАЖИ В ХРАМАХ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00720" y="0"/>
            <a:ext cx="2843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С давних пор витраж использовался в храмах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раннехристианском храме окна заполнялись тонкими прозрачными пластинами камня (алебастра, селенита), из которых составляли орнамент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Многоцветные, большие по размеру витражи из разнообразных по форме стёкол, скреплённых свинцовыми перемычками, являлись особенностью готических соборов. Чаще всего готические витражи изображали религиозные и бытовые сцены. Они размещались в огромных стрельчатых окнах, так называемых «розах».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эпоху Возрождения витраж существовал как живопись на стекле, применялась техника выскабливания по специально покрашенному разноцветному стеклу.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В России витражи существовали еще в X</a:t>
            </a:r>
            <a:r>
              <a:rPr b="0" lang="en-US" sz="13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I веке, однако они не были характерным элементом убранства интерьеров русских домов.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Содержимое 6" descr="1fcae_13.jpg"/>
          <p:cNvPicPr/>
          <p:nvPr/>
        </p:nvPicPr>
        <p:blipFill>
          <a:blip r:embed="rId1"/>
          <a:stretch/>
        </p:blipFill>
        <p:spPr>
          <a:xfrm>
            <a:off x="324000" y="0"/>
            <a:ext cx="2295360" cy="28414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Файл:Chromolithografie-Glasmalere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260280"/>
            <a:ext cx="3313080" cy="2406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Файл:Nidaros Cathedral Trondheim 2005-08-2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2997360"/>
            <a:ext cx="1942920" cy="3200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Файл:Canterbury Cathedral 021 Poor mans Bible window upper half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4000" y="2997360"/>
            <a:ext cx="1871640" cy="3168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http://bylix.com/uploads/posts/2009-11/thumbs/1257408911_1257368688_windowstainedglass0055_l.jpg"/>
          <p:cNvPicPr/>
          <p:nvPr/>
        </p:nvPicPr>
        <p:blipFill>
          <a:blip r:embed="rId8"/>
          <a:stretch/>
        </p:blipFill>
        <p:spPr>
          <a:xfrm>
            <a:off x="2484360" y="2997360"/>
            <a:ext cx="1582920" cy="3216240"/>
          </a:xfrm>
          <a:prstGeom prst="rect">
            <a:avLst/>
          </a:prstGeom>
          <a:ln w="0">
            <a:noFill/>
          </a:ln>
        </p:spPr>
      </p:pic>
      <p:sp>
        <p:nvSpPr>
          <p:cNvPr id="369" name="Номер слайда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84B-394E-43F5-86DB-6D2B778815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6165720"/>
            <a:ext cx="521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372000" y="907920"/>
            <a:ext cx="2447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В конце XIX века наступил новый этап в развитии витражного искусства, которое за короткий период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1880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—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1910-х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годов достигло необычайного расцвета в странах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Европы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Англи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Америке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Благодаря техническому прогрессу в области стеклоделия упростилось производство листового стекла, были разработаны новые технологии его окраски, обработки, 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декорирования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920" y="274320"/>
            <a:ext cx="585144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итражи Тиффа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Заливной витра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2" descr="http://artultra.ru/images/fon/vitrazhi/vitrazhi-tiffani/hudozhestvennye-vitrazhi-tiffani.jpg"/>
          <p:cNvPicPr/>
          <p:nvPr/>
        </p:nvPicPr>
        <p:blipFill>
          <a:blip r:embed="rId7"/>
          <a:stretch/>
        </p:blipFill>
        <p:spPr>
          <a:xfrm>
            <a:off x="611280" y="836640"/>
            <a:ext cx="1296720" cy="2168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artultra.ru/images/fon/vitrazhi/vitrazhi-tiffani/stil-tiffani.jpg"/>
          <p:cNvPicPr/>
          <p:nvPr/>
        </p:nvPicPr>
        <p:blipFill>
          <a:blip r:embed="rId8"/>
          <a:stretch/>
        </p:blipFill>
        <p:spPr>
          <a:xfrm>
            <a:off x="2843280" y="809640"/>
            <a:ext cx="1368360" cy="2160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4" descr="http://artultra.ru/photos/vitrazhi/vidy-vitrazhej/zalivnoj-vitrazh/tehnika-zalivnogo-vitrazha-5.jpg"/>
          <p:cNvPicPr/>
          <p:nvPr/>
        </p:nvPicPr>
        <p:blipFill>
          <a:blip r:embed="rId9"/>
          <a:stretch/>
        </p:blipFill>
        <p:spPr>
          <a:xfrm>
            <a:off x="539640" y="3357720"/>
            <a:ext cx="3355920" cy="2531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фото изготовление заливного витража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010040" y="3357720"/>
            <a:ext cx="2133720" cy="1428480"/>
          </a:xfrm>
          <a:prstGeom prst="rect">
            <a:avLst/>
          </a:prstGeom>
          <a:ln w="0">
            <a:noFill/>
          </a:ln>
        </p:spPr>
      </p:pic>
      <p:sp>
        <p:nvSpPr>
          <p:cNvPr id="377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7250-FE90-4AB1-B7AB-513838AAB57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оспись по стекл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лассически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Содержимое 11" descr="vitrazhi-rospis-po-steklu-432.jpg"/>
          <p:cNvPicPr/>
          <p:nvPr/>
        </p:nvPicPr>
        <p:blipFill>
          <a:blip r:embed="rId1"/>
          <a:stretch/>
        </p:blipFill>
        <p:spPr>
          <a:xfrm>
            <a:off x="684360" y="620640"/>
            <a:ext cx="1506240" cy="200844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13" descr="tekhnika-rospisi-stekla-436.jpg"/>
          <p:cNvPicPr/>
          <p:nvPr/>
        </p:nvPicPr>
        <p:blipFill>
          <a:blip r:embed="rId2"/>
          <a:stretch/>
        </p:blipFill>
        <p:spPr>
          <a:xfrm>
            <a:off x="2340000" y="620640"/>
            <a:ext cx="1511280" cy="2016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artultra.ru/photos/vitraji/Tekhniki/Rospisnoi%20vitrazh/vitrazh-rospis-stekla-434.jpg"/>
          <p:cNvPicPr/>
          <p:nvPr/>
        </p:nvPicPr>
        <p:blipFill>
          <a:blip r:embed="rId3"/>
          <a:stretch/>
        </p:blipFill>
        <p:spPr>
          <a:xfrm>
            <a:off x="3995640" y="620640"/>
            <a:ext cx="1416240" cy="2016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artultra.ru/photos/vitraji/Tekhniki/Rospisnoi%20vitrazh/rospis-po-zerkalu-440.jpg"/>
          <p:cNvPicPr/>
          <p:nvPr/>
        </p:nvPicPr>
        <p:blipFill>
          <a:blip r:embed="rId4"/>
          <a:stretch/>
        </p:blipFill>
        <p:spPr>
          <a:xfrm>
            <a:off x="5580000" y="69228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15" descr="vitrazhi-shagala-1144.jpg"/>
          <p:cNvPicPr/>
          <p:nvPr/>
        </p:nvPicPr>
        <p:blipFill>
          <a:blip r:embed="rId5"/>
          <a:stretch/>
        </p:blipFill>
        <p:spPr>
          <a:xfrm>
            <a:off x="755640" y="3357720"/>
            <a:ext cx="936720" cy="2255760"/>
          </a:xfrm>
          <a:prstGeom prst="rect">
            <a:avLst/>
          </a:prstGeom>
          <a:ln w="0">
            <a:noFill/>
          </a:ln>
        </p:spPr>
      </p:pic>
      <p:pic>
        <p:nvPicPr>
          <p:cNvPr id="386" name="Содержимое 19" descr="vitrazhi-sobora-parizhskoi-bogomateri-956.jpg"/>
          <p:cNvPicPr/>
          <p:nvPr/>
        </p:nvPicPr>
        <p:blipFill>
          <a:blip r:embed="rId6"/>
          <a:stretch/>
        </p:blipFill>
        <p:spPr>
          <a:xfrm>
            <a:off x="2303640" y="3370320"/>
            <a:ext cx="792000" cy="2263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Фотография витражи шагала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59280" y="3411360"/>
            <a:ext cx="1333800" cy="2303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Фото средневековые витражи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614760" y="3394080"/>
            <a:ext cx="1388880" cy="230328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2026-5428-4CED-9200-625D1E0FF16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ечать на стекл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бинированный витраж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10" descr="http://artultra.ru/photos/vidy-vitrazhey/fotovitrazh/fotovitrazh-na-dveri-5.jpg"/>
          <p:cNvPicPr/>
          <p:nvPr/>
        </p:nvPicPr>
        <p:blipFill>
          <a:blip r:embed="rId1"/>
          <a:stretch/>
        </p:blipFill>
        <p:spPr>
          <a:xfrm>
            <a:off x="2401920" y="727200"/>
            <a:ext cx="2709720" cy="2124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2" descr="http://artultra.ru/photos/vitraji/Tekhniki/Smeshannaya%20tekhnika/vitrazhi-dekor-452.jpg"/>
          <p:cNvPicPr/>
          <p:nvPr/>
        </p:nvPicPr>
        <p:blipFill>
          <a:blip r:embed="rId2"/>
          <a:stretch/>
        </p:blipFill>
        <p:spPr>
          <a:xfrm>
            <a:off x="1835280" y="3473280"/>
            <a:ext cx="1784160" cy="2376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artultra.ru/photos/vitraji/Tekhniki/Smeshannaya%20tekhnika/luchshie-vitrazhi-456.jpg"/>
          <p:cNvPicPr/>
          <p:nvPr/>
        </p:nvPicPr>
        <p:blipFill>
          <a:blip r:embed="rId3"/>
          <a:stretch/>
        </p:blipFill>
        <p:spPr>
          <a:xfrm>
            <a:off x="4427640" y="3476520"/>
            <a:ext cx="1368360" cy="2376720"/>
          </a:xfrm>
          <a:prstGeom prst="rect">
            <a:avLst/>
          </a:prstGeom>
          <a:ln w="0">
            <a:noFill/>
          </a:ln>
        </p:spPr>
      </p:pic>
      <p:sp>
        <p:nvSpPr>
          <p:cNvPr id="396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8D3C-515D-49DB-81DF-9C9F622BE7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560" y="6093000"/>
            <a:ext cx="74674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575f6d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ВИДЫ СОВРЕМЕННЫХ ВИТРАЖЕЙ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688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88640"/>
            <a:ext cx="8218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Фацетны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озаичный ви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18" descr="http://artultra.ru/photos/vitraji/Tekhniki/Facetnyi%20vitrazh/oformlenie-vitrazhei-567.jpg"/>
          <p:cNvPicPr/>
          <p:nvPr/>
        </p:nvPicPr>
        <p:blipFill>
          <a:blip r:embed="rId1"/>
          <a:stretch/>
        </p:blipFill>
        <p:spPr>
          <a:xfrm>
            <a:off x="611280" y="692280"/>
            <a:ext cx="1800000" cy="2160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Фото фацеты для витражей"/>
          <p:cNvPicPr/>
          <p:nvPr/>
        </p:nvPicPr>
        <p:blipFill>
          <a:blip r:embed="rId2"/>
          <a:stretch/>
        </p:blipFill>
        <p:spPr>
          <a:xfrm>
            <a:off x="2771640" y="907920"/>
            <a:ext cx="1457640" cy="142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Фотография оформление витражей"/>
          <p:cNvPicPr/>
          <p:nvPr/>
        </p:nvPicPr>
        <p:blipFill>
          <a:blip r:embed="rId3"/>
          <a:stretch/>
        </p:blipFill>
        <p:spPr>
          <a:xfrm>
            <a:off x="4643280" y="692280"/>
            <a:ext cx="1441440" cy="2160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0" descr="Картинка 1 из 10244"/>
          <p:cNvPicPr/>
          <p:nvPr/>
        </p:nvPicPr>
        <p:blipFill>
          <a:blip r:embed="rId4"/>
          <a:stretch/>
        </p:blipFill>
        <p:spPr>
          <a:xfrm>
            <a:off x="3059280" y="3789360"/>
            <a:ext cx="1831680" cy="2225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Картинка 5 из 10244"/>
          <p:cNvPicPr/>
          <p:nvPr/>
        </p:nvPicPr>
        <p:blipFill>
          <a:blip r:embed="rId5"/>
          <a:stretch/>
        </p:blipFill>
        <p:spPr>
          <a:xfrm>
            <a:off x="5292720" y="393372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Картинка 11 из 10259"/>
          <p:cNvPicPr/>
          <p:nvPr/>
        </p:nvPicPr>
        <p:blipFill>
          <a:blip r:embed="rId6"/>
          <a:stretch/>
        </p:blipFill>
        <p:spPr>
          <a:xfrm>
            <a:off x="539640" y="386064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406" name="Номер слайда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E1B-D8EB-4E93-A835-18F89B255D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79640" y="1341000"/>
            <a:ext cx="59450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Номер слайда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B4C-B564-456C-9152-99646FE40B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8:18:56Z</dcterms:created>
  <dc:creator>1</dc:creator>
  <dc:description/>
  <dc:language>en-US</dc:language>
  <cp:lastModifiedBy>Учитель</cp:lastModifiedBy>
  <dcterms:modified xsi:type="dcterms:W3CDTF">2012-06-20T11:48:05Z</dcterms:modified>
  <cp:revision>45</cp:revision>
  <dc:subject/>
  <dc:title>Слайд 1</dc:title>
</cp:coreProperties>
</file>