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7EE1-D989-43A2-BFA1-42734DD53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DD5E-F76E-4060-A378-AA00370CA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5133-FE4E-4A38-8D66-B35E4A054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A950-2FDC-408C-A759-BC8D59AED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45DA3-2ACF-4293-B135-AAC530397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F8CAD-C76A-4580-BDDF-379C18CA1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0D20A-CAE6-4FFB-8868-6CE013007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A52BA-9863-47FA-901C-DC7CF2D7F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BAF95-CBFF-4836-8C2C-54F4F8C66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DB459-AC17-4956-B6E9-A27DFF2DD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08C64-98DB-4D93-A32A-7941CE3C4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C248-E128-4EF5-B8A7-E8DA1DCCD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59642-A89A-464B-B496-10091701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A86C7-1A92-4CAA-89A7-74089A8C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13F54-6751-4572-9A87-45A7E201C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403EE-72A4-45AC-993E-5D051B315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B146F-7EC5-4407-8585-359D3251F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7897-72DE-4F72-8BE2-92B3FE36C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C8AF-889F-4B9B-B253-8BAB538D5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A084-2CB8-4887-9A22-1509C365E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A2C0-CED4-48F2-BB2F-09A8F63C1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E004-4F0E-401E-8797-23512CD3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34D4-366B-4CE1-8C37-D1CF1937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CF47-3B51-4F2A-A1FC-E9365EB1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3A85D-CFD0-4B34-B4F5-9965BC76212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64EA8-C71B-4EB6-A3D0-C3528C2B68E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1280" y="112500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Водопад Анхель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356000" y="1557360"/>
            <a:ext cx="4572000" cy="434196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Анхель - высочайшим в мире водопад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38642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9152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ысочайшим в мире является водопад Анхель (1054 м!) в бассейне р. Ориноко в Южной Америке на территории Венесуэл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332000" y="2674800"/>
            <a:ext cx="6264360" cy="41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342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го открыл сравнительно недавно (1935 г.) венесуэльский летчик Хуан Анхель, и только спустя четырнадцать лет пятеро геодезистов с большим трудом смогли определить высоту этого феноменального чуда природы.</a:t>
            </a:r>
            <a:br>
              <a:rPr sz="28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258920" y="4653000"/>
            <a:ext cx="706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Индейцы же называли водопад Апемей или Девичья бров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7:07:37Z</dcterms:created>
  <dc:creator>win4ester</dc:creator>
  <dc:description/>
  <dc:language>en-US</dc:language>
  <cp:lastModifiedBy>win4ester</cp:lastModifiedBy>
  <dcterms:modified xsi:type="dcterms:W3CDTF">2012-02-09T16:50:58Z</dcterms:modified>
  <cp:revision>4</cp:revision>
  <dc:subject/>
  <dc:title>Самые большие водопады мира.</dc:title>
</cp:coreProperties>
</file>