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C21-086C-4C85-8F25-F19E7953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3CC-D930-47E7-BE92-0D7BFC06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DCD-CD7D-4574-A048-46CDAAE2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1B3-0D9B-4658-8764-EC9E6616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89DA-2869-4619-AA25-AE4883C4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309A-AD93-454B-8008-86E6764A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7475-43BD-4038-A099-53AEFCB0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2C0-130C-41B4-9934-615C89A0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2F72-4BF4-43B8-9679-BFA84192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A3F3-13D2-4290-B229-580DB4A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4EC9-2D1E-4FB1-8595-0F8A6355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190-D4D1-4A13-A3A2-6E0A1E1A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776E-3672-4B86-8FBE-924475E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8292-BCD5-48EB-AB30-464428D7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835-BFBE-476F-A5E0-4249DB73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E5CB-2D5E-4F5E-9A69-309D5CD2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5E62-1EB6-418F-8592-96DF1CCE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FDB-AAEA-4F9C-BCA5-B6C98FDF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929-7D63-4421-8220-892B93BB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08F-1190-498C-A475-5D1526BD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F04-2DF5-4B30-966E-95BC5A68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E31-DDB2-4DBA-B8F1-CB0EAC7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F6D-6641-4833-A6E2-FB65E89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08E-C58C-4728-9130-EFC11FA5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9796-EB09-4B02-9F98-1280CF9DFD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468D-E6B9-437F-962B-0451B4167F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опад Анхель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572000" cy="4341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Анхель - высочайшим в мире водопад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8642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9152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ысочайшим в мире является водопад Анхель (1054 м!) в бассейне р. Ориноко в Южной Америке на территории Венесуэл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32000" y="2674800"/>
            <a:ext cx="62643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42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го открыл сравнительно недавно (1935 г.) венесуэльский летчик Хуан Анхель, и только спустя четырнадцать лет пятеро геодезистов с большим трудом смогли определить высоту этого феноменального чуда природы.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4653000"/>
            <a:ext cx="70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ейцы же называли водопад Апемей или Девичья бров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07:37Z</dcterms:created>
  <dc:creator>win4ester</dc:creator>
  <dc:description/>
  <dc:language>en-US</dc:language>
  <cp:lastModifiedBy>win4ester</cp:lastModifiedBy>
  <dcterms:modified xsi:type="dcterms:W3CDTF">2012-02-09T16:50:58Z</dcterms:modified>
  <cp:revision>4</cp:revision>
  <dc:subject/>
  <dc:title>Самые большие водопады мира.</dc:title>
</cp:coreProperties>
</file>