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6CE-E15C-426B-890C-B33B6A88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724-64B0-40A8-95B2-E623F3E2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6A88F-5344-482A-A938-0BB6116E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C277D-1B9C-4FDD-A3F5-050154EF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60034-7A1D-44C0-A90B-550D7638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95E5-6875-46C6-85BA-E6FC55E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65A85-F3DD-4FBB-8B19-B6D57271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376FB-3EE8-429B-B0BE-53410C0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C859C-9B82-4B3E-AFF2-EDEDFEDB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77B3F-C896-4107-831E-280E5D89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F06C-6404-4DE8-988C-AC0E5D90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B4E-2AC6-4E65-90DA-D7B3B707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B7A-C623-4B0B-94AE-61FD11A7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1FC-EEF5-455D-AE84-7B3E3618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E6F1-201D-4922-891B-90DD1AAF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BC1F-0A91-4348-BD46-3EF51225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9C6-D51A-49B9-9FBE-AFA0EB70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2006-E30F-42ED-87BF-839ACE7D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886B-DE89-491A-B058-119C8E1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9F7-E882-48BC-8240-A852B5AF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C9D-DEFA-4F92-972E-AF150C9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01F3-74E5-4E90-814E-3A880FE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A3C1-1126-4D45-AD67-A0889F6E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C12-1D22-44E5-AD4D-DF8FEB82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F77D-3E07-48BF-8DCC-206E6EA3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C701-F1D5-4ADC-A2EE-5E3D58C1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AF1E-B224-4ABB-A8D7-070A4AF6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7B2C-5215-4F10-84CF-F7C6D8C9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23E6-D3A5-4739-BA95-2277EDC0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E994-9EA1-4CBE-A2B6-57B83CC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C599-6E13-41A3-A723-9289BE4B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FB6-2A3A-4D85-8E68-73D971D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531D-F499-4D82-B4CA-07A3B721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D530-A758-42B2-A8EE-FEFDEAC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7D98-B4D2-4408-81A9-DD6AE4E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6198E-D933-42FC-94DB-E7E5E338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D4049-B543-4F50-9FF4-312B768F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A0F26-4265-43D8-9BAD-0FBBAEB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8F80-10C1-494C-9B15-0910BA1B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51C4-04DD-4901-8551-27A30D4D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BBF72-6F59-4D1E-84EF-F71F2439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01A0F-7D4B-4905-9DCF-B202B3BC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674-188A-4C1E-A384-A83F20A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0F3F4-2CF3-4858-8FAE-1C97B62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B5B81-88D2-4917-A83B-4082DC9B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0E18D-2DD9-4C76-B6C0-2317ACE1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EC4A-75AC-4696-B401-91E59C1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E0A34-0655-4EDD-B091-E4D9646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2549-80BF-41BC-B42E-C23D3FD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03D0-DC7D-47BE-9D43-FEB64948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08E3-5A7C-4110-8083-7A570048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9EC4F-8234-4310-B521-BDA284C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01016-ABE9-4451-980C-C1F34210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4E7-0E3C-485E-BFE6-BD506FFA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D97D-3ABD-4D3C-8B78-3D527207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9782-C2B8-4492-AB17-6D3F0CD6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0F72-FBC3-4A81-8355-80695B45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AF77-4BCA-42FF-AFE8-69B40708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0FF6-4B7B-40D5-A1ED-D775C9E3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E9FBD-A9E9-47A1-9F51-B1CCD74E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84480-19C3-430E-B90D-191E30DC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5BEB-646F-491C-AF73-325851A2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B6814-483B-4CD4-A2AD-B612E14F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E81C-D2D5-44BB-8200-85F97FDB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A67-2919-48E1-AC28-095D6433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C0600-9EB7-4163-B380-45C40BBD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4B1D5-0075-4E8D-8B13-9D391C98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811EF-E43A-475F-9832-DA0E3B6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D7C4-7D6A-4449-8F74-DD7204D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E6967-0982-4087-837B-0EEF4F03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13F3-332E-4B2E-B74C-BEA673E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8CA8F-A4A0-4951-9A69-FF860FAA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5C671-C8F4-4350-885C-DDDEAAD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E8D40-B6BF-45B0-AAC8-8CED745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D952-A08B-42FD-9078-A290ED6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0CC-1533-45B0-BD41-3A19CF7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B0F1-0D2A-49F1-A2E2-145CC04C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713F2-5E5D-457D-AD58-4AD57A48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317B-02EC-4192-A853-A067CFA0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C83DC-C1FB-4B2B-8B3F-1310E40C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35972-6C9E-4940-846A-4360C118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E691-A63B-442A-9D0C-890A59F3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1430D-797E-4F4C-AB0C-DCCD52B5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87F42-D0F0-4687-B6AE-0E3AF40D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4DB9A-3D87-42D9-8686-0B441C52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A4547-A98E-4D96-B8EA-54816B4E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9A3-31AC-4FFA-8E57-F6E6F1E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C9943-507B-4AA1-BB7B-BD85C393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152E-9AAD-4390-8315-4EAAF2E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A7C9F-8CF4-4946-BD10-FC5FF50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9933-F83A-4E33-AE78-6AE3BB4F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E4789-3FB8-4130-AC03-F35609C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81B3-5107-4574-9142-93B4170D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6CF6D-A8FB-42ED-BA51-37E566B0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DDB3-737D-4A3A-8EAC-C1215E57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8831B-9D0B-4774-949A-69CBBDD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2F2C-0DD3-4C95-AFD3-9078057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F9E-1484-46D5-AA6F-8277BB65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4A160-F01F-41A3-B9D5-0D941E92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B3D4-1B4F-43BA-A95E-8865B58E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7540D-99FB-413B-A142-AC9130A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13E17-FC53-4A2E-8173-D610A14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7DAF-B61B-41DD-98CB-E4DA79DD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6C3D7-AAE4-41DE-871D-5DB4E185F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A917A-2948-4326-962C-EBD5A54E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E6891-721D-4973-BB18-53C678E5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42511-3FB6-4D07-A2CE-DC5F3443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136D7-D77F-4DD7-9FBD-F643CE6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8232-D47A-4DB7-8A47-A10DCFD71BE6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9201-C995-4688-B02C-510C20E2843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AC0E-8EA0-4590-9C02-83A799299B3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9997-B303-473C-B746-8F13ADB5130E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E92E-C937-4F4C-92B2-A611A63E6564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57BA-57F4-40D4-9864-AB6D7594D0C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9348-9926-4EC6-9E86-62704B922029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D9F1-FC31-4681-AFED-762EB703B7A3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A6D2-5536-4D22-B392-0D07B63FD1D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eremok.in/narodn_skazki/russkie_skazki/images/serebr_blujdse14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babylib.ru/wp-content/uploads/bereza-i-tri-sokola.jpg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s005.radikal.ru/i211/1001/87/84bf4761360d.jpg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1763640" y="-326880"/>
            <a:ext cx="676908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БОУ детский сад с этнокультурным(русски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мпонентом образования №17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0429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9"/>
          <p:cNvSpPr/>
          <p:nvPr/>
        </p:nvSpPr>
        <p:spPr>
          <a:xfrm>
            <a:off x="5072040" y="944640"/>
            <a:ext cx="392904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Шаволина Полина</a:t>
            </a:r>
            <a:r>
              <a:rPr b="1" lang="ru-RU" sz="2800" spc="-1" strike="noStrike">
                <a:solidFill>
                  <a:srgbClr val="da1f28"/>
                </a:solidFill>
                <a:latin typeface="Arial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a1f28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da1f28"/>
                </a:solidFill>
                <a:latin typeface="Arial"/>
              </a:rPr>
              <a:t>6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ер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итель проекта: Лосик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 flipH="1">
            <a:off x="758880" y="928800"/>
            <a:ext cx="81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11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«Слезки берез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1071720" y="1488960"/>
            <a:ext cx="37972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900" spc="-1" strike="noStrike">
                <a:solidFill>
                  <a:srgbClr val="006600"/>
                </a:solidFill>
                <a:latin typeface="Franklin Gothic Medium"/>
              </a:rPr>
              <a:t>Благодарю за внимание!</a:t>
            </a:r>
            <a:endParaRPr b="0" lang="en-US" sz="49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-252360" y="0"/>
            <a:ext cx="111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4"/>
          <p:cNvSpPr/>
          <p:nvPr/>
        </p:nvSpPr>
        <p:spPr>
          <a:xfrm>
            <a:off x="4857840" y="214308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мы Родиной зовё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й, где мы с тобой растё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 берёзки, вдоль кото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ядом с мамой мы 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0" y="22320"/>
            <a:ext cx="9828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Березу считают  символом России  нашей Родины. Россия и берез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Эти два понятия неразделимы. С чего начинается Род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Наверное, с белых берез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435780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5327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da1f28"/>
                </a:solidFill>
                <a:latin typeface="Franklin Gothic Medium"/>
              </a:rPr>
              <a:t>Стройную, кудрявую, белоствольную, ее всегда </a:t>
            </a:r>
            <a:br>
              <a:rPr sz="2500"/>
            </a:br>
            <a:r>
              <a:rPr b="1" lang="ru-RU" sz="2500" spc="-1" strike="noStrike">
                <a:solidFill>
                  <a:srgbClr val="da1f28"/>
                </a:solidFill>
                <a:latin typeface="Franklin Gothic Medium"/>
              </a:rPr>
              <a:t>сравнивали на Руси с нежной и красивой девушкой.</a:t>
            </a:r>
            <a:r>
              <a:rPr b="0" lang="ru-RU" sz="2900" spc="-1" strike="noStrike">
                <a:solidFill>
                  <a:srgbClr val="464646"/>
                </a:solidFill>
                <a:latin typeface="Franklin Gothic Medium"/>
              </a:rPr>
              <a:t> </a:t>
            </a:r>
            <a:endParaRPr b="0" lang="en-US" sz="29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08" name="Picture 8" descr="Снегурочка и Лель."/>
          <p:cNvPicPr/>
          <p:nvPr/>
        </p:nvPicPr>
        <p:blipFill>
          <a:blip r:embed="rId1"/>
          <a:stretch/>
        </p:blipFill>
        <p:spPr>
          <a:xfrm>
            <a:off x="611280" y="1052640"/>
            <a:ext cx="4465440" cy="5805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"/>
          <p:cNvPicPr/>
          <p:nvPr/>
        </p:nvPicPr>
        <p:blipFill>
          <a:blip r:embed="rId2"/>
          <a:srcRect l="0" t="0" r="39005" b="0"/>
          <a:stretch/>
        </p:blipFill>
        <p:spPr>
          <a:xfrm>
            <a:off x="-324000" y="0"/>
            <a:ext cx="10432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5076720" y="2044800"/>
            <a:ext cx="431964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быча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лучаю рождения ребенка сажали у дома молодую березку. Это сделает дитя счастливым, а семью, оградит от напа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омощью ветвей березы девушки гадали на суже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Рисунок 4" descr="солнце в небе голубом.jpg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1413000"/>
          </a:xfrm>
          <a:prstGeom prst="rect">
            <a:avLst/>
          </a:prstGeom>
          <a:ln w="0">
            <a:noFill/>
          </a:ln>
        </p:spPr>
      </p:pic>
      <p:sp>
        <p:nvSpPr>
          <p:cNvPr id="412" name="TextBox 7"/>
          <p:cNvSpPr/>
          <p:nvPr/>
        </p:nvSpPr>
        <p:spPr>
          <a:xfrm>
            <a:off x="2520" y="164304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12" descr="Картинка 274 из 61134"/>
          <p:cNvPicPr/>
          <p:nvPr/>
        </p:nvPicPr>
        <p:blipFill>
          <a:blip r:embed="rId2"/>
          <a:stretch/>
        </p:blipFill>
        <p:spPr>
          <a:xfrm>
            <a:off x="5364000" y="1413000"/>
            <a:ext cx="3780000" cy="5445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"/>
          <p:cNvPicPr/>
          <p:nvPr/>
        </p:nvPicPr>
        <p:blipFill>
          <a:blip r:embed="rId3"/>
          <a:srcRect l="0" t="0" r="39005" b="0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9"/>
          <p:cNvSpPr/>
          <p:nvPr/>
        </p:nvSpPr>
        <p:spPr>
          <a:xfrm>
            <a:off x="826920" y="2110680"/>
            <a:ext cx="446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Легенда о превращен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 березку…</a:t>
            </a:r>
            <a:r>
              <a:rPr b="1" lang="ru-RU" sz="4000" spc="-1" strike="noStrike" u="sng">
                <a:solidFill>
                  <a:srgbClr val="ff811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Прямоугольник 7"/>
          <p:cNvSpPr/>
          <p:nvPr/>
        </p:nvSpPr>
        <p:spPr>
          <a:xfrm>
            <a:off x="928800" y="1429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rcRect l="0" t="0" r="39005" b="0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WordArt 8"/>
          <p:cNvSpPr txBox="1"/>
          <p:nvPr/>
        </p:nvSpPr>
        <p:spPr>
          <a:xfrm>
            <a:off x="2050920" y="0"/>
            <a:ext cx="612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Чем удивитель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ша родная берёзка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1258920" y="1844640"/>
            <a:ext cx="381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В народе ее нарекли деревом четырех д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мир освещ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-чистоту соблюд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крик утишать;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da1f28"/>
                </a:solidFill>
                <a:latin typeface="Arial"/>
              </a:rPr>
              <a:t>больных исцелять.</a:t>
            </a:r>
            <a:r>
              <a:rPr b="0" lang="ru-RU" sz="2400" spc="-1" strike="noStrike">
                <a:solidFill>
                  <a:srgbClr val="da1f2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9" descr=""/>
          <p:cNvPicPr/>
          <p:nvPr/>
        </p:nvPicPr>
        <p:blipFill>
          <a:blip r:embed="rId3"/>
          <a:stretch/>
        </p:blipFill>
        <p:spPr>
          <a:xfrm>
            <a:off x="5143680" y="1000080"/>
            <a:ext cx="379728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32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Franklin Gothic Medium"/>
              </a:rPr>
              <a:t>Береза - излюбленная тема русских народных сказок, песен. А сколько загадок, пословиц, поговорок сложено  о ней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1052640"/>
            <a:ext cx="1116000" cy="5805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2" descr="Картинка 213 из 69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1125360"/>
            <a:ext cx="4067280" cy="2664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Картинка 223 из 691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962520"/>
            <a:ext cx="4067280" cy="2895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6" descr="Картинка 236 из 691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116000" y="3573360"/>
            <a:ext cx="3792600" cy="3284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8" descr="i?id=86379295-21-72"/>
          <p:cNvPicPr/>
          <p:nvPr/>
        </p:nvPicPr>
        <p:blipFill>
          <a:blip r:embed="rId8"/>
          <a:stretch/>
        </p:blipFill>
        <p:spPr>
          <a:xfrm>
            <a:off x="1843200" y="1052640"/>
            <a:ext cx="2297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a1f28"/>
                </a:solidFill>
                <a:latin typeface="Franklin Gothic Medium"/>
              </a:rPr>
              <a:t>Творческая мастерская</a:t>
            </a:r>
            <a:endParaRPr b="0" lang="en-US" sz="44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"/>
          <p:cNvPicPr/>
          <p:nvPr/>
        </p:nvPicPr>
        <p:blipFill>
          <a:blip r:embed="rId2"/>
          <a:stretch/>
        </p:blipFill>
        <p:spPr>
          <a:xfrm>
            <a:off x="785880" y="1071720"/>
            <a:ext cx="2641680" cy="41432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"/>
          <p:cNvPicPr/>
          <p:nvPr/>
        </p:nvPicPr>
        <p:blipFill>
          <a:blip r:embed="rId3"/>
          <a:stretch/>
        </p:blipFill>
        <p:spPr>
          <a:xfrm>
            <a:off x="3571920" y="1071720"/>
            <a:ext cx="2643120" cy="41432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" descr=""/>
          <p:cNvPicPr/>
          <p:nvPr/>
        </p:nvPicPr>
        <p:blipFill>
          <a:blip r:embed="rId4"/>
          <a:stretch/>
        </p:blipFill>
        <p:spPr>
          <a:xfrm>
            <a:off x="6286680" y="1038240"/>
            <a:ext cx="27144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"/>
          <p:cNvPicPr/>
          <p:nvPr/>
        </p:nvPicPr>
        <p:blipFill>
          <a:blip r:embed="rId1"/>
          <a:srcRect l="0" t="0" r="39005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7" descr=""/>
          <p:cNvPicPr/>
          <p:nvPr/>
        </p:nvPicPr>
        <p:blipFill>
          <a:blip r:embed="rId2"/>
          <a:stretch/>
        </p:blipFill>
        <p:spPr>
          <a:xfrm>
            <a:off x="6143760" y="1071720"/>
            <a:ext cx="2744640" cy="422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1071720" y="3429000"/>
            <a:ext cx="5046480" cy="3286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" descr=""/>
          <p:cNvPicPr/>
          <p:nvPr/>
        </p:nvPicPr>
        <p:blipFill>
          <a:blip r:embed="rId4"/>
          <a:stretch/>
        </p:blipFill>
        <p:spPr>
          <a:xfrm>
            <a:off x="1127160" y="33480"/>
            <a:ext cx="487368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439" name="Содержимое 9" descr="1540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5"/>
          <p:cNvSpPr/>
          <p:nvPr/>
        </p:nvSpPr>
        <p:spPr>
          <a:xfrm>
            <a:off x="755640" y="269712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826920" y="4076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Где бы ни росла русская берёзка, везде она людям радость, везде она людям свет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Стоит она, красавица русского ле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f5fa"/>
                </a:solidFill>
                <a:latin typeface="Arial"/>
              </a:rPr>
              <a:t>А вместе с нею стоит наша Росс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3:22Z</dcterms:created>
  <dc:creator>Admin</dc:creator>
  <dc:description/>
  <dc:language>en-US</dc:language>
  <cp:lastModifiedBy>Admin</cp:lastModifiedBy>
  <dcterms:modified xsi:type="dcterms:W3CDTF">2012-06-21T15:32:54Z</dcterms:modified>
  <cp:revision>61</cp:revision>
  <dc:subject/>
  <dc:title>Слайд 1</dc:title>
</cp:coreProperties>
</file>