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F7C-AC3B-4332-8498-50D8A8DB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F5D-B286-46CC-939A-4EF4F92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40C47-8D80-4F67-A62C-83840CB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CB4F9-A8B4-4287-8EE2-1D78D692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19CB9-4206-427D-8904-A631A4A7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97AC2-063A-4B77-9D61-DD706E3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42D4F-CC44-4FAD-8224-8B70ECB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BAFBD-EE08-45E2-9430-F264F6B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49FB-B396-425B-B329-69F42599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8B32F-068F-411A-B2B1-A7CDB0C3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C18DA-8D7B-4FF5-92AC-58C990B8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F2C-ACB4-4B63-88EC-389AD59A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08E-1BD5-4E0F-8B3F-A3984371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15EC-4201-445F-84AC-23DEE7AE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DFAC-4CAA-4C83-A45E-07D46EB2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B3C7-37B1-4559-AB3C-8FD6E00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F172-5B81-4895-A59E-A28664A4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E9AB-0CF2-4E2D-8657-AEE000D1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83BE-B2A0-4783-8C8F-FCBB1B6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CC7B-AF35-4A59-9B34-E9339A3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48E-AA43-433E-AD48-282428F5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079B-4C4F-4FCC-910B-6618145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0C22-BA2F-46DD-BB6A-F41C9FE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1D1-2E6B-443F-AF2B-2698A01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B825-8026-409C-A066-43563554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9C44-7886-4D80-B160-837C51C3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C6D2-2129-4003-B080-F72B0D97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5B0C-6628-40D2-A60E-530AFE35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38F8-EDE6-47E4-8AC4-33CFE993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4AEF-B675-4872-9FCC-B09656B4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C4D1-2C67-4EFC-A6E9-6114780A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E6A-E291-4681-A68B-32A357F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62D6-A4C2-48C6-A5A8-BD46704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0E9D-8A53-4C4E-B8F1-AC6F77EA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1D72-CFAB-4670-93EB-5BC2DC7F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ADEE-697B-4B00-9836-70E7E97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A819-34F0-4F02-B8D6-6D82C5DC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6185-1EC9-4CE6-BD7C-98978D10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4E88-1A12-4B87-BCF1-2B3B1809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BB29-7298-4A3D-99F4-F7695A08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632D-8783-41C0-9D68-4C8C4DF9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52F4-2160-4735-A5E6-1423AB69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FEC-44A4-4077-9CC5-BBEBC0EB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46C5-1FF8-4400-B691-6D4886BB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03D2-4CEA-4E90-85AE-070F58BA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45AD-FBB4-4366-9BB8-D00FC2B0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C0E0-953E-4937-A078-5ADD4ED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924E-72D9-4F0B-997C-85C3CE1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BC46-F51E-40CB-A573-997C1D1E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B002E-32BD-4F74-8F6E-50FCDEA8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C4DE-04BB-48CC-AD3E-489AECBF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1E644-1166-43FF-ABC3-F5D2D72B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37F97-0504-4861-BD7C-639334D9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436-20DA-4C8F-8269-552F96B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D3F5-7FAB-4081-A61A-53BDDC43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77EA-5B9B-464B-98BB-B7DE5E4A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6FED-4398-477F-861F-23716056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FBAC-D8C9-4904-8053-4B22041F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AC64-858B-4817-95BC-9E0BDA51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82C5-D7BA-4598-A128-72F5709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FD23-A5AB-41C0-92EE-B6A1EBB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0341-5CDB-4942-80C4-CC513BC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CE46-0F99-4BE0-BDA1-E6DABDE7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B7DD-B27E-4173-99B1-594E7A3E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4F3-1F72-4DC0-AAA8-FF0E8AB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54C9-88B5-4C51-8F64-DF7C36BC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8C35D-91CB-4D10-8CEA-77AE3ABC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5987B-C285-4E9D-99DE-E8B8067D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C0402-C03A-4AA2-B975-2C4AF34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B6515-57E9-46AD-8B93-DA7DD76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3079-32A4-4BD0-8E05-D63ED6CA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E7C3-BAF5-43C6-B16D-B4B6E083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26B55-AD41-4E15-9160-C678931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8518-12BB-42B0-B921-58E43CC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63DE3-DFFF-44A9-BFA2-555A0AC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B25-01FC-4218-9213-B04FFB0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6A5A4-3629-4404-A50F-397A5AC6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B121A-BD62-4BF5-AD16-EBE5D346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132C4-98CF-4DFC-90FA-CE989569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FF64D-70BC-4D29-AC83-E2A5016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C671-CA2D-4A8A-8D3D-45CEED14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19BE-9AF5-4195-9981-3103CD32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546CE-4D7B-4446-B58A-0383553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64B48-180C-4E28-8E0A-4777FEEC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388E6-47AD-4138-8A13-E96C138F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11EB-A933-4887-8DFF-1235406C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CFE-3B39-440F-BBC4-0F66694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239DB-5E15-4A5C-AC95-CAC395D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86E7C-3EDA-4A0C-8864-9C561AB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5926A-C187-4382-B691-221B4C91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8E78-2805-409F-B208-537D1450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74EC6-F2D8-4514-B4BC-A199B40E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DF6F5-3464-4F99-8C9F-86AF63D8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B36A-9A88-48E9-996C-0B1D399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93EE8-7A6E-4377-8FB1-CCB0751D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C037-080D-4C39-84BF-66CB3F5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A2C28-32D2-403B-B79B-CEB023C6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20E-3848-4A13-8F4B-2B2FC18D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AF04F-9775-40C6-8619-9C4462D9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AE5A6-46D4-4A59-9C9E-DE92C68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3A90-3080-41D9-A914-4A40084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E081E-C31C-4582-BD70-CFBC3699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B806-BB06-4C26-9A14-A1F9F0F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74B2E-9B00-4C84-B4A9-681981DB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13069-68E4-4281-81F6-2A194ADE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4C1D6-45DA-4E95-AE7D-5C3E74F1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90342-1329-4786-B5E7-6DE743B6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14075-57EA-4447-A89D-3B5F369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D1BD-7088-4A7B-8ACB-68DFD1B77AE1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EFF-D7E0-4FA2-BBE8-58CBA20D53F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8A04-BF93-4C5B-93E0-3807D20725B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1234-E210-4FED-9907-184FBE92ECB1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B801-57E7-4238-A37C-4050F4D5B57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6E7D-5790-4318-A9CB-3DF73C14780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F3B6-5F5F-4084-BBAE-7D0A09467F2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907-EDDF-49A5-9A1F-79367AE75A8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2062-7590-4BB0-87C4-6974997DE28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eremok.in/narodn_skazki/russkie_skazki/images/serebr_blujdse14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babylib.ru/wp-content/uploads/bereza-i-tri-sokola.jpg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s005.radikal.ru/i211/1001/87/84bf4761360d.jpg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1763640" y="-326880"/>
            <a:ext cx="6769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БОУ детский сад с этнокультурным(русски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мпонентом образования №17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9"/>
          <p:cNvSpPr/>
          <p:nvPr/>
        </p:nvSpPr>
        <p:spPr>
          <a:xfrm>
            <a:off x="5072040" y="944640"/>
            <a:ext cx="39290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Шаволина Полина</a:t>
            </a:r>
            <a:r>
              <a:rPr b="1" lang="ru-RU" sz="2800" spc="-1" strike="noStrike">
                <a:solidFill>
                  <a:srgbClr val="da1f28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a1f28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da1f28"/>
                </a:solidFill>
                <a:latin typeface="Arial"/>
              </a:rPr>
              <a:t>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р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проекта: Лосик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 flipH="1">
            <a:off x="758880" y="928800"/>
            <a:ext cx="81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«Слезки берез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2"/>
          <a:stretch/>
        </p:blipFill>
        <p:spPr>
          <a:xfrm>
            <a:off x="1071720" y="1488960"/>
            <a:ext cx="37972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900" spc="-1" strike="noStrike">
                <a:solidFill>
                  <a:srgbClr val="006600"/>
                </a:solidFill>
                <a:latin typeface="Franklin Gothic Medium"/>
              </a:rPr>
              <a:t>Благодарю за внимание!</a:t>
            </a:r>
            <a:endParaRPr b="0" lang="en-US" sz="49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-252360" y="0"/>
            <a:ext cx="111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4"/>
          <p:cNvSpPr/>
          <p:nvPr/>
        </p:nvSpPr>
        <p:spPr>
          <a:xfrm>
            <a:off x="4857840" y="214308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й, где мы с тобой раст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 берёзки, вдоль кото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ядом с мамой мы ид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22320"/>
            <a:ext cx="9828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Березу считают  символом России  нашей Родины. Россия и берез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Эти два понятия неразделимы. С чего начинается Род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Наверное, с белых берез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43578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5327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a1f28"/>
                </a:solidFill>
                <a:latin typeface="Franklin Gothic Medium"/>
              </a:rPr>
              <a:t>Стройную, кудрявую, белоствольную, ее всегда </a:t>
            </a:r>
            <a:br>
              <a:rPr sz="2500"/>
            </a:br>
            <a:r>
              <a:rPr b="1" lang="ru-RU" sz="2500" spc="-1" strike="noStrike">
                <a:solidFill>
                  <a:srgbClr val="da1f28"/>
                </a:solidFill>
                <a:latin typeface="Franklin Gothic Medium"/>
              </a:rPr>
              <a:t>сравнивали на Руси с нежной и красивой девушкой.</a:t>
            </a:r>
            <a:r>
              <a:rPr b="0" lang="ru-RU" sz="2900" spc="-1" strike="noStrike">
                <a:solidFill>
                  <a:srgbClr val="464646"/>
                </a:solidFill>
                <a:latin typeface="Franklin Gothic Medium"/>
              </a:rPr>
              <a:t> </a:t>
            </a:r>
            <a:endParaRPr b="0" lang="en-US" sz="29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08" name="Picture 8" descr="Снегурочка и Лель."/>
          <p:cNvPicPr/>
          <p:nvPr/>
        </p:nvPicPr>
        <p:blipFill>
          <a:blip r:embed="rId1"/>
          <a:stretch/>
        </p:blipFill>
        <p:spPr>
          <a:xfrm>
            <a:off x="611280" y="1052640"/>
            <a:ext cx="4465440" cy="5805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2"/>
          <a:srcRect l="0" t="0" r="39005" b="0"/>
          <a:stretch/>
        </p:blipFill>
        <p:spPr>
          <a:xfrm>
            <a:off x="-324000" y="0"/>
            <a:ext cx="10432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5076720" y="2044800"/>
            <a:ext cx="431964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быча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лучаю рождения ребенка сажали у дома молодую березку. Это сделает дитя счастливым, а семью, оградит от напас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омощью ветвей березы девушки гадали на суже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солнце в небе голубом.jpg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1413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7"/>
          <p:cNvSpPr/>
          <p:nvPr/>
        </p:nvSpPr>
        <p:spPr>
          <a:xfrm>
            <a:off x="2520" y="164304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2" descr="Картинка 274 из 61134"/>
          <p:cNvPicPr/>
          <p:nvPr/>
        </p:nvPicPr>
        <p:blipFill>
          <a:blip r:embed="rId2"/>
          <a:stretch/>
        </p:blipFill>
        <p:spPr>
          <a:xfrm>
            <a:off x="5364000" y="1413000"/>
            <a:ext cx="3780000" cy="5445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3"/>
          <a:srcRect l="0" t="0" r="39005" b="0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9"/>
          <p:cNvSpPr/>
          <p:nvPr/>
        </p:nvSpPr>
        <p:spPr>
          <a:xfrm>
            <a:off x="826920" y="2110680"/>
            <a:ext cx="44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Легенда о превращен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 березку…</a:t>
            </a:r>
            <a:r>
              <a:rPr b="1" lang="ru-RU" sz="4000" spc="-1" strike="noStrike" u="sng">
                <a:solidFill>
                  <a:srgbClr val="ff8119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7"/>
          <p:cNvSpPr/>
          <p:nvPr/>
        </p:nvSpPr>
        <p:spPr>
          <a:xfrm>
            <a:off x="928800" y="142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rcRect l="0" t="0" r="39005" b="0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WordArt 8"/>
          <p:cNvSpPr txBox="1"/>
          <p:nvPr/>
        </p:nvSpPr>
        <p:spPr>
          <a:xfrm>
            <a:off x="2050920" y="0"/>
            <a:ext cx="6121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Чем удивительн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ша родная берёзк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1258920" y="1844640"/>
            <a:ext cx="381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В народе ее нарекли деревом четырех д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мир освещать;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-чистоту соблюдать;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крик утишать;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больных исцелять.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9" descr=""/>
          <p:cNvPicPr/>
          <p:nvPr/>
        </p:nvPicPr>
        <p:blipFill>
          <a:blip r:embed="rId3"/>
          <a:stretch/>
        </p:blipFill>
        <p:spPr>
          <a:xfrm>
            <a:off x="5143680" y="1000080"/>
            <a:ext cx="37972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32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Franklin Gothic Medium"/>
              </a:rPr>
              <a:t>Береза - излюбленная тема русских народных сказок, песен. А сколько загадок, пословиц, поговорок сложено  о ней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1052640"/>
            <a:ext cx="1116000" cy="5805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Картинка 213 из 69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1125360"/>
            <a:ext cx="4067280" cy="2664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Картинка 223 из 69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962520"/>
            <a:ext cx="4067280" cy="2895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6" descr="Картинка 236 из 691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16000" y="3573360"/>
            <a:ext cx="3792600" cy="3284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8" descr="i?id=86379295-21-72"/>
          <p:cNvPicPr/>
          <p:nvPr/>
        </p:nvPicPr>
        <p:blipFill>
          <a:blip r:embed="rId8"/>
          <a:stretch/>
        </p:blipFill>
        <p:spPr>
          <a:xfrm>
            <a:off x="1843200" y="1052640"/>
            <a:ext cx="2297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a1f28"/>
                </a:solidFill>
                <a:latin typeface="Franklin Gothic Medium"/>
              </a:rPr>
              <a:t>Творческая мастерская</a:t>
            </a:r>
            <a:endParaRPr b="0" lang="en-US" sz="44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"/>
          <p:cNvPicPr/>
          <p:nvPr/>
        </p:nvPicPr>
        <p:blipFill>
          <a:blip r:embed="rId2"/>
          <a:stretch/>
        </p:blipFill>
        <p:spPr>
          <a:xfrm>
            <a:off x="785880" y="1071720"/>
            <a:ext cx="2641680" cy="41432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"/>
          <p:cNvPicPr/>
          <p:nvPr/>
        </p:nvPicPr>
        <p:blipFill>
          <a:blip r:embed="rId3"/>
          <a:stretch/>
        </p:blipFill>
        <p:spPr>
          <a:xfrm>
            <a:off x="3571920" y="1071720"/>
            <a:ext cx="2643120" cy="4143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" descr=""/>
          <p:cNvPicPr/>
          <p:nvPr/>
        </p:nvPicPr>
        <p:blipFill>
          <a:blip r:embed="rId4"/>
          <a:stretch/>
        </p:blipFill>
        <p:spPr>
          <a:xfrm>
            <a:off x="6286680" y="1038240"/>
            <a:ext cx="27144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2"/>
          <a:stretch/>
        </p:blipFill>
        <p:spPr>
          <a:xfrm>
            <a:off x="6143760" y="1071720"/>
            <a:ext cx="2744640" cy="422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3"/>
          <a:stretch/>
        </p:blipFill>
        <p:spPr>
          <a:xfrm>
            <a:off x="1071720" y="3429000"/>
            <a:ext cx="5046480" cy="3286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4"/>
          <a:stretch/>
        </p:blipFill>
        <p:spPr>
          <a:xfrm>
            <a:off x="1127160" y="33480"/>
            <a:ext cx="487368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39" name="Содержимое 9" descr="1540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5"/>
          <p:cNvSpPr/>
          <p:nvPr/>
        </p:nvSpPr>
        <p:spPr>
          <a:xfrm>
            <a:off x="755640" y="269712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826920" y="4076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5fa"/>
                </a:solidFill>
                <a:latin typeface="Arial"/>
              </a:rPr>
              <a:t>Где бы ни росла русская берёзка, везде она людям радость, везде она людям св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5fa"/>
                </a:solidFill>
                <a:latin typeface="Arial"/>
              </a:rPr>
              <a:t>Стоит она, красавица русского ле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5fa"/>
                </a:solidFill>
                <a:latin typeface="Arial"/>
              </a:rPr>
              <a:t>А вместе с нею стоит наша Росс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2:13:22Z</dcterms:created>
  <dc:creator>Admin</dc:creator>
  <dc:description/>
  <dc:language>en-US</dc:language>
  <cp:lastModifiedBy>Admin</cp:lastModifiedBy>
  <dcterms:modified xsi:type="dcterms:W3CDTF">2012-06-21T15:32:54Z</dcterms:modified>
  <cp:revision>61</cp:revision>
  <dc:subject/>
  <dc:title>Слайд 1</dc:title>
</cp:coreProperties>
</file>