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EE9-6970-460F-AD79-4015540F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F82-86D2-4D16-A0D6-025719E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242-13E0-4A9B-BE3D-C4F7992C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B18-5BA8-477F-A32E-1E0FEA11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A649-28AB-4FD0-87A2-C16C0CD3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15CB-6690-47F8-8929-BF93A0E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D7E-A58E-4C2B-8CE0-BF5B9EA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33D5-F979-46B0-BC49-371FD3E8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053-560D-4DA5-BF7C-24C122E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DE2-E766-4E4C-AEBF-91FF645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787-AE0D-43A8-8469-4DE9D7F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5F8-04BC-443A-897B-5A6D1BB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B090-D09E-47F3-92C9-DFE478E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FB0-AE66-48CA-81C9-A97B9F7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8E42-CB88-4509-9D1F-B3930F1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025-C272-462C-9CDC-638F5671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0EB-AC64-411A-816A-6AE5A5B6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AF34-32C3-4012-BB2B-DF3F66E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5050-9290-462C-B40D-E069F911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ECA4-7C91-4C77-8A57-2308098A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ECA12-D9CD-45BE-BF53-001540E9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FBC4-4578-46AD-AA6F-1B44324F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7F4-990D-48AF-9CE6-E886A9B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5A44-0D37-47F7-83DA-FB0E0227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47CB-01BC-4520-904E-2512C6C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56ED-8826-4C82-AF5D-A49B14A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CFE0-7B04-4813-9EF8-EC79C67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6049-EAF2-4F6F-9F29-6F79B93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A8D0-9373-4B5F-B98B-C67299DD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D973-6581-4268-B903-A2F5189F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A5E2E-D08E-4A03-BA9A-1D9ECF40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F573D-C9EF-4ABB-8641-70854C9B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953CE-1A28-4E7D-8A59-46C4D71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29B-21CA-4148-BC36-F53135AD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77A8B-D242-47DB-A561-0974FE82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E9A94-B0DC-4CEC-9EC4-335F9D1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B55E6-CCE5-4F06-8909-F29C870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4ABD4-499D-438C-AF02-AC285AE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A198D-F3C6-49F2-8C79-236A349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C76D2-7CF2-4EB0-8402-90B3DA26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22E1F-AB60-4D9C-A50D-C17CD285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027BE-6208-4483-9134-EF7BBE03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11BF3-39FE-4FBF-BDC9-FAFFC68D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249AE-CE2B-40C9-8EC6-06378A22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EBF-B807-4605-9BB8-1F47B835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FF8A-B779-4874-9DBA-E64FAF43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8092-31B8-43A0-801F-867EDEE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31EF-EB5A-41D0-83CA-2EBDDA3E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6A1F-C5CF-4077-B75D-92DE868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59B7-0060-4049-8796-10E9690A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8D08-A727-48E6-97CE-4E6B2CA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6CD5-788C-499E-8F9C-A24D9B6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3AFB-5288-424A-9D05-DB41E21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F0F0-90DD-42B8-A4B6-5E272EFB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6421-F650-437F-ACC0-36798583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FE8-464A-4248-B8DB-EC1C0271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1377-AF90-46F4-AD82-23D521A7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82DE-9983-493F-AA5D-785C74F9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4C76-973F-4FD0-8CA4-3FA1D6D0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F07C-559A-486E-BD77-5A13822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6CBE-BD5B-4A3E-B73E-184C3F3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66AF-6FAA-4DE0-A1EC-3A1CC9BB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CB7D-8A2E-467F-8313-3865ADC8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1CD6A-EFE4-443F-B1E4-063067F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B8CBD-C207-403A-AE98-B42FAD0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C37A-DFA9-4498-8DC1-C2A8723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356-86A6-4253-8BD9-9B537CB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46B0D-1730-4F51-90E0-9D90273E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9BBB-3703-4027-A1DE-3EB62362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33C4-9305-451F-B094-C770CBAE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F63-90DB-49B8-9FDA-61CB6C2B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4E8-5998-48E3-9F17-79D10FC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DDD3-EC13-4286-AEEA-1E26F42F0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71C7-37CB-429F-930C-69A14B6A0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081-CD94-4B16-B5AC-ADBCAC316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6D3-F92D-4AAB-8B50-14E61B6C1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8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1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C5D5-552D-4E18-9E71-84099345C8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5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60E-CAC8-4F85-970D-388250049D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 rot="21432600">
            <a:off x="1116000" y="1267920"/>
            <a:ext cx="7272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Реки, ре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и моря по зем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текут не зр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дятла называют лесным лекар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27880" y="2781360"/>
            <a:ext cx="474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За один день уничтож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до 100 тысяч корое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-362880" y="476280"/>
            <a:ext cx="9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Что за трава, которую и слепые зн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10560" y="299736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рапи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3808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у сосны нижние ветки отмирают, а у ели н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16840" y="328464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осна - светолюбивое раст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55640" y="981000"/>
            <a:ext cx="7704000" cy="28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Impact"/>
              </a:rPr>
              <a:t>Какое небо голуб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49680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Этот газ занимает одну пятую часть объёма воздуха, необходимого для дыхания живых сущ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61160" y="364500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исло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333360"/>
            <a:ext cx="815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в тесном закрытом помещении, где скопилось много людей, через некоторое время становиться трудно дыш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21200" y="357336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Уменьшается количество кисл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436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Где легче дышится: в город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или в лесу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5640" y="314172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лесу, так как рас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ыделят кисл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2919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в помещении теплее наверху, чем вниз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5280" y="328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Тёплый воздух легче холодног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он поднимается нав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4348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ласточки пере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дождём летают низк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32464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Холодный воздух прибивает насекомых, которыми они кормятся, к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4348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МБОУ «СОШ № 7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. Чистополь Р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Создала презентац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Чикоткова И.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476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Сколько на нашей планете океанов и как они называются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05920" y="2762280"/>
            <a:ext cx="460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На Земле четыре оке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Тих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Атлан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ндий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Северный Ледови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4017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ое море является самым солёным на нашей плане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36280" y="3573360"/>
            <a:ext cx="28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Мёртвое 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83664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 называются начало и конец ре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85960" y="364500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сток и уст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В роднике вода – всегд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А откуда в нём о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95720" y="357336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Родник питают подземны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60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ое казахское озеро, единственное в мире, является наполовину пресным, наполовину солёны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74360" y="393372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Балха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1280" y="1052640"/>
            <a:ext cx="72738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Про зелё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и лесные чуд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5000" y="474840"/>
            <a:ext cx="90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 отличить дерево от кустарн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3640" y="292428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У дерева один ство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у  кустарника -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8280" y="549360"/>
            <a:ext cx="88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сломанная ветка засыха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36520" y="3068640"/>
            <a:ext cx="47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рекращается её пит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0:06:32Z</dcterms:created>
  <dc:creator>Elena</dc:creator>
  <dc:description/>
  <dc:language>en-US</dc:language>
  <cp:lastModifiedBy>Admin</cp:lastModifiedBy>
  <dcterms:modified xsi:type="dcterms:W3CDTF">2012-05-13T19:04:36Z</dcterms:modified>
  <cp:revision>4</cp:revision>
  <dc:subject/>
  <dc:title> </dc:title>
</cp:coreProperties>
</file>