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1FA-4B9B-46D8-A78C-32CEC8B0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C4DB-BC2C-4185-B502-AD654558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9C4-BB1F-4859-9371-0BAEEFE1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82F7-48AD-42DF-BFD7-58FFED65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07D0-BEAB-4BE3-9CF2-45C0DE3B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63AC-C2F1-46CD-8B97-0BB5CA77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7912-3DE4-43A9-868A-00E87110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0F3B-C4B5-4256-BDB3-02229719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4007-D080-454D-A6A4-B37DD3F6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81FF-FA6A-4578-B558-89860FB9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E5E4-8171-4CC4-A0F8-B85F93C5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6B5-4295-4D8D-B96C-4DDF8075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5A7E-670D-482C-96FA-2CB52BB0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808C-ECFA-4554-8AA1-1C7C9DB4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B77-AB98-423A-A6E7-706755D5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7335-1CE3-4737-A7C7-4C99F9B0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7D7-5CF0-4A69-81EC-C86F68C5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BAA1-8E25-4A4C-ABFC-A018F91E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88B4-D751-4302-9CF1-DD1FD7FA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3CBD-6E4D-4DB4-BDD0-1ADE763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A174-CFD7-437C-98B5-3605C046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E59F-7FCA-4602-A625-DB27F1B6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28F-5A9A-45CC-B2F3-4945C10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14DE-5BF5-4FAF-8D05-C9009E6B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D3D2-390D-41B6-8EA0-A321973F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3113-A03F-4DEB-BBC2-519B61A9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78F47-A657-413B-B6BF-D749F97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2EE2-D46B-4BA7-9A2B-B5AD5F99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E05F-65EA-42CA-B02F-164CB5A9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8D63-9C88-4AA4-8190-9CFBA984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A31AB-B3F1-49D3-B7E3-380D68D4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2BEAB-FF28-4E4D-ABDD-81B99F28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50F4F-07E0-4C6A-B10C-ECA2BE3C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69D-8C25-4EC4-949B-3F1492C7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6108E-AC38-4222-8B6D-7E72FD25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2B291-DBE2-4E4D-996F-15D748D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97F23-C08C-4E1D-905A-12DFFA77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C368F-5234-409C-9E37-C78BA79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226B9-FBDE-4FFB-9EE5-429E625C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DC3C7B-6B0A-4981-BB4A-EE996CD5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C145B-38C4-4CF6-B61D-A2334FFB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BB45C-5C14-4490-B1D1-528567CF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CCBAF-3B08-439A-83B9-4C67FE20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8C627-E75D-4A75-A934-50A7A6D7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F475-53F1-4992-9CA5-5AE1FE7F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08D7E-181D-4499-9D02-9E08FBF7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D115C-C107-4B4F-93EB-196FFB36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93008-08A2-4451-9BD4-EC5DD433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EDD83-144B-4225-AF2B-AA8B4354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BF56-B2B5-4B56-B907-C0FD639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A7BFA-A7A1-4C24-8463-FE34CFBF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370C-C82C-4F2F-A54C-645E7BDA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7A37B-284A-48CB-8789-46E08C5F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42668-7544-4C61-A99D-26E669F3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77144-717F-48D2-9866-439F4AA3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29B-04FA-4965-BB2A-B5651387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9D72-1894-4DA0-A223-81697E50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807F-F3A7-4AAD-B013-D819BF16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6B616-A48A-4E08-8DAA-0742F53D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51CA-588D-4CFA-B374-0C20F27A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7DC8D-D3A4-4065-A7C6-8A5AF31F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3BDB-CB1F-44AC-976E-06E1B300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EE4E3-FEF6-4756-9B65-5342AD1B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5831A-B7DA-4767-94DE-CDBE48BB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CF69-1D05-4886-9884-4007F49B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5A753-31A7-42AA-BA65-A970DAB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91E-58D4-4888-9094-F7F398D0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B119F-DCE6-454C-B640-861FF50F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C8EFF-3BD0-4C8F-AAF3-E16455A0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F843-57E8-4E25-8810-E51413EB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A93-4D24-4423-A56A-ECAA065A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C6B-380C-4597-9515-22A09CA0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0DD-FBFF-40BD-B3A8-F0390C824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4049-97DE-45F6-A7EF-E0D85DB9A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0B6-24CC-4D4D-9C67-2634ED08C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45A6-00EF-4D7D-ACB5-518EBDD14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8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8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1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0685-194D-4BF3-B5F8-0F3C7454D4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5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6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8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B37C-DA95-45E3-9744-15A4C3AA6AC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 rot="21432600">
            <a:off x="1116000" y="1267920"/>
            <a:ext cx="7272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Реки, реч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и моря по зем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текут не зр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260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дятла называют лесным лекаре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27880" y="2781360"/>
            <a:ext cx="474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За один день уничтож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до 100 тысяч корое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-362880" y="476280"/>
            <a:ext cx="96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Что за трава, которую и слепые зн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310560" y="2997360"/>
            <a:ext cx="19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Крапи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3808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у сосны нижние ветки отмирают, а у ели не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16840" y="328464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Сосна - светолюбивое раст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55640" y="981000"/>
            <a:ext cx="7704000" cy="28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Impact"/>
              </a:rPr>
              <a:t>Какое небо голуб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" y="49680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Этот газ занимает одну пятую часть объёма воздуха, необходимого для дыхания живых сущ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61160" y="364500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Кислор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539640" y="333360"/>
            <a:ext cx="815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в тесном закрытом помещении, где скопилось много людей, через некоторое время становиться трудно дыш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21200" y="357336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Уменьшается количество кисл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436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Где легче дышится: в город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или в лесу?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5640" y="314172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 лесу, так как рас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выделят кисл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2919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в помещении теплее наверху, чем вниз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5280" y="328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Тёплый воздух легче холодног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он поднимается нав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4348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ласточки перед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дождём летают низко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324648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Холодный воздух прибивает насекомых, которыми они кормятся, к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43488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МБОУ «СОШ № 7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г. Чистополь Р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Создала презентац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учитель начальных клас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Book Antiqua"/>
              </a:rPr>
              <a:t>Чикоткова И.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476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Сколько на нашей планете океанов и как они называются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05920" y="2762280"/>
            <a:ext cx="460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На Земле четыре оке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Тих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Атлан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ндий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Северный Ледовит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40176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ое море является самым солёным на нашей планет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36280" y="3573360"/>
            <a:ext cx="28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Мёртвое 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395280" y="836640"/>
            <a:ext cx="82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 называются начало и конец ре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85960" y="3645000"/>
            <a:ext cx="25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Исток и уст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В роднике вода – всегд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А откуда в нём он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95720" y="357336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Родник питают подземные в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2602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ое казахское озеро, единственное в мире, является наполовину пресным, наполовину солёны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74360" y="393372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Балха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1280" y="1052640"/>
            <a:ext cx="72738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Про зелёные л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и лесные чуде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5000" y="474840"/>
            <a:ext cx="90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Как отличить дерево от кустарни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63640" y="292428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У дерева один ство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у  кустарника - м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8280" y="549360"/>
            <a:ext cx="88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Почему сломанная ветка засыхае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036520" y="3068640"/>
            <a:ext cx="47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Прекращается её пит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0:06:32Z</dcterms:created>
  <dc:creator>Elena</dc:creator>
  <dc:description/>
  <dc:language>en-US</dc:language>
  <cp:lastModifiedBy>Admin</cp:lastModifiedBy>
  <dcterms:modified xsi:type="dcterms:W3CDTF">2012-05-13T19:04:36Z</dcterms:modified>
  <cp:revision>4</cp:revision>
  <dc:subject/>
  <dc:title> </dc:title>
</cp:coreProperties>
</file>