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DF8-4E5F-4701-9EC8-5E4783BD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F60-3246-4723-8D99-BC51BF76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7C7-F2D4-48DC-A903-2FDB93E5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F9E-804B-4783-8BC7-20571426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EEC9-1C4B-4345-9EA0-B8BE6D59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2B82-C709-4712-8CDE-B81CC924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7D68-566A-44D2-984B-A349C0D8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D6DF-9150-4CB8-8408-78413C74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B500-1F8B-4871-AA60-804E06EF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7811-6DBC-40E4-8039-5835B42D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E607-F453-4539-A897-E828BCA6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96F-7C86-483B-837C-9540551E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04AE-0C1C-4272-8451-61679D65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1460-85A3-47D4-ABAF-4D2DC01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B692-591B-49F4-A0EC-FA388FDA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87F4-CF9B-4D0B-8B2B-6214A3FF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2479-DBE5-4672-A7B8-F965D471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AAE-B948-4AFF-93BB-05ABB41C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DED-EA34-4E4C-AB7A-3711139A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139-7709-4B39-9E4B-535BCF2F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ADA-284C-400F-8B4C-3196DCB8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F66-BC0C-41E4-9C0C-DB1C7126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1F8-83A1-46B8-BDC7-5141B8F5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8B8-B951-47DB-89EB-81BB019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D309D0-C997-4DDF-8355-DCC8AC77B2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18152C-F9EB-4E51-A223-918D310869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08360" y="3284640"/>
            <a:ext cx="4681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9999"/>
                </a:solidFill>
                <a:latin typeface="Arial"/>
              </a:rPr>
              <a:t>Путь   к </a:t>
            </a:r>
            <a:br>
              <a:rPr sz="6600"/>
            </a:br>
            <a:r>
              <a:rPr b="0" i="1" lang="ru-RU" sz="6600" spc="-1" strike="noStrike">
                <a:solidFill>
                  <a:srgbClr val="009999"/>
                </a:solidFill>
                <a:latin typeface="Arial"/>
              </a:rPr>
              <a:t>здоровью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115920"/>
            <a:ext cx="41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8cc47"/>
                </a:solidFill>
                <a:latin typeface="Times New Roman"/>
              </a:rPr>
              <a:t>Фотопрезентация внеклассного меро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Ав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Лиханова Е. Н., учитель начальных классов МБОУ Лицей №21 г. Уф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297504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Ой, доктор, что это с Вашим пальцем?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-  А, пустяки. Это меня Юрочка Пуговкин из 1 «а» укусил, когда я его осматрива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8000" y="2109960"/>
            <a:ext cx="568656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42920" y="5877000"/>
            <a:ext cx="39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92360" y="835200"/>
            <a:ext cx="5884920" cy="4390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81040" y="5300640"/>
            <a:ext cx="593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Почихаем вместе, почихаем дружно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Чтобы гриппом заболеть, заразиться ну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5280" y="4365720"/>
            <a:ext cx="39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хочешь быть здор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ушайся ты докто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3924360" cy="2913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4920" y="189000"/>
            <a:ext cx="60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Медкабинет тебя зовет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страну здоровья круглый год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19280" y="1954080"/>
            <a:ext cx="5689440" cy="42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- за здоровый образ жизни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410080" cy="3936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280200" y="85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11:17:13Z</dcterms:created>
  <dc:creator>user </dc:creator>
  <dc:description/>
  <dc:language>en-US</dc:language>
  <cp:lastModifiedBy>User</cp:lastModifiedBy>
  <dcterms:modified xsi:type="dcterms:W3CDTF">2012-06-21T13:44:07Z</dcterms:modified>
  <cp:revision>22</cp:revision>
  <dc:subject/>
  <dc:title>Heart Doctor</dc:title>
</cp:coreProperties>
</file>