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5DD-5F36-4BC5-BE36-D65073B0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D59-9549-4C19-8F00-05807144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4FB-F092-479C-82F8-B1BDDAC6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A23F-2862-479F-A4E0-1878180A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A122-B93F-4AD8-BC1D-4E50E859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4BFC-F91B-42A6-8DFE-1D820CF7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4037-74B0-494D-83FF-7AA8017D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B904-9539-488C-BA84-C8165304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CEA-8012-4A89-BE46-551AB701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740C-128E-4F91-A5AA-50BC7FFC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72D7-B2EB-4129-ACF5-4EE286C9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9D4-E5B3-4A61-8DB4-22C3D73F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FB7B-E809-4C61-847A-5C7F456F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32D5-D200-47C3-AE92-20385968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4DC2-6CC3-43D6-BFA6-18D3B237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748B-C04E-4D49-A204-506912C0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3DE8-0729-4D17-8CB9-0191C925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F8D-1725-4A21-B6BE-9E8AD4C1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ACA-8824-47F6-97A5-0EFC6B9E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5A9-DD66-42E3-B589-94618948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0FE-08AA-4D47-B1F3-8B155962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068-E499-411D-BCCF-88B09D87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E12-6884-4705-9986-E6ACA3FC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6B0-F318-44C4-9DD8-760750A4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E8E454-16A9-4AB1-87C7-EE0DA6E4EF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561FBE-0C5C-4D43-9CB1-A8BBD67666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708360" y="3284640"/>
            <a:ext cx="4681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9999"/>
                </a:solidFill>
                <a:latin typeface="Arial"/>
              </a:rPr>
              <a:t>Путь   к </a:t>
            </a:r>
            <a:br>
              <a:rPr sz="6600"/>
            </a:br>
            <a:r>
              <a:rPr b="0" i="1" lang="ru-RU" sz="6600" spc="-1" strike="noStrike">
                <a:solidFill>
                  <a:srgbClr val="009999"/>
                </a:solidFill>
                <a:latin typeface="Arial"/>
              </a:rPr>
              <a:t>здоровью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6360" y="11592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8cc47"/>
                </a:solidFill>
                <a:latin typeface="Times New Roman"/>
              </a:rPr>
              <a:t>Фотопрезентация внеклассного меро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Ав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Лиханова Е. Н., учитель начальных классов МБОУ Лицей №21 г. Уф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97504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Ой, доктор, что это с Вашим пальцем?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-  А, пустяки. Это меня Юрочка Пуговкин из 1 «а» укусил, когда я его осматрива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8000" y="2109960"/>
            <a:ext cx="568656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42920" y="5877000"/>
            <a:ext cx="39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92360" y="835200"/>
            <a:ext cx="5884920" cy="4390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81040" y="5300640"/>
            <a:ext cx="59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Почихаем вместе, почихаем дружно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Times New Roman"/>
              </a:rPr>
              <a:t>Чтобы гриппом заболеть, заразиться нуж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5280" y="4365720"/>
            <a:ext cx="396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хочешь быть здор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ушайся ты докто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3924360" cy="29131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0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едкабинет тебя зовет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 страну здоровья круглый год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19280" y="1954080"/>
            <a:ext cx="5689440" cy="42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- за здоровый образ жизни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410080" cy="39369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80200" y="85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1:17:13Z</dcterms:created>
  <dc:creator>user </dc:creator>
  <dc:description/>
  <dc:language>en-US</dc:language>
  <cp:lastModifiedBy>User</cp:lastModifiedBy>
  <dcterms:modified xsi:type="dcterms:W3CDTF">2012-06-21T13:44:07Z</dcterms:modified>
  <cp:revision>22</cp:revision>
  <dc:subject/>
  <dc:title>Heart Doctor</dc:title>
</cp:coreProperties>
</file>