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9D19-AEEA-41B7-A43C-53A7FF4B4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F7B-5C05-4DA3-8E9F-F202DE820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AAB-5723-4902-9B80-EB56681A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0A3-A2CE-4393-A4DC-C8376AC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452-6AB4-4AB9-8C71-9997A62F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9FC-4E23-4BAE-97E7-9C73E539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33E-0CAA-49B9-A186-BC3B460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9F8-8AE0-4953-A941-6ACDFD36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F55-F29D-4A4F-80B4-635C5D1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6E3-8932-4B07-A9A7-DB50876D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C6C-CE06-4FE3-9082-F9EA64D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512-D34D-4B89-ADE9-7D9CD4B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A14-6B56-4863-AA68-6BCF34E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C10-E00E-4916-B1CC-E7DEF11A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E2D0-62B6-4DD6-9301-6ECF44860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5572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ff"/>
                </a:solidFill>
                <a:latin typeface="Arial"/>
              </a:rPr>
              <a:t>Творческие  работы</a:t>
            </a:r>
            <a:br>
              <a:rPr sz="40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учащихся 9 классов 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МОУ СОШ №2 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С. Екатеринославка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учитель Легенчук О.И.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43440" y="0"/>
            <a:ext cx="25002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ходько Ди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В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929720" y="3875040"/>
            <a:ext cx="1214280" cy="261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Admin\Мои документы\Мои рисунки\7.jpg"/>
          <p:cNvPicPr/>
          <p:nvPr/>
        </p:nvPicPr>
        <p:blipFill>
          <a:blip r:embed="rId2"/>
          <a:srcRect l="0" t="12465" r="10967" b="0"/>
          <a:stretch/>
        </p:blipFill>
        <p:spPr>
          <a:xfrm>
            <a:off x="0" y="23760"/>
            <a:ext cx="528624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506520" y="-328680"/>
            <a:ext cx="8345520" cy="633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картинки\гифы\люди\19.bmp"/>
          <p:cNvPicPr/>
          <p:nvPr/>
        </p:nvPicPr>
        <p:blipFill>
          <a:blip r:embed="rId2"/>
          <a:stretch/>
        </p:blipFill>
        <p:spPr>
          <a:xfrm>
            <a:off x="2928960" y="1716120"/>
            <a:ext cx="2928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684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ктических навыков построения графиков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умений по графику описать формулу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упорства, настойчив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6929280" y="1428840"/>
            <a:ext cx="1947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500880" y="142920"/>
            <a:ext cx="23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азарева Евгения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643880" y="3643200"/>
            <a:ext cx="1143000" cy="245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Documents and Settings\Admin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0" y="-30240"/>
            <a:ext cx="52783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29240" y="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патина Екатер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715160" y="3786120"/>
            <a:ext cx="1214640" cy="261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Admin\Мои документы\Мои рисунки\2.jpg"/>
          <p:cNvPicPr/>
          <p:nvPr/>
        </p:nvPicPr>
        <p:blipFill>
          <a:blip r:embed="rId2"/>
          <a:stretch/>
        </p:blipFill>
        <p:spPr>
          <a:xfrm>
            <a:off x="0" y="33480"/>
            <a:ext cx="492912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86720" y="0"/>
            <a:ext cx="235728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ыльче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715160" y="3643200"/>
            <a:ext cx="1238400" cy="26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Admin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0" y="0"/>
            <a:ext cx="50007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00880" y="-360"/>
            <a:ext cx="242712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оч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е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715160" y="3611520"/>
            <a:ext cx="1285920" cy="276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Documents and Settings\Admin\Мои документы\Мои рисунки\4.jpg"/>
          <p:cNvPicPr/>
          <p:nvPr/>
        </p:nvPicPr>
        <p:blipFill>
          <a:blip r:embed="rId2"/>
          <a:stretch/>
        </p:blipFill>
        <p:spPr>
          <a:xfrm>
            <a:off x="0" y="0"/>
            <a:ext cx="47149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28880" y="-360"/>
            <a:ext cx="24274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воко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вг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в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858080" y="4040280"/>
            <a:ext cx="1143000" cy="245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Documents and Settings\Admin\Мои документы\Мои рисунки\5.jpg"/>
          <p:cNvPicPr/>
          <p:nvPr/>
        </p:nvPicPr>
        <p:blipFill>
          <a:blip r:embed="rId2"/>
          <a:stretch/>
        </p:blipFill>
        <p:spPr>
          <a:xfrm>
            <a:off x="0" y="0"/>
            <a:ext cx="50720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9440" y="-360"/>
            <a:ext cx="228456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ка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ль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в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929720" y="3897360"/>
            <a:ext cx="121428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Admin\Мои документы\Мои рисунки\6.jpg"/>
          <p:cNvPicPr/>
          <p:nvPr/>
        </p:nvPicPr>
        <p:blipFill>
          <a:blip r:embed="rId2"/>
          <a:stretch/>
        </p:blipFill>
        <p:spPr>
          <a:xfrm>
            <a:off x="0" y="0"/>
            <a:ext cx="485784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41:30Z</dcterms:created>
  <dc:creator>User</dc:creator>
  <dc:description/>
  <dc:language>en-US</dc:language>
  <cp:lastModifiedBy>Admin</cp:lastModifiedBy>
  <dcterms:modified xsi:type="dcterms:W3CDTF">2012-06-21T00:49:11Z</dcterms:modified>
  <cp:revision>18</cp:revision>
  <dc:subject/>
  <dc:title>Проектные работы учащихся 9 классов  МОУ СОШ №2  С. Екатеринославка учитель Легенчук О.И. 2009 год</dc:title>
</cp:coreProperties>
</file>