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F51-E7A3-42D1-90CA-D31471A7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E23-E365-4BF6-95F0-6559350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EE9-869C-48FF-8811-D0BD886E1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185-888A-438B-8292-256EF43D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45D1D-572E-4BC6-A973-0A8FE3F6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38D43-6C74-4107-BC44-A76E1F6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60CA5-2276-49C3-8580-3464ABB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7EAB4-68B9-4168-A147-C0C7D2DE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2ED30-0175-457D-A97F-075477BA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A4287-B13A-4EA9-87C2-A3CC4072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13F88-767E-41DB-98AD-0D79B57C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2F0-BB86-464B-BAD2-16174377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69FD-3EF3-4A01-B76A-9BC07248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7FB45-B26B-442B-A4C6-ED62683B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936BB-0BE6-4DDF-AE0E-BD85CB87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C2C8C-3CC5-4DAB-9A94-1FCA804E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EC9A2-0803-4111-8125-172EA092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9989D-8601-4D3D-9C8D-7A26884E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C2D2-2D40-4365-A5BF-109C582B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8F6B-7423-4219-9B8C-7796E450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1F826-147C-45AA-8323-05B5165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BF8A-59D3-4547-9C47-C1BD2180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1D3-72E5-431D-8E68-B035F487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0163-B318-45EA-962D-A7F1A0A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0C636-2AD8-4F23-8A8A-D88918F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DE67-ED89-4D27-BD6D-6F4DFC8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2AD8-C8B8-4D62-8A77-83DD17E2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E51F-0352-46E8-8A2B-CFE8C5F7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9937-060A-4DD3-9EC4-C57112CD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1722-FA66-465D-9EAC-4C89E9AA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804D-8DCB-4739-A56F-E1557A6C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95D31-5CE8-49C0-9272-7CEB17E2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C2A4E-2042-4706-9991-3DC816C4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752-4870-46F1-B60A-CA252091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AAF89-3A44-42AA-AAD9-F5258DFB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48C07-8878-4303-9B9E-F12FC95B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B607-7F38-4E70-944D-B10B560C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A724-76E1-46AB-BE7C-6718C608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F69D-F8BC-4F6D-9B32-7026143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9A4CE-AA45-4868-9E71-E76C3683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CC3E-0D25-49AD-9526-93B76FFB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EF44E-2787-428F-8C7C-0490407F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EECC-11AF-43FB-B909-F36D3299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9B-ACB2-4102-90C8-8DEAA669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EAF-AE66-4984-8D51-D2CCF90E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2F0-0D94-48A6-920A-7A52EE13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F47-EEF2-4F89-80E9-CDDEFCC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82B-A630-444E-B5FE-2DED0E7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846D-3341-46EB-B136-96DA8524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109D-21A9-4942-A9A7-2A4FBDFFB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5F45-BED5-469A-9461-813F9D1344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2F76-0A43-4080-B8B7-F22410111B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575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549080" y="4449240"/>
            <a:ext cx="603252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боту выполнили учащиеся 8В клас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ивоконь Евгения, Коваль Оксан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76360" y="1052640"/>
            <a:ext cx="669780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тория развит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нятия "процент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260080"/>
            <a:ext cx="8229600" cy="37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ного ли соли в морской вод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нечно, можно налить в ведро морскую воду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авить его на огонь и, подождав, пока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арится, собрать и взвесить оставшуюся соль. Можно ли утверждать, что у другого человека получится столько же? Его ведро может оказаться больше или меньше, оно может быть налито более или менее полно; в результате получится другое количество соли. Таким образом, наша мера солености морской воды оказалась неудачн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763640" y="333360"/>
            <a:ext cx="5486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чему появился процент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6e2f"/>
            </a:gs>
            <a:gs pos="50000">
              <a:srgbClr val="ffef66"/>
            </a:gs>
            <a:gs pos="100000">
              <a:srgbClr val="756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ого, чтобы люди понимали друг друга ученые ввели понятие «процент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цент-это мера, составляющая 1\100 часть от какой-либо величины. Введение процентов оказалось удобным не только для оценки содержания одного вещества в другом. В процентах стали измерять изменение производства товара, рост денежного дохода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340000" y="105264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Что такое процент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75"/>
            </a:gs>
            <a:gs pos="50000">
              <a:srgbClr val="ff66ff"/>
            </a:gs>
            <a:gs pos="100000">
              <a:srgbClr val="75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 rot="21353400">
            <a:off x="1476000" y="0"/>
            <a:ext cx="626112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много из истори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7696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центы были известны индийцам еще в 5 веке. А это понятие впервые возникло в Древнем Риме. Римляне называли процентами деньги, которые платил должник заимодавцу за каждую сотню. Долгое время под процентами понимали только прибыль или убыток на каждые 100 рублей. Знак % происходит от итальянского слова «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». А слово процент произошло с латинского языка от слова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 cent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означает «за сотню». В 1584 году бельгийским ученым В. Стевином была впервые опубликована таблица процентов. Проценты сами по себе являются замаскированными десятичными дробями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62004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 временем люди научились извлекать из вещества его компоненты, составляющие тысячные доли от массы самого вещества. Тогда, чтобы не вводить нуль и запятую, придумали новую величину-промилле-тысячную долю, которую обозначили знаком ‰, и вместо 0,6% стали писать 6‰. Это слово произошло от латинского выражения 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 mil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692360" y="476280"/>
            <a:ext cx="59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такое промилле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70028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50000">
              <a:srgbClr val="66ff66"/>
            </a:gs>
            <a:gs pos="100000">
              <a:srgbClr val="2f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769608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 выражения о «частях из какого-то числа» легко могут быть записаны как десятичные дроби, так ч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часть из 10 соответствует 1/10=0,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часть из 100 соответствует 1/100,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%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0,0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часть из 1000 соответствует 1/1000, 1‰ или 0,00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часть из 100.000 соответствует 1/100.000 или 0,0000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аналитической химии могут говорить о частях из 1000.000, означая 1/1000.000 латинским сокращение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pm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03280" y="0"/>
            <a:ext cx="5688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3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"Частях из числа"</a:t>
            </a:r>
            <a:endParaRPr b="0" lang="en-US" sz="1800" spc="1" strike="noStrike">
              <a:ln w="12600">
                <a:solidFill>
                  <a:srgbClr val="99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14 карат», которое обозначает чистоту некого сплава золота. Слово «карат» в этом случае- это способ сказать «части из двадцати четырех», так что 14 карат означает 14 частей из 24.Это означает, что сплав содержит 14/24 золота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03:13:35Z</dcterms:created>
  <dc:creator>М</dc:creator>
  <dc:description/>
  <dc:language>en-US</dc:language>
  <cp:lastModifiedBy>М</cp:lastModifiedBy>
  <dcterms:modified xsi:type="dcterms:W3CDTF">2007-12-19T05:16:41Z</dcterms:modified>
  <cp:revision>8</cp:revision>
  <dc:subject/>
  <dc:title>Слайд 1</dc:title>
</cp:coreProperties>
</file>