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A67-FE61-44E5-A4D3-B9D57747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303-CA75-40D6-8319-67027C14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F3AB-2FB2-4F84-8BAC-6B173D73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AEC3-F486-49C3-B48E-7D94893A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157C6-C4E8-49B2-A8DA-E250AA34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DD913-CD16-4DA3-B789-22F04C6F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2C732-FA7C-4669-AB56-703576D4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F75EB-302B-4B76-8274-43D2EF82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72037-3857-46EA-9C2E-11EFC222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577F9-4DD9-4F42-AFF6-3183736B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313F4-805B-44BF-835F-39AA4712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6C97-6B77-41EC-A368-8A155BCA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88343-B3C4-431C-9661-CE468CED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6E2AE-1018-44CF-8D78-BE44345B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A0B03-F98C-4500-AA99-CE444652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7FFC5-0DB8-4E14-A6AD-A44663CC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23C1C-670B-4C1D-9384-AC3B3D5E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B7303-CF62-42EB-8DE4-A50A1D2D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B33A3-8BC3-4E74-88B0-D9B00A81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F7F9D-409D-4858-9887-4D4AA44A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D7520-9DE7-4785-BC15-2D90F8F5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F28B2-6580-4A2C-923F-FEE20625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34E-FB87-4BAE-95E7-97619813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3DA25-EC60-4075-AE4A-534B6555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78F77-6581-4F8C-88B5-735940C9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67A62-19CB-4041-B7A1-3FC0F958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3956C-1269-4620-9CB9-43E13FA0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9A421-FC63-4323-A6E0-18C61B89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8A278-4D3B-49EB-9070-7E861E6B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E54B9-884E-4AD0-92C2-B5C3A68B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6618E-D7DF-478B-9184-C2587A28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451CE-84C1-4F4E-A7FC-C2486EA1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9B53E-4645-4A08-AF35-69B71335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E90-B3D8-46D6-822B-58C7D0A6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9B56E-4E26-4434-A5A7-C01C85FB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E1C47-3313-408B-9BBA-EF33627D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8FE8F-5564-4273-84CF-5BABECC6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A317B-EB20-40B2-AEAE-A1F2B36B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4E7D2-C215-4EDC-9FA9-FB45CD7B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F3C6A-53AC-4FC5-9CBF-2C6E66A8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EECDA-17A7-4AEE-9C2B-7E689909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94F65-BEC0-46F3-901A-B4622E82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3175C-B2C4-44D7-B30F-1B3632C3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461-48AE-46C7-82D1-E7C8F7C1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1AB-D413-41B2-9BE0-1450B1A8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9176-779A-4E97-867F-71A73EB6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FD3-75C3-4159-9DFC-93FAA4A4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572-9DFC-48E5-8E79-90C6C7FA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0FFB-2ECD-45EB-839C-0E775ED28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EE92-A460-470B-80EF-6944F8585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ACFA-5B48-4F7F-A594-01144E2ED1B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2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4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7203-231E-4C09-99F8-5A64D45FD25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549080" y="4449240"/>
            <a:ext cx="6032520" cy="6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боту выполнили учащиеся 8В класс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воконь Евгения, Коваль Оксан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476360" y="1052640"/>
            <a:ext cx="669780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тория развити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нятия "процент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14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2260080"/>
            <a:ext cx="8229600" cy="37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дач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ного ли соли в морской вод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ечно, можно налить в ведро морскую воду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тавить его на огонь и, подождав, пок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арится, собрать и взвесить оставшуюся соль. Можно ли утверждать, что у другого человека получится столько же? Его ведро может оказаться больше или меньше, оно может быть налито более или менее полно; в результате получится другое количество соли. Таким образом, наша мера солености морской воды оказалась неудачн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763640" y="333360"/>
            <a:ext cx="54864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чему появился процент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6e2f"/>
            </a:gs>
            <a:gs pos="50000">
              <a:srgbClr val="ffef66"/>
            </a:gs>
            <a:gs pos="100000">
              <a:srgbClr val="756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ля того, чтобы люди понимали друг друга ученые ввели понятие «процент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цент-это мера, составляющая 1\100 часть от какой-либо величины. Введение процентов оказалось удобным не только для оценки содержания одного вещества в другом. В процентах стали измерять изменение производства товара, рост денежного дохода и т.д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340000" y="1052640"/>
            <a:ext cx="376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то такое процент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75"/>
            </a:gs>
            <a:gs pos="50000">
              <a:srgbClr val="ff66ff"/>
            </a:gs>
            <a:gs pos="100000">
              <a:srgbClr val="752f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 rot="21353400">
            <a:off x="1476000" y="0"/>
            <a:ext cx="6261120" cy="22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емного из истор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76960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центы были известны индийцам еще в 5 веке. А это понятие впервые возникло в Древнем Риме. Римляне называли процентами деньги, которые платил должник заимодавцу за каждую сотню. Долгое время под процентами понимали только прибыль или убыток на каждые 100 рублей. Знак % происходит от итальянского слова «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nto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». А слово процент произошло с латинского языка от слов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 centum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что означает «за сотню». В 1584 году бельгийским ученым В. Стевином была впервые опубликована таблица процентов. Проценты сами по себе являются замаскированными десятичными дробями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62004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 временем люди научились извлекать из вещества его компоненты, составляющие тысячные доли от массы самого вещества. Тогда, чтобы не вводить нуль и запятую, придумали новую величину-промилле-тысячную долю, которую обозначили знаком ‰, и вместо 0,6% стали писать 6‰. Это слово произошло от латинского выражения «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 mill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692360" y="476280"/>
            <a:ext cx="5975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то такое промилле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70028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2f"/>
            </a:gs>
            <a:gs pos="50000">
              <a:srgbClr val="66ff66"/>
            </a:gs>
            <a:gs pos="100000">
              <a:srgbClr val="2f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769608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е выражения о «частях из какого-то числа» легко могут быть записаны как десятичные дроби, так чт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 часть из 10 соответствует 1/10=0,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 часть из 100 соответствует 1/100,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ли 0,0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 часть из 1000 соответствует 1/1000, 1‰ или 0,00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часть из 100.000 соответствует 1/100.000 или 0,0000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аналитической химии могут говорить о частях из 1000.000, означая 1/1000.000 латинским сокращение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pm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03280" y="0"/>
            <a:ext cx="56880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3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 "Частях из числа"</a:t>
            </a:r>
            <a:endParaRPr b="0" lang="en-US" sz="1800" spc="1" strike="noStrike">
              <a:ln w="12600">
                <a:solidFill>
                  <a:srgbClr val="99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14 карат», которое обозначает чистоту некого сплава золота. Слово «карат» в этом случае- это способ сказать «части из двадцати четырех», так что 14 карат означает 14 частей из 24.Это означает, что сплав содержит 14/24 золота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03:13:35Z</dcterms:created>
  <dc:creator>М</dc:creator>
  <dc:description/>
  <dc:language>en-US</dc:language>
  <cp:lastModifiedBy>М</cp:lastModifiedBy>
  <dcterms:modified xsi:type="dcterms:W3CDTF">2007-12-19T05:16:41Z</dcterms:modified>
  <cp:revision>8</cp:revision>
  <dc:subject/>
  <dc:title>Слайд 1</dc:title>
</cp:coreProperties>
</file>