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5C1-0BBB-4F95-8FF6-4B762471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A74-DED3-4F05-9B44-D6732775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533-AD3C-446D-9F7A-F27424FC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A3E-7DF7-46F0-85F5-6BBA1F49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79DD5-BCEC-4556-A342-95D6AB94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A609F-9A25-436E-8BF8-B429ABD3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6B262-858B-48AB-9926-F9CF70F7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04AB4-FF3A-4148-ABF2-78305214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22C35-9914-4E72-88F4-C36123F3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4B8D-75EA-4864-AF20-B838DB7B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622E-3209-4CC5-B1AF-779F3BB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7322-8DE2-4205-B0F2-1EC2CCD5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FA1D0-9AF8-4E48-88CB-384DD5E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32B42-9CAB-4544-B928-4F0AEBC3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52D47-2C1E-4EEC-B8CB-E92628FC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1400B-B363-499D-B9FA-972CA33B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85BAA-F9E0-4DF4-81B4-F0B5D537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620-399D-4EF2-AB29-435DD5D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AA8-E9C2-4885-B0E1-020B5A01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641-165F-41F9-8273-172F38E6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05E-3596-4023-9C62-B4CC865D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A49-3874-4399-A5EB-546804E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460-E709-4120-9514-2F1A0DD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1E7-E663-40DA-BA47-9526514B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396D-F0B4-45E5-A205-CDE59077F8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26B7-1B60-42A9-BD0B-DFF80AC7AA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ял работу ученик 3г класса Федосеев Лу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щеры   Алт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960720" cy="2521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земное царство Алтая насчитывает около 1200 пеще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1600200"/>
            <a:ext cx="4103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ор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708280"/>
            <a:ext cx="4038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ные пещеры располагаются на высоте 350-3000 м над уровнем оке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вод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20800800">
            <a:off x="611280" y="1599840"/>
            <a:ext cx="3744720" cy="3484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788000" y="357336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одводных  пещерах плавают  множество рыб, там очень краси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дзем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600200"/>
            <a:ext cx="2895840" cy="2171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392436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нгурская ледяная пещера является одной из самых больших в мире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раст Кунгурской ледяной пещеры составляет более десяти тысяч лет. Длина её коридоров — 6 км. В этой пещере есть 58 залов и около 70 озер.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арсиански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59280" y="256500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Марсе существуют огромные, глубочайшие пещеры. Там запросто могут скрываться и живые существа, и всевозможная техника, вплоть до крупных летательных аппаратов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3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унные пеще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луне обнаружены несколько пещер, самую первую из которых открыли в 2009 году. Пещера укрывает собой от УФ лучей, которые разрушают структуру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 rot="20821800">
            <a:off x="323640" y="1773360"/>
            <a:ext cx="4038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Земляне смогут жить в пещерах На Лун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будущем, если земляне все же захотят освоиться на спутнике нашей планеты, пещеры могут стать прибежищем для лунной базы, которые защитят от космического излучения, метеоритов, перепадов температу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3280" y="2124000"/>
            <a:ext cx="4321440" cy="3243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74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3800" y="5661000"/>
            <a:ext cx="53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едполагается, что там большие запасы воды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4:34:57Z</dcterms:created>
  <dc:creator>ооо</dc:creator>
  <dc:description/>
  <dc:language>en-US</dc:language>
  <cp:lastModifiedBy>ооо</cp:lastModifiedBy>
  <dcterms:modified xsi:type="dcterms:W3CDTF">2012-03-27T17:41:25Z</dcterms:modified>
  <cp:revision>6</cp:revision>
  <dc:subject/>
  <dc:title>пещеры</dc:title>
</cp:coreProperties>
</file>