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F21-57D8-4F39-8995-692C5B11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FC3-1BCF-4942-84C4-911CF8D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867-3F53-409B-8D5E-F4C3C595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9BD-5C55-4812-9D8B-0F0E5007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7B6C5-F68B-477A-97A3-5F3A8DBE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5EDC-614B-46CC-A853-76586C2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613FA-FE06-46DC-9EB8-D4851D3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EF07-A24F-479E-A771-2F73F8E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41F61-496F-4B16-96A0-8AF51E8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A0C9-32BE-4B7A-8910-AA4404C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9BC63-1C40-4288-A4AD-C808D81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591-210C-4FAB-A64B-1E7EB669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AFF7B-BED2-41C5-9A11-C94D4BA9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4291-1A11-4366-9E95-930D2A2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0A9E6-51BE-4DFF-9C50-BF68882C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5EBAD-5391-4CBF-B6A3-173F397B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73C75-4153-4E2A-8AFE-CFAFA7C9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3D9-C487-44E0-BFE8-CA34B8C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53C-B535-4B64-A6C6-87829F6B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3CD-8555-4B3D-8F7D-7D1B9DE1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8C6-5EC3-4091-A50B-DF11903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7C0-1321-4613-B323-82FE560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07-8C52-4612-A913-FAFA501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FE-32BE-4AF1-BD0F-FF998FC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6DBE-D9CC-4550-B4CF-7563D3CC06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C15B-91BE-4856-ACE0-0AE773ADA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ял работу ученик 3г класса Федосеев Лу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щеры   Алт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960720" cy="2521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земное царство Алтая насчитывает около 1200 пещ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4103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ор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70828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ные пещеры располагаются на высоте 350-3000 м над уровнем оке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вод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0800800">
            <a:off x="611280" y="1599840"/>
            <a:ext cx="3744720" cy="3484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788000" y="357336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одводных  пещерах плавают  множество рыб, там очень краси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зем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нгурская ледяная пещера является одной из самых больших в мире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раст Кунгурской ледяной пещеры составляет более десяти тысяч лет. Длина её коридоров — 6 км. В этой пещере есть 58 залов и около 70 озер.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арсиански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Марсе существуют огромные, глубочайшие пещеры. Там запросто могут скрываться и живые существа, и всевозможная техника, вплоть до крупных летательных аппаратов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3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ун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уне обнаружены несколько пещер, самую первую из которых открыли в 2009 году. Пещера укрывает собой от УФ лучей, которые разрушают структуру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20821800">
            <a:off x="323640" y="1773360"/>
            <a:ext cx="4038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Земляне смогут жить в пещерах На Лу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будущем, если земляне все же захотят освоиться на спутнике нашей планеты, пещеры могут стать прибежищем для лунной базы, которые защитят от космического излучения, метеоритов, перепадов температ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2124000"/>
            <a:ext cx="4321440" cy="3243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74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3800" y="566100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дполагается, что там большие запасы вод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4:34:57Z</dcterms:created>
  <dc:creator>ооо</dc:creator>
  <dc:description/>
  <dc:language>en-US</dc:language>
  <cp:lastModifiedBy>ооо</cp:lastModifiedBy>
  <dcterms:modified xsi:type="dcterms:W3CDTF">2012-03-27T17:41:25Z</dcterms:modified>
  <cp:revision>6</cp:revision>
  <dc:subject/>
  <dc:title>пещеры</dc:title>
</cp:coreProperties>
</file>