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2A7-E8C0-4CEC-B8B0-2DF5981E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DF5-3322-42F7-9F77-4C9BC599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E33-E6B8-44A2-B19B-C93649CA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5F9-111D-4316-B0FE-77F278E6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B7C4-E639-455E-A2C7-450A6998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227C-90A2-4494-9ED7-BF807E4C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2AAA-FAE8-49E8-A32E-A131F4D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CD52-DF43-4599-BDB5-CAEA7FE2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E856-D658-4725-A89E-0E5E4B1B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3321-27F3-4417-B188-CBD3A69F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7D61-B0B0-46CB-911F-6CD089BB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3CA-9970-4FB6-BBC7-93521439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440C-832E-42B4-80AB-69ACF12E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B81-9200-4CE7-ABEE-FB4A72AA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379E-4150-4622-A5E0-DA825C07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CFCC-A0DA-4685-B726-C4D5369C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D255-05A8-4055-B5BE-FC15249B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3D7-C429-46C7-BB07-43D48DD4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003-26E0-4410-94EB-6CB98A5E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DBA-76AC-45FA-ABAF-6B6594EE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A83-4EBC-4C03-8DDC-A2259EDF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826-F2D4-44FC-B5FB-1EF16B5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721-A2BC-4296-833C-51F3FA8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DBF-D3A6-43F2-A372-42AE9061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3192-A16E-4D53-A179-0BADDEC612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3892-3115-47E1-A886-FD1B484E37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Times New Roman"/>
              </a:rPr>
              <a:t>Презентация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Times New Roman"/>
              </a:rPr>
              <a:t>урока литературы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Times New Roman"/>
              </a:rPr>
              <a:t>в </a:t>
            </a:r>
            <a:br>
              <a:rPr sz="6600"/>
            </a:br>
            <a:r>
              <a:rPr b="1" lang="ru-RU" sz="6600" spc="-1" strike="noStrike">
                <a:solidFill>
                  <a:srgbClr val="ffffcc"/>
                </a:solidFill>
                <a:latin typeface="Times New Roman"/>
              </a:rPr>
              <a:t>6 классе.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М.Ю.Лермонтов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3" descr="mso4B26C_1"/>
          <p:cNvPicPr/>
          <p:nvPr/>
        </p:nvPicPr>
        <p:blipFill>
          <a:blip r:embed="rId1"/>
          <a:stretch/>
        </p:blipFill>
        <p:spPr>
          <a:xfrm>
            <a:off x="755640" y="260280"/>
            <a:ext cx="3035160" cy="6408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mso4B26C_2"/>
          <p:cNvPicPr/>
          <p:nvPr/>
        </p:nvPicPr>
        <p:blipFill>
          <a:blip r:embed="rId2"/>
          <a:stretch/>
        </p:blipFill>
        <p:spPr>
          <a:xfrm>
            <a:off x="5076720" y="1844640"/>
            <a:ext cx="2838600" cy="4422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еревод М.Ю.Лермонтова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Какая из картин, «Выход зверей» или «Сошествие юноши», Видится отчетливе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Каков юноша в финал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so9971E_"/>
          <p:cNvPicPr/>
          <p:nvPr/>
        </p:nvPicPr>
        <p:blipFill>
          <a:blip r:embed="rId1"/>
          <a:stretch/>
        </p:blipFill>
        <p:spPr>
          <a:xfrm>
            <a:off x="592200" y="1341360"/>
            <a:ext cx="3919320" cy="511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равним переводы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Какой из переводов произвел на Вас более сильное впечатление и почем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В каком из переводов, по Вашему мнению, дама более коварн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Ритм немецкого текста и переводов совпадает? Почем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Литературоведческие понятия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вод художественный – воспроизведение литературного сочинения на другом языке, учитывающее особенности и того и другого языка, и литературные традиции народов и сохраняющее авторскую уникальность текст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чают ли данные переводы приведенному определению? Свое мнение обоснуйт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огласны ли Вы с мыслью В.А.Жуковского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Переводчик в прозе есть раб, переводчик в стихах – соперник…прекрасное редко переходит из одного языка в другой, не утратив нисколько своего совершенства: что же обязан делать переводчик? Находить у себя в воображении такие красоты, которые бы могли служить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меною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следовательно производить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бственно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равно и превосходное: не значит ли это быть творцом?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Устное словесное рисование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«Выход зверей» (повадки, подчеркнутые в перевода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Почему Делорж бросает перчатку в лицо красавице? Опишите рыцаря, когда он говорит: «Не требую награ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Какой эпизод Вам хотелось бы проиллюстрировать? Почем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ллюстрация к балладе Ф.Шиллера «Перчатка» Мазеля (Рувима) Ильи Моисеевича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(1946 Г. Холст, масло)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ой эпизод выбран художником? Почему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перчатка"/>
          <p:cNvPicPr/>
          <p:nvPr/>
        </p:nvPicPr>
        <p:blipFill>
          <a:blip r:embed="rId1"/>
          <a:stretch/>
        </p:blipFill>
        <p:spPr>
          <a:xfrm>
            <a:off x="657360" y="1676520"/>
            <a:ext cx="3816360" cy="48481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дведение итогов урока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Что такое баллада? Проиллюстрируйте определение текст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Чем подстрочный перевод отличается от художественного, а прозаический от поэтическог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В чем Вы увидели сложность сравнения переводов В.А.Жуковского и М.Ю.Лермонтов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ее задание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Выписать определения баллады и перевода и выучить 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Создать свой поэтический перевод понравившегося эпизода ( сильные учащиеся делают поэтический перевод всей баллады как конкурсная работ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Оформить свой перевод собственными иллюстрац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ем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«Введение литературоведческих понятий баллады и поэтического перевода путем сравнительного анализа текстов «Перчатки» Ф.Шиллера, В.А.Жуковского, М.Ю.Лермонтова и «подстрочник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Учитель: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ликовская Е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Цели и задачи урока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Введение понятий баллады, литературного перевода(прозаического и поэт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Развитие умения сравнительного анализа произвед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Формирование навыков видения индивидуальных особенностей лич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.Развитие творческих способност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Домашнее задание к данному уроку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Повторить кратко биографии Ф.Шиллера, В.А.Жуковского, М.Ю.Лермонт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Подготовить выразительное чтение баллады Ф.Шиллера «Перчатка» на немецком языке (индивидуально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Сделать подстрочный перевод баллады с немецкого языка на русс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msoBD828_2"/>
          <p:cNvPicPr/>
          <p:nvPr/>
        </p:nvPicPr>
        <p:blipFill>
          <a:blip r:embed="rId1"/>
          <a:stretch/>
        </p:blipFill>
        <p:spPr>
          <a:xfrm>
            <a:off x="6064200" y="1268280"/>
            <a:ext cx="2908440" cy="5113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soBD828_1"/>
          <p:cNvPicPr/>
          <p:nvPr/>
        </p:nvPicPr>
        <p:blipFill>
          <a:blip r:embed="rId2"/>
          <a:stretch/>
        </p:blipFill>
        <p:spPr>
          <a:xfrm>
            <a:off x="3132000" y="1268280"/>
            <a:ext cx="2905200" cy="511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Литературоведческие понятия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ллада - к 18-19 векам жанр лиро-эпического стихотворения легендарно-героического содержания драматического, а порой и трагического характе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аллада родилась в 13 веке в Провансе как лирическая хороводная песня любовного содержания с обязательным рефреном (повторяющийся припев).Позже постепенно отделилась от пляски и приобрела вид, известный нам сегод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Соответствует ли, по Вашему мнению, содержание баллады Ф.Шиллера данному определению?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87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вое мнение обоснуйт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Ф.Шиллер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3" descr="mso77CCD_"/>
          <p:cNvPicPr/>
          <p:nvPr/>
        </p:nvPicPr>
        <p:blipFill>
          <a:blip r:embed="rId1"/>
          <a:stretch/>
        </p:blipFill>
        <p:spPr>
          <a:xfrm>
            <a:off x="2644920" y="1268280"/>
            <a:ext cx="3182760" cy="5430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Портрет 23"/>
          <p:cNvPicPr/>
          <p:nvPr/>
        </p:nvPicPr>
        <p:blipFill>
          <a:blip r:embed="rId2"/>
          <a:stretch/>
        </p:blipFill>
        <p:spPr>
          <a:xfrm>
            <a:off x="47520" y="1268280"/>
            <a:ext cx="2549520" cy="30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msoC7562_"/>
          <p:cNvPicPr/>
          <p:nvPr/>
        </p:nvPicPr>
        <p:blipFill>
          <a:blip r:embed="rId3"/>
          <a:stretch/>
        </p:blipFill>
        <p:spPr>
          <a:xfrm>
            <a:off x="5867280" y="2276640"/>
            <a:ext cx="3114720" cy="3966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В.А.Жуковский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3" descr="msoCE0DC_1"/>
          <p:cNvPicPr/>
          <p:nvPr/>
        </p:nvPicPr>
        <p:blipFill>
          <a:blip r:embed="rId1"/>
          <a:stretch/>
        </p:blipFill>
        <p:spPr>
          <a:xfrm>
            <a:off x="755640" y="115920"/>
            <a:ext cx="2519280" cy="659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msoCE0DC_2"/>
          <p:cNvPicPr/>
          <p:nvPr/>
        </p:nvPicPr>
        <p:blipFill>
          <a:blip r:embed="rId2"/>
          <a:stretch/>
        </p:blipFill>
        <p:spPr>
          <a:xfrm>
            <a:off x="4356000" y="1844640"/>
            <a:ext cx="2749680" cy="4757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еревод В.А.Жуковского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редвещает ли начало повести ее дальнейшее драматическое развит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Почему улыбка красавицы названа «лицемерной и колкой»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mso93AF8_"/>
          <p:cNvPicPr/>
          <p:nvPr/>
        </p:nvPicPr>
        <p:blipFill>
          <a:blip r:embed="rId1"/>
          <a:stretch/>
        </p:blipFill>
        <p:spPr>
          <a:xfrm>
            <a:off x="971640" y="1341360"/>
            <a:ext cx="3454200" cy="522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2:09:43Z</dcterms:created>
  <dc:creator>Vladimir</dc:creator>
  <dc:description/>
  <dc:language>en-US</dc:language>
  <cp:lastModifiedBy>женя</cp:lastModifiedBy>
  <dcterms:modified xsi:type="dcterms:W3CDTF">2012-06-21T17:39:12Z</dcterms:modified>
  <cp:revision>45</cp:revision>
  <dc:subject/>
  <dc:title>Куликовская Евгения Анатольев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