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F44-4290-4F9C-A688-11A6895F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2F8-EB39-48B1-AC81-20E0CE7A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B2F-3B3E-4DD0-9E88-64DBDBEF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605-7D23-4A09-9945-E88070A2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F4E0-C4BB-4047-894D-8A1AE1E9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CA86-402E-4091-95C1-070C12B8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9A7B-F674-4C53-8A83-37F890B3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E734-35BD-4128-845A-8FB9714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ABCC-D593-4D17-94A8-F999D668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F861-7ED4-422F-BDE2-662F658A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E97C-C238-44C5-9E86-B892A601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14C-CCC7-4FAE-9383-1913A8D9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3F9F-93E8-49D3-8087-14BEC84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724D-6E4B-4511-8AEB-A0E3107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F541-27FA-459E-8550-5A86B6CE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6290-5DC7-407E-A025-D6C0BB98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F2A4-5A8D-4AD6-A927-D2CC935F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E65-D3A9-4619-A6DC-B82682B3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947-91F0-471A-9790-537ECB6E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16B-5E05-4C87-9C80-2118B215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976-7293-4262-9A98-2ED2BE09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A79-4AAF-4DF8-9DB7-74717250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632-087C-4149-B547-794D2E5D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E71-302C-492A-833E-E90657D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C19E-C8DB-4E07-B04B-4838EB9375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F0B8-3B87-45E1-A4CB-F80DB13936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Times New Roman"/>
              </a:rPr>
              <a:t>Презентация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Times New Roman"/>
              </a:rPr>
              <a:t>урока литературы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Times New Roman"/>
              </a:rPr>
              <a:t>в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Times New Roman"/>
              </a:rPr>
              <a:t>6 классе.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.Ю.Лермонтов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3" descr="mso4B26C_1"/>
          <p:cNvPicPr/>
          <p:nvPr/>
        </p:nvPicPr>
        <p:blipFill>
          <a:blip r:embed="rId1"/>
          <a:stretch/>
        </p:blipFill>
        <p:spPr>
          <a:xfrm>
            <a:off x="755640" y="260280"/>
            <a:ext cx="3035160" cy="640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mso4B26C_2"/>
          <p:cNvPicPr/>
          <p:nvPr/>
        </p:nvPicPr>
        <p:blipFill>
          <a:blip r:embed="rId2"/>
          <a:stretch/>
        </p:blipFill>
        <p:spPr>
          <a:xfrm>
            <a:off x="5076720" y="1844640"/>
            <a:ext cx="2838600" cy="4422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еревод М.Ю.Лермонтова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Какая из картин, «Выход зверей» или «Сошествие юноши», Видится отчетливе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Каков юноша в финал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so9971E_"/>
          <p:cNvPicPr/>
          <p:nvPr/>
        </p:nvPicPr>
        <p:blipFill>
          <a:blip r:embed="rId1"/>
          <a:stretch/>
        </p:blipFill>
        <p:spPr>
          <a:xfrm>
            <a:off x="592200" y="1341360"/>
            <a:ext cx="3919320" cy="511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равним переводы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Какой из переводов произвел на Вас более сильное впечатление и почем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В каком из переводов, по Вашему мнению, дама более коварн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Ритм немецкого текста и переводов совпадает? Почем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Литературоведческие понятия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вод художественный – воспроизведение литературного сочинения на другом языке, учитывающее особенности и того и другого языка, и литературные традиции народов и сохраняющее авторскую уникальность текст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чают ли данные переводы приведенному определению? Свое мнение обоснуй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огласны ли Вы с мыслью В.А.Жуковского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Переводчик в прозе есть раб, переводчик в стихах – соперник…прекрасное редко переходит из одного языка в другой, не утратив нисколько своего совершенства: что же обязан делать переводчик? Находить у себя в воображении такие красоты, которые бы могли служить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меною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следовательно производить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бственно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равно и превосходное: не значит ли это быть творцом?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Устное словесное рисование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«Выход зверей» (повадки, подчеркнутые в перевода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Почему Делорж бросает перчатку в лицо красавице? Опишите рыцаря, когда он говорит: «Не требую награ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Какой эпизод Вам хотелось бы проиллюстрировать? Почем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ллюстрация к балладе Ф.Шиллера «Перчатка» Мазеля (Рувима) Ильи Моисеевича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(1946 Г. Холст, масло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й эпизод выбран художником? Почем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перчатка"/>
          <p:cNvPicPr/>
          <p:nvPr/>
        </p:nvPicPr>
        <p:blipFill>
          <a:blip r:embed="rId1"/>
          <a:stretch/>
        </p:blipFill>
        <p:spPr>
          <a:xfrm>
            <a:off x="657360" y="1676520"/>
            <a:ext cx="3816360" cy="48481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одведение итогов урока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Что такое баллада? Проиллюстрируйте определение текст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Чем подстрочный перевод отличается от художественного, а прозаический от поэтическог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В чем Вы увидели сложность сравнения переводов В.А.Жуковского и М.Ю.Лермонтов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ашнее задание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Выписать определения баллады и перевода и выучить 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Создать свой поэтический перевод понравившегося эпизода ( сильные учащиеся делают поэтический перевод всей баллады как конкурсная рабо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Оформить свой перевод собственными иллюстрац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ем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«Введение литературоведческих понятий баллады и поэтического перевода путем сравнительного анализа текстов «Перчатки» Ф.Шиллера, В.А.Жуковского, М.Ю.Лермонтова и «подстрочник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Учитель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ликовская Е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Цели и задачи урока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Введение понятий баллады, литературного перевода(прозаического и поэт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Развитие умения сравнительного анализа произвед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Формирование навыков видения индивидуальных особенностей лич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Развитие творческих способност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Домашнее задание к данному уроку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Повторить кратко биографии Ф.Шиллера, В.А.Жуковского, М.Ю.Лермонто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Подготовить выразительное чтение баллады Ф.Шиллера «Перчатка» на немецком языке (индивидуально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Сделать подстрочный перевод баллады с немецкого языка на русс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msoBD828_2"/>
          <p:cNvPicPr/>
          <p:nvPr/>
        </p:nvPicPr>
        <p:blipFill>
          <a:blip r:embed="rId1"/>
          <a:stretch/>
        </p:blipFill>
        <p:spPr>
          <a:xfrm>
            <a:off x="6064200" y="1268280"/>
            <a:ext cx="2908440" cy="511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soBD828_1"/>
          <p:cNvPicPr/>
          <p:nvPr/>
        </p:nvPicPr>
        <p:blipFill>
          <a:blip r:embed="rId2"/>
          <a:stretch/>
        </p:blipFill>
        <p:spPr>
          <a:xfrm>
            <a:off x="3132000" y="1268280"/>
            <a:ext cx="2905200" cy="511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Литературоведческие понятия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ллада - к 18-19 векам жанр лиро-эпического стихотворения легендарно-героического содержания драматического, а порой и трагического характе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ллада родилась в 13 веке в Провансе как лирическая хороводная песня любовного содержания с обязательным рефреном (повторяющийся припев).Позже постепенно отделилась от пляски и приобрела вид, известный нам сегод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Соответствует ли, по Вашему мнению, содержание баллады Ф.Шиллера данному определению?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87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ое мнение обоснуй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Ф.Шиллер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3" descr="mso77CCD_"/>
          <p:cNvPicPr/>
          <p:nvPr/>
        </p:nvPicPr>
        <p:blipFill>
          <a:blip r:embed="rId1"/>
          <a:stretch/>
        </p:blipFill>
        <p:spPr>
          <a:xfrm>
            <a:off x="2644920" y="1268280"/>
            <a:ext cx="3182760" cy="5430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Портрет 23"/>
          <p:cNvPicPr/>
          <p:nvPr/>
        </p:nvPicPr>
        <p:blipFill>
          <a:blip r:embed="rId2"/>
          <a:stretch/>
        </p:blipFill>
        <p:spPr>
          <a:xfrm>
            <a:off x="47520" y="1268280"/>
            <a:ext cx="2549520" cy="302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C7562_"/>
          <p:cNvPicPr/>
          <p:nvPr/>
        </p:nvPicPr>
        <p:blipFill>
          <a:blip r:embed="rId3"/>
          <a:stretch/>
        </p:blipFill>
        <p:spPr>
          <a:xfrm>
            <a:off x="5867280" y="2276640"/>
            <a:ext cx="3114720" cy="3966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.А.Жуковский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3" descr="msoCE0DC_1"/>
          <p:cNvPicPr/>
          <p:nvPr/>
        </p:nvPicPr>
        <p:blipFill>
          <a:blip r:embed="rId1"/>
          <a:stretch/>
        </p:blipFill>
        <p:spPr>
          <a:xfrm>
            <a:off x="755640" y="115920"/>
            <a:ext cx="2519280" cy="659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msoCE0DC_2"/>
          <p:cNvPicPr/>
          <p:nvPr/>
        </p:nvPicPr>
        <p:blipFill>
          <a:blip r:embed="rId2"/>
          <a:stretch/>
        </p:blipFill>
        <p:spPr>
          <a:xfrm>
            <a:off x="4356000" y="1844640"/>
            <a:ext cx="2749680" cy="4757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еревод В.А.Жуковского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едвещает ли начало повести ее дальнейшее драматическое развит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Почему улыбка красавицы названа «лицемерной и колкой»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mso93AF8_"/>
          <p:cNvPicPr/>
          <p:nvPr/>
        </p:nvPicPr>
        <p:blipFill>
          <a:blip r:embed="rId1"/>
          <a:stretch/>
        </p:blipFill>
        <p:spPr>
          <a:xfrm>
            <a:off x="971640" y="1341360"/>
            <a:ext cx="3454200" cy="522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2:09:43Z</dcterms:created>
  <dc:creator>Vladimir</dc:creator>
  <dc:description/>
  <dc:language>en-US</dc:language>
  <cp:lastModifiedBy>женя</cp:lastModifiedBy>
  <dcterms:modified xsi:type="dcterms:W3CDTF">2012-06-21T17:39:12Z</dcterms:modified>
  <cp:revision>45</cp:revision>
  <dc:subject/>
  <dc:title>Куликовская Евгения Анатолье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