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146-9D5A-4689-A569-B714EA8F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8F5-7083-452A-BCA5-474979F3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5BC-DE41-4F2C-AB3D-28E4679D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2FE-3CBD-4EDF-BC3A-54B86D87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FA7-CA9D-4AF1-8604-A7012F08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DC2-3939-4730-854B-17BC5BAD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BD5-B44D-44B2-82E6-28A2250E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EF6-FB9B-47E4-A513-4B1DE6AB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9CC-2359-49AB-98DE-378B4DB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61A-27A9-4FEE-8856-710579E0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E51-928D-4129-B4D5-00CD37BD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03C-A173-43FB-AE7A-4CA76A9F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1BA0-ED5C-45EB-83E9-0DB48CDFC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5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Выполнили работу ученицы 8 В класса </a:t>
            </a: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Приходько Диана и Ткаченко Оль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979640" y="765000"/>
            <a:ext cx="51847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нковск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ераци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d0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современные банки имеют очень древнюю предыстор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 начиналось все с обычных ростовщ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и вс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5720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00080.GIF"/>
          <p:cNvPicPr/>
          <p:nvPr/>
        </p:nvPicPr>
        <p:blipFill>
          <a:blip r:embed="rId1"/>
          <a:stretch/>
        </p:blipFill>
        <p:spPr>
          <a:xfrm>
            <a:off x="3170160" y="2036880"/>
            <a:ext cx="316404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Цели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Как давно зародилось ростовщи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знакомиться с видами процентов, начисляемых бан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знакомиться с понятиями используемых в бан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rial"/>
              </a:rPr>
              <a:t>Пл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йти литературу по интересующему вопр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Изучить и сделать отбор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знакомить слушателей с материа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Уже  в далёкой древности широко было распространено ростовщичество-выдача денег под проценты. Разность между той суммой, которую возвращали ростовщику, и той, которую первоначально взяли у него, называлась лихвой. Так, в Древнем Вавилоне она составляла 20% и более! Это означало, что ремесленник, взявший у ростовщика 1000 денежных   единиц сроком на год, возвращал ему по прошествии года не менее 1200 этих же единиц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Известно, что в 14-15 вв. в Западной Европе широко распространялись банки-учреждения, которые давали деньги в долг князьям, купцам, ремесленникам, финансировали дальние путешествия, завоевательные походы и т. д. Конечно, банки давали деньги не бескорыстно: за пользование представленными деньгами они брали плату, как и ростовщики древности. Эта плата выражалась в обычном в виде процентов к величине выданных в долг денег.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остые процен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вкла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 схеме простых процентов характеризуется тем, что суммы процентов в течение всего срока хранения определяются исходя только из первоначальной суммы вкл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независимо от срока хранения и количества начисления проц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вкладчик открыл сберегательный счет и положил на н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рублей. Пусть банк обязуется выплачивать вкладчику в конце каждого год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первоначальной сум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 Тогда по истечении одного года сумма начисленных процентов составля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100 рублей и величина вклада станет равн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So(1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) рублей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довой процентной ста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 прошествии одного года вкладчик снимет со счета начисленные процен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10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умм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тавит, в банк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вь начисля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100 рублей, а за два года начисленные проценты составят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100 рублей, через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на кладе по формуле простого процента будет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=So(1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ложные проц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ругой способ расчета банка с вкладчиком. Он состоит в следующем: если вкладчик не снимает со счета сумму начисленных процентов, то эта сумма присоединяется к основному вкладу, а в конце следующего года банк будет начислят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же на новую, увеличенную сумму. Это означает, что банк станет теперь начислять проценты не только на основной вклад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но и на проценты, которые на него полагаются. Такой способ начисления «процентов на проценты» называют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жными проц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=1,2,3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1908000" y="5157720"/>
                <a:ext cx="34578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Современные банки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х, кто берет в долг деньги в банке, называют   заемщиками, а ссуду,  т. е. величину взятых у банка денег, называют  кредитором. Основную часть тех денег. Которые банки выдают заемщикам. Составляют деньги вкладчиков, которые они вносят в банк на хранение. Часть прибыли, которую получает банк, он передает вкладчикам в виде платы за пользование их деньгами. Эта плата также обычно выражается в процентах к величине вклада. Таким образом, средства, помещенные на хранение в банк, через определенный период времени приносит некоторый доход, равный сумме начисленных за этот период процент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так, с одной  стороны, банки принимают вклады и платят по этим вкладам проценты вкладчикам, с другой- дают кредиты заемщикам и получают от них проценты за пользование этими деньгами. Разность между той суммой, которую получает банк от заемщиков за предоставленные кредиты, и той, которую он платит по вкладам и составляет прибыль банка. Таким образом, банк является финансовым посредником между кладчиками и заемщика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знакомимся с понят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ор-(англ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or)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 или организация, предоставляющие денежные средства, имущество во временное поль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емщик - тот, кто берет деньги в долг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ие операции – это ряд связанных между собой постоянных действий, которые выполняет ба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6:19:01Z</dcterms:created>
  <dc:creator>User</dc:creator>
  <dc:description/>
  <dc:language>en-US</dc:language>
  <cp:lastModifiedBy>User</cp:lastModifiedBy>
  <dcterms:modified xsi:type="dcterms:W3CDTF">2007-12-21T03:35:05Z</dcterms:modified>
  <cp:revision>8</cp:revision>
  <dc:subject/>
  <dc:title>Выполнили работу ученицы 8 В класса  Приходько Диана и Ткаченко Ольга</dc:title>
</cp:coreProperties>
</file>