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F71-3692-4CC8-9080-01D1CA04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001-3B23-45EA-B70E-A72F04F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3CC-C809-4E24-A45B-6C5E6B2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A4E-21FE-4A16-BFBF-D11F7C64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C505-4F56-4A98-A53B-EAEC6125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EC9-5154-42B7-8131-10D8573B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C2B-E9F1-4958-A01A-681FF904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5E9-5D35-416A-A9E4-3090FE0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987C-C655-4494-9961-A939252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D43-9AC9-4862-8543-A50B494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9A0-27A7-483A-B36F-EA8FF97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C1E-E69A-40D5-B234-E17117A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0F68-5E40-4598-BB94-2B9D4AB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9002-0D8D-4EEE-9302-BBB3B13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029-F752-4F63-B501-C669A66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5CE-0B12-4014-B2D7-D285D28C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022-912E-4C04-8355-42738A5A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BB1-2DAC-470F-98B0-7196905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1D4-4382-46DC-87D3-6DDC4CC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11A-87AE-44A5-9506-D60CB17B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4BE-EA81-46D0-B332-F85ECBF3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562-936C-42A1-BDEC-C1A1827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5F1-86B3-4B9F-99DE-E285931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434-D85A-416C-A60C-11C9777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6AA9-DE21-4B82-8538-CBADB4845B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EEB0-FAC3-467F-A2B6-6EADC9CCB910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4"/>
          <p:cNvSpPr txBox="1"/>
          <p:nvPr/>
        </p:nvSpPr>
        <p:spPr>
          <a:xfrm>
            <a:off x="838080" y="457200"/>
            <a:ext cx="74678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нты 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повседневной жизни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4952880"/>
            <a:ext cx="7239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аботу выполнили учащиеся 8 А класса, члены математического кружка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льченко Ю, Лазарева Е, Молочева А, Лопатина 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Этикет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.Сгущённое молоко: масса 380 гр., в составе 9 % жира , 0,9 % молочного жира, 52 5 углеводов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2.Лекарство «Корвалол» : в составе спирт этиловый – 95 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3.Майонез «Провансаль»: масса 250 гр., в составе 67% жира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4.Носки: 70% хлопок+30% эластик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Носки шерстяные: 60% шерсть+40% элас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5. Колготки №12, №13: 100% хлопо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 №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4-№22: 70% хлопок+30% элас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6. Порошок: хранение при относительной влажности воздуха не выше 95%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7. Мыло: хранение при относительной влажности не выше 75%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8. Моющее средство( фери)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                     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Состав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. Ионные ПАВ-15-30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2. Нионогенные ПАВ- не менее 5%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3. Консерванты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pg3eo010"/>
          <p:cNvPicPr/>
          <p:nvPr/>
        </p:nvPicPr>
        <p:blipFill>
          <a:blip r:embed="rId1"/>
          <a:stretch/>
        </p:blipFill>
        <p:spPr>
          <a:xfrm>
            <a:off x="2895480" y="4267080"/>
            <a:ext cx="31244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ухгалтерия отдела образова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ков процент  посещаемости детей дошкольных  учреждений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ля подсчёта процентной посещаемости детей в детском саду нужно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) 20*20дней=400д/день( должно быть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2) 20*13дней=260д/день(фактически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3) Фактическая посещаемость: 260/400*100=65%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твет: посещаемость детей в детском саду 65%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ругие учреждения и организации использующие понятие «процент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Дошкольные учрежде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Магази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3.Медици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4.Учреждения сферы питания и сферы обслуживан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5.Рейтинг выдающихся люде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6.В банках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6" descr="11"/>
          <p:cNvPicPr/>
          <p:nvPr/>
        </p:nvPicPr>
        <p:blipFill>
          <a:blip r:embed="rId1"/>
          <a:stretch/>
        </p:blipFill>
        <p:spPr>
          <a:xfrm>
            <a:off x="7086600" y="50292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Частные, немного противоречивые выводы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енивый среднестатистический человек может прожить без понятия «процент». При этом иногда он будет ощущать себя не очень комфортно, так как не сможет воспринимать некоторую информацию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которые категории людей обязаны владеть этим понятием, это требование професс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реднестатистическому человеку нужно владеть понятием «процент», чтобы уметь правильно считывать и воспринимать различную информаци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442440"/>
            <a:ext cx="76294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Окончательный вывод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ипотеза не подтвердилас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ка что понятию «процент» нет альтернативы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начит, понятие «процент» должно изучаться в курсе школьной программ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Этим понятием должны владеть все культурные люд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baby06"/>
          <p:cNvPicPr/>
          <p:nvPr/>
        </p:nvPicPr>
        <p:blipFill>
          <a:blip r:embed="rId1"/>
          <a:stretch/>
        </p:blipFill>
        <p:spPr>
          <a:xfrm>
            <a:off x="6781680" y="5514840"/>
            <a:ext cx="1905120" cy="115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 Black"/>
              </a:rPr>
              <a:t>Гипотеза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990720" y="167652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ловеку можн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жить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без  «процентов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ыяснить, где и кем используется понятие «процент» в современной жизни, на сколько это важно и нужно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2362320" y="53352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работ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План работы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яснить, используется ли понятие «процент»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работников железнодорожной станц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работников школ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бухгалтер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ля характеристики товаров повседневного спрос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яснить другие учреждения и организации, использующие понятие«процент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делать выво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спользование процентов в школе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Нахождение процента качества учащихся данного клас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Нахождение процента успеваемости данного клас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УДИВИТЕЛЬНОЕ РЯДОМ!"/>
          <p:cNvPicPr/>
          <p:nvPr/>
        </p:nvPicPr>
        <p:blipFill>
          <a:blip r:embed="rId1"/>
          <a:stretch/>
        </p:blipFill>
        <p:spPr>
          <a:xfrm>
            <a:off x="3429000" y="4876920"/>
            <a:ext cx="21337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а  №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классе 20 человек.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четверть на «4»и «5» закончили 10 человек. Каков процент качества успеваемости учащихся 8 А класса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шение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исло учащихся на «4» и «5» делим на число всех учащихся класса и умножаем на 100 %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0/20 * 100%= 0.5 * 100%= 50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вет: Процент качества учащихся 8 А 50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a2b65e76af0d72fc2dfd48baf7b3ac3d"/>
          <p:cNvPicPr/>
          <p:nvPr/>
        </p:nvPicPr>
        <p:blipFill>
          <a:blip r:embed="rId1"/>
          <a:stretch/>
        </p:blipFill>
        <p:spPr>
          <a:xfrm>
            <a:off x="5867280" y="152280"/>
            <a:ext cx="3505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8А классе за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етверть по биологии получил двойку  один ученик. Каков процент успеваемости учащихся этого класса по биологии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шение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исло учащихся не получивших двойки делим на число всех учащихся класса и умножить на 100 %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19/20 )* 100 % = 0.95 * 100 % = 95 %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вет: Процент успеваемости учащихся по биологии 95 %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1f08"/>
                </a:solidFill>
                <a:latin typeface="Arial Black"/>
              </a:rPr>
              <a:t>Использование процентов служащими железнодорожной станции </a:t>
            </a:r>
            <a:br>
              <a:rPr sz="2400"/>
            </a:br>
            <a:r>
              <a:rPr b="0" lang="ru-RU" sz="2400" spc="-1" strike="noStrike">
                <a:solidFill>
                  <a:srgbClr val="fe1f08"/>
                </a:solidFill>
                <a:latin typeface="Arial Black"/>
              </a:rPr>
              <a:t>с. Екатеринослав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рганизация ОАО Бытсервис ООО Гортоп занимается продажей угля. С покупателя берётся налог 18 % от стоимости. На складе 1 тонна угля без налога стоит 336 ,02 рубля. Сколько рублей составит налог с 1 тонны проданного угля ? Сколько рублей заплатит покупатель за 1 тонну , за 7 тонн угля ( вместе с налогом 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ешение задач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 тонна без налога : 336,02 рублей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ог : 18 % = 0,18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ешение: 0,18 * 336,02= 396,50 рублей-налог с 1 тонны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0,48 + 336,02 = 396,50 (руб. 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оимость угля с налогом за 1 тонн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вет: налог составляет :60,48 рублей, стоимость угля с налогом = 396,50 рублей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 тонна угля без налога : 336,02 руб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ог :60,48 руб.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0,48 + 336,02= 396,50 ( руб. )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96.50 * 7 = 2775,50 ( руб.) Стоимость 7 тонн угля с налогом 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вет: стоимость 7 тонн угля составляет 2775,50 рубл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0T14:04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