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21C-DE31-4D38-A45D-D74F26E3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0458-A21C-4D64-977A-6995E3C2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21B-C8B5-4CAF-9DB0-F928DEB8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23D9-6154-49AF-9E16-789BD957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C012-755B-464D-9AF0-0E46814E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93FC-C969-421E-B98E-94C6269C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87C4-86D3-427A-9E86-9E8CEF7B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52D6-1046-4F24-B00A-1675A90B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2327-7481-414D-8615-78535CD9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DAF5-1A86-4C7B-AE8C-1711AFE6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FBB1-C98C-45BE-86FA-C5D048AA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943-B969-4EDA-B6A0-45E57744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8728-5804-4AF7-BD39-0AAFF8BC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333A-3F1B-41F2-B5E1-6E1B2AF2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2174-FBE0-4280-A5DB-45322FB1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6664-C291-4BB9-A78E-8D6EA6FF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75E3-E21A-499F-8200-158A0AD1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2C1-EF7E-4FD4-B89A-18651757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951-EC10-4CE2-A33C-1E7DEFB8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1858-26DC-4671-B6A2-A1744A0A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5322-7202-4A5B-B894-4CE4FEB1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876-E4B8-459D-A873-20BAB4C5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DD14-485A-496B-949A-80BCACB4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C95-6F99-42D8-9D5B-863C753B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8806-E62B-4E5D-9089-B0AEFFD112F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B2CF-857D-422F-9B40-10B4C3F87F6C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WordArt 4"/>
          <p:cNvSpPr txBox="1"/>
          <p:nvPr/>
        </p:nvSpPr>
        <p:spPr>
          <a:xfrm>
            <a:off x="838080" y="457200"/>
            <a:ext cx="746784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центы </a:t>
            </a:r>
            <a:endParaRPr b="0" lang="en-US" sz="1800" spc="1" strike="noStrike">
              <a:ln w="12600">
                <a:solidFill>
                  <a:srgbClr val="003366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повседневной жизни</a:t>
            </a:r>
            <a:endParaRPr b="0" lang="en-US" sz="1800" spc="1" strike="noStrike">
              <a:ln w="12600">
                <a:solidFill>
                  <a:srgbClr val="003366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4952880"/>
            <a:ext cx="7239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H</a:t>
            </a: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аботу выполнили учащиеся 8 А класса, члены математического кружка: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Рыльченко Ю, Лазарева Е, Молочева А, Лопатина Е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Характеристика товаров повседневного спрос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Этикетки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1.Сгущённое молоко: масса 380 гр., в составе 9 % жира , 0,9 % молочного жира, 52 5 углеводов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2.Лекарство «Корвалол» : в составе спирт этиловый – 95 %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3.Майонез «Провансаль»: масса 250 гр., в составе 67% жира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4.Носки: 70% хлопок+30% эластик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Характеристика товаров повседневного спрос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Носки шерстяные: 60% шерсть+40% эластик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5. Колготки №12, №13: 100% хлопок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   №</a:t>
            </a: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14-№22: 70% хлопок+30% эластик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6. Порошок: хранение при относительной влажности воздуха не выше 95%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7. Мыло: хранение при относительной влажности не выше 75%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Характеристика товаров повседневного спрос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8. Моющее средство( фери)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                         </a:t>
            </a: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Состав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1. Ионные ПАВ-15-30%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2. Нионогенные ПАВ- не менее 5%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  </a:t>
            </a: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3. Консерванты.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Picture 4" descr="pg3eo010"/>
          <p:cNvPicPr/>
          <p:nvPr/>
        </p:nvPicPr>
        <p:blipFill>
          <a:blip r:embed="rId1"/>
          <a:stretch/>
        </p:blipFill>
        <p:spPr>
          <a:xfrm>
            <a:off x="2895480" y="4267080"/>
            <a:ext cx="312444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Бухгалтерия отдела образован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аков процент  посещаемости детей дошкольных  учреждений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ля подсчёта процентной посещаемости детей в детском саду нужно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1) 20*20дней=400д/день( должно быть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2) 20*13дней=260д/день(фактически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3) Фактическая посещаемость: 260/400*100=65%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твет: посещаемость детей в детском саду 65%.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ll dir="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7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0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3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6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9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Другие учреждения и организации использующие понятие «процент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.Дошкольные учреждени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2.Магазины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3.Медицин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4.Учреждения сферы питания и сферы обслуживания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5.Рейтинг выдающихся людей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6.В банках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Picture 6" descr="11"/>
          <p:cNvPicPr/>
          <p:nvPr/>
        </p:nvPicPr>
        <p:blipFill>
          <a:blip r:embed="rId1"/>
          <a:stretch/>
        </p:blipFill>
        <p:spPr>
          <a:xfrm>
            <a:off x="7086600" y="5029200"/>
            <a:ext cx="18288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Частные, немного противоречивые выводы: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Ленивый среднестатистический человек может прожить без понятия «процент». При этом иногда он будет ощущать себя не очень комфортно, так как не сможет воспринимать некоторую информацию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екоторые категории людей обязаны владеть этим понятием, это требование професси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реднестатистическому человеку нужно владеть понятием «процент», чтобы уметь правильно считывать и воспринимать различную информацию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280" y="442440"/>
            <a:ext cx="762948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 Black"/>
              </a:rPr>
              <a:t>Окончательный вывод.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ипотеза не подтвердилась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ока что понятию «процент» нет альтернативы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Значит, понятие «процент» должно изучаться в курсе школьной программ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Этим понятием должны владеть все культурные люд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7" name="Picture 7" descr="baby06"/>
          <p:cNvPicPr/>
          <p:nvPr/>
        </p:nvPicPr>
        <p:blipFill>
          <a:blip r:embed="rId1"/>
          <a:stretch/>
        </p:blipFill>
        <p:spPr>
          <a:xfrm>
            <a:off x="6781680" y="5514840"/>
            <a:ext cx="1905120" cy="1152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66"/>
                </a:solidFill>
                <a:latin typeface="Arial Black"/>
              </a:rPr>
              <a:t>Гипотеза: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WordArt 5"/>
          <p:cNvSpPr txBox="1"/>
          <p:nvPr/>
        </p:nvSpPr>
        <p:spPr>
          <a:xfrm>
            <a:off x="990720" y="1676520"/>
            <a:ext cx="58672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еловеку можно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жить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без  «процентов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выяснить, где и кем используется понятие «процент» в современной жизни, на сколько это важно и нужно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WordArt 5"/>
          <p:cNvSpPr txBox="1"/>
          <p:nvPr/>
        </p:nvSpPr>
        <p:spPr>
          <a:xfrm>
            <a:off x="2362320" y="533520"/>
            <a:ext cx="41148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работы: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План работы: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ыяснить, используется ли понятие «процент»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У работников железнодорожной станции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У работников школы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У бухгалтеров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Для характеристики товаров повседневного спрос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ыяснить другие учреждения и организации, использующие понятие«процент»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Сделать выводы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Использование процентов в школе.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1.Нахождение процента качества учащихся данного класс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2.Нахождение процента успеваемости данного класс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Picture 4" descr="УДИВИТЕЛЬНОЕ РЯДОМ!"/>
          <p:cNvPicPr/>
          <p:nvPr/>
        </p:nvPicPr>
        <p:blipFill>
          <a:blip r:embed="rId1"/>
          <a:stretch/>
        </p:blipFill>
        <p:spPr>
          <a:xfrm>
            <a:off x="3429000" y="4876920"/>
            <a:ext cx="213372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Задача  №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классе 20 человек.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четверть на «4»и «5» закончили 10 человек. Каков процент качества успеваемости учащихся 8 А класса?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ешение 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Число учащихся на «4» и «5» делим на число всех учащихся класса и умножаем на 100 %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10/20 * 100%= 0.5 * 100%= 50%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твет: Процент качества учащихся 8 А 50%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Picture 4" descr="a2b65e76af0d72fc2dfd48baf7b3ac3d"/>
          <p:cNvPicPr/>
          <p:nvPr/>
        </p:nvPicPr>
        <p:blipFill>
          <a:blip r:embed="rId1"/>
          <a:stretch/>
        </p:blipFill>
        <p:spPr>
          <a:xfrm>
            <a:off x="5867280" y="152280"/>
            <a:ext cx="350532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Задача №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8А классе за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 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четверть по биологии получил двойку  один ученик. Каков процент успеваемости учащихся этого класса по биологии?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Решение 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Число учащихся не получивших двойки делим на число всех учащихся класса и умножить на 100 %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(19/20 )* 100 % = 0.95 * 100 % = 95 %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Ответ: Процент успеваемости учащихся по биологии 95 %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1f08"/>
                </a:solidFill>
                <a:latin typeface="Arial Black"/>
              </a:rPr>
              <a:t>Использование процентов служащими железнодорожной станции </a:t>
            </a:r>
            <a:br>
              <a:rPr sz="2400"/>
            </a:br>
            <a:r>
              <a:rPr b="0" lang="ru-RU" sz="2400" spc="-1" strike="noStrike">
                <a:solidFill>
                  <a:srgbClr val="fe1f08"/>
                </a:solidFill>
                <a:latin typeface="Arial Black"/>
              </a:rPr>
              <a:t>с. Екатеринославк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1f08"/>
                </a:solidFill>
                <a:latin typeface="Arial Black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рганизация ОАО Бытсервис ООО Гортоп занимается продажей угля. С покупателя берётся налог 18 % от стоимости. На складе 1 тонна угля без налога стоит 336 ,02 рубля. Сколько рублей составит налог с 1 тонны проданного угля ? Сколько рублей заплатит покупатель за 1 тонну , за 7 тонн угля ( вместе с налогом )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Решение задачи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1 тонна без налога : 336,02 рублей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Налог : 18 % = 0,18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Решение: 0,18 * 336,02= 396,50 рублей-налог с 1 тонны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60,48 + 336,02 = 396,50 (руб. 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Стоимость угля с налогом за 1 тонну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твет: налог составляет :60,48 рублей, стоимость угля с налогом = 396,50 рублей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1 тонна угля без налога : 336,02 руб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Налог :60,48 руб.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60,48 + 336,02= 396,50 ( руб. )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396.50 * 7 = 2775,50 ( руб.) Стоимость 7 тонн угля с налогом 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твет: стоимость 7 тонн угля составляет 2775,50 рублей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20T14:04:26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