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554-74AB-45AA-9879-1E89C64F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98E-5980-4BE9-995A-20840B73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114-D094-4DBD-B302-7B78CAEB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7A8-C9ED-475F-AF40-35FE1E87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1AB-76CA-4CAA-80C3-FEE14362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943-1B7F-4ECF-8490-432F153C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554-DBAD-4233-9FD6-383A151C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415-CF9A-47EB-ACDC-51BF6F07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363-406F-4FCA-863A-DF21C653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229-6102-499F-B587-FC3EC68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5AB-DD34-442C-98C1-BDEA3D8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3BD-A506-4C19-8659-E5D1C5F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B223-218B-4A17-B4B8-211623599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9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9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9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9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7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7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7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7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5812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пустыня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304920" y="3505320"/>
            <a:ext cx="2133360" cy="15951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9"/>
          <a:stretch/>
        </p:blipFill>
        <p:spPr>
          <a:xfrm>
            <a:off x="2209680" y="3809880"/>
            <a:ext cx="2286000" cy="169704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10"/>
          <a:stretch/>
        </p:blipFill>
        <p:spPr>
          <a:xfrm>
            <a:off x="533520" y="4952880"/>
            <a:ext cx="1981080" cy="16131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31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46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60" name=""/>
          <p:cNvSpPr/>
          <p:nvPr/>
        </p:nvSpPr>
        <p:spPr>
          <a:xfrm flipV="1">
            <a:off x="7162920" y="22860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162920" y="22860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63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77" name=""/>
          <p:cNvSpPr/>
          <p:nvPr/>
        </p:nvSpPr>
        <p:spPr>
          <a:xfrm flipV="1">
            <a:off x="7162920" y="22860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7162920" y="22860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914400" y="243828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990720" y="243828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82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96" name=""/>
          <p:cNvSpPr/>
          <p:nvPr/>
        </p:nvSpPr>
        <p:spPr>
          <a:xfrm flipV="1">
            <a:off x="7162920" y="22860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7162920" y="22860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14400" y="243828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990720" y="243828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7009920" y="449568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010280" y="4572000"/>
            <a:ext cx="175284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600200" y="7621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2895480"/>
            <a:ext cx="1904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а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600200" y="7621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2895480"/>
            <a:ext cx="1904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а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380880" y="3276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352680" y="175248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600200" y="7621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920" y="2895480"/>
            <a:ext cx="1904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а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380880" y="3276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352680" y="175248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3200400" y="21337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0" y="34290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ос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1600200" y="7621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04920" y="2895480"/>
            <a:ext cx="1904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а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380880" y="3276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352680" y="175248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3200400" y="21337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3124080" y="3657600"/>
            <a:ext cx="1676520" cy="155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0" y="34290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ос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7-08T07:07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