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CA3-D699-4692-A8EB-F01E0AE5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1E5F-42E3-4C1E-8A27-E82E2227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497-1183-4CE7-8ABE-E9A636B6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B301-11B4-449D-BDEF-5F1BA336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784-2200-41C5-AD66-6D95B567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D82-5FF3-44C4-B44F-F72A275B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9D2-C7D8-4347-879E-1D643CEA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F565-8103-461E-BE25-950346D8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DF7-26BD-48C5-901D-E1571B77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AC1-0DED-43F0-BDCD-58ED9450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CDB-8ED9-4D06-8B07-1897D8F4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3E9-985C-4922-A46E-805EFD37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6267-A11D-45D5-B54E-FC022FF2A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7.jpeg"/><Relationship Id="rId10" Type="http://schemas.openxmlformats.org/officeDocument/2006/relationships/image" Target="../media/image22.jpeg"/><Relationship Id="rId11" Type="http://schemas.openxmlformats.org/officeDocument/2006/relationships/image" Target="../media/image9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7.jpeg"/><Relationship Id="rId10" Type="http://schemas.openxmlformats.org/officeDocument/2006/relationships/image" Target="../media/image22.jpeg"/><Relationship Id="rId11" Type="http://schemas.openxmlformats.org/officeDocument/2006/relationships/image" Target="../media/image9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7.jpeg"/><Relationship Id="rId10" Type="http://schemas.openxmlformats.org/officeDocument/2006/relationships/image" Target="../media/image22.jpeg"/><Relationship Id="rId11" Type="http://schemas.openxmlformats.org/officeDocument/2006/relationships/image" Target="../media/image9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1.jpeg"/><Relationship Id="rId6" Type="http://schemas.openxmlformats.org/officeDocument/2006/relationships/image" Target="../media/image8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7.jpeg"/><Relationship Id="rId10" Type="http://schemas.openxmlformats.org/officeDocument/2006/relationships/image" Target="../media/image22.jpeg"/><Relationship Id="rId11" Type="http://schemas.openxmlformats.org/officeDocument/2006/relationships/image" Target="../media/image9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7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7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7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7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7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914400"/>
            <a:ext cx="67053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Проверочная работа</a:t>
            </a:r>
            <a:endParaRPr b="0" lang="en-US" sz="1800" spc="1" strike="noStrike">
              <a:ln w="22320">
                <a:solidFill>
                  <a:srgbClr val="ff00ff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по биологии 6 класс</a:t>
            </a:r>
            <a:endParaRPr b="0" lang="en-US" sz="1800" spc="1" strike="noStrike">
              <a:ln w="22320">
                <a:solidFill>
                  <a:srgbClr val="ff00ff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природные зоны</a:t>
            </a:r>
            <a:endParaRPr b="0" lang="en-US" sz="1800" spc="1" strike="noStrike">
              <a:ln w="22320">
                <a:solidFill>
                  <a:srgbClr val="ff00ff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33920" y="5715000"/>
            <a:ext cx="520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читель МОУ "СОШ № 124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еревалова С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35812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(пустыня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8"/>
          <a:stretch/>
        </p:blipFill>
        <p:spPr>
          <a:xfrm>
            <a:off x="304920" y="3505320"/>
            <a:ext cx="2133360" cy="159516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9"/>
          <a:stretch/>
        </p:blipFill>
        <p:spPr>
          <a:xfrm>
            <a:off x="2209680" y="3809880"/>
            <a:ext cx="2286000" cy="169704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10"/>
          <a:stretch/>
        </p:blipFill>
        <p:spPr>
          <a:xfrm>
            <a:off x="533520" y="4952880"/>
            <a:ext cx="1981080" cy="161316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ждом ряду одно растение лишн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это раст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31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7906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9144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5029200" y="2438280"/>
            <a:ext cx="1793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6765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914400" y="4572000"/>
            <a:ext cx="17524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12"/>
          <a:stretch/>
        </p:blipFill>
        <p:spPr>
          <a:xfrm>
            <a:off x="70102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46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7906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9144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5029200" y="2438280"/>
            <a:ext cx="1793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6765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914400" y="4572000"/>
            <a:ext cx="17524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12"/>
          <a:stretch/>
        </p:blipFill>
        <p:spPr>
          <a:xfrm>
            <a:off x="70102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60" name=""/>
          <p:cNvSpPr/>
          <p:nvPr/>
        </p:nvSpPr>
        <p:spPr>
          <a:xfrm flipV="1">
            <a:off x="7162920" y="228600"/>
            <a:ext cx="17524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162920" y="228600"/>
            <a:ext cx="167616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63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7906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9144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5029200" y="2438280"/>
            <a:ext cx="1793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6765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914400" y="4572000"/>
            <a:ext cx="17524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70102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77" name=""/>
          <p:cNvSpPr/>
          <p:nvPr/>
        </p:nvSpPr>
        <p:spPr>
          <a:xfrm flipV="1">
            <a:off x="7162920" y="228600"/>
            <a:ext cx="17524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7162920" y="228600"/>
            <a:ext cx="167616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914400" y="2438280"/>
            <a:ext cx="17524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990720" y="2438280"/>
            <a:ext cx="167616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82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7906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9144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5029200" y="2438280"/>
            <a:ext cx="1793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6765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914400" y="4572000"/>
            <a:ext cx="17524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70102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96" name=""/>
          <p:cNvSpPr/>
          <p:nvPr/>
        </p:nvSpPr>
        <p:spPr>
          <a:xfrm flipV="1">
            <a:off x="7162920" y="228600"/>
            <a:ext cx="17524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7162920" y="228600"/>
            <a:ext cx="167616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914400" y="2438280"/>
            <a:ext cx="17524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990720" y="2438280"/>
            <a:ext cx="167616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7009920" y="449568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010280" y="4572000"/>
            <a:ext cx="175284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предложенных растений выберите только те, которые произрастают в тунд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ведите курсор мыши на рисунок, если ничего не происходит, значит вы выбрали не верный рису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742160" y="228600"/>
            <a:ext cx="1020960" cy="990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742160" y="228600"/>
            <a:ext cx="102096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5181480" y="3048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00600" y="7621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кати-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742160" y="228600"/>
            <a:ext cx="1020960" cy="99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5181480" y="3048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800600" y="7621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кати-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4724280" y="1066680"/>
            <a:ext cx="1600200" cy="1497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00200" y="380880"/>
            <a:ext cx="1905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742160" y="228600"/>
            <a:ext cx="102096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5181480" y="3048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800600" y="7621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кати-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4724280" y="1066680"/>
            <a:ext cx="1600200" cy="1497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00200" y="380880"/>
            <a:ext cx="1905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1600200" y="762120"/>
            <a:ext cx="1600200" cy="1676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2895480"/>
            <a:ext cx="1904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чаная а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742160" y="228600"/>
            <a:ext cx="1020960" cy="990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5181480" y="3048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800600" y="7621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кати-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4724280" y="1066680"/>
            <a:ext cx="1600200" cy="1497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00200" y="380880"/>
            <a:ext cx="1905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1600200" y="762120"/>
            <a:ext cx="1600200" cy="1676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2895480"/>
            <a:ext cx="1904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чаная а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380880" y="32767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352680" y="175248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2160" y="228600"/>
            <a:ext cx="1020960" cy="990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5181480" y="3048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800600" y="7621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кати-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4724280" y="1066680"/>
            <a:ext cx="1600200" cy="1497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00200" y="380880"/>
            <a:ext cx="1905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600200" y="762120"/>
            <a:ext cx="16002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04920" y="2895480"/>
            <a:ext cx="1904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чаная а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380880" y="32767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352680" y="175248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3200400" y="21337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86000" y="342900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чаная ос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78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кс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152280"/>
            <a:ext cx="3124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усты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181480" y="3048120"/>
            <a:ext cx="1676520" cy="15476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800600" y="7621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кати-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4724280" y="1066680"/>
            <a:ext cx="1600200" cy="1497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600200" y="380880"/>
            <a:ext cx="1905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блюжья колю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1600200" y="762120"/>
            <a:ext cx="1600200" cy="1676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04920" y="2895480"/>
            <a:ext cx="1904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чаная ак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9"/>
          <a:stretch/>
        </p:blipFill>
        <p:spPr>
          <a:xfrm>
            <a:off x="380880" y="32767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352680" y="175248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3200400" y="21337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1"/>
          <a:stretch/>
        </p:blipFill>
        <p:spPr>
          <a:xfrm>
            <a:off x="3124080" y="3657600"/>
            <a:ext cx="1676520" cy="155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0" y="3429000"/>
            <a:ext cx="1600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счаная ос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7-08T07:07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