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A06E-CEAA-4120-9653-F5EDB02A6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691D-5954-492C-9541-85E036F6E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2EB3-3FCE-4F40-8321-A66D830DA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FE74-C93C-45D2-8894-6CD34C76F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E8E4-C12E-404A-B686-FD814EBD5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5673-E17F-471C-AD0E-31D498173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4026-1071-4BB9-8F05-DCF08415A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9590-0CC1-467F-A54B-E24F73E17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D262-1FCE-4989-AC2F-693856EFD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D545-52A2-4BD6-B1ED-C1C74686C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2E30-A131-4326-8B1A-8BBC3A0A1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C5B3-4A52-44C8-8D11-AE912EB0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21929-31DE-48EC-9B03-CD7AC4A55B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3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15.jpeg"/><Relationship Id="rId12" Type="http://schemas.openxmlformats.org/officeDocument/2006/relationships/image" Target="../media/image16.jpe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99ff99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219320" y="914400"/>
            <a:ext cx="670536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ff00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Проверочная работа</a:t>
            </a:r>
            <a:endParaRPr b="0" lang="en-US" sz="1800" spc="1" strike="noStrike">
              <a:ln w="22320">
                <a:solidFill>
                  <a:srgbClr val="ff00ff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ff00ff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Arial"/>
              </a:rPr>
              <a:t>по биологии 6 класс</a:t>
            </a:r>
            <a:endParaRPr b="0" lang="en-US" sz="1800" spc="1" strike="noStrike">
              <a:ln w="22320">
                <a:solidFill>
                  <a:srgbClr val="ff00ff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ff00ff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Arial"/>
              </a:rPr>
              <a:t>природные зоны</a:t>
            </a:r>
            <a:endParaRPr b="0" lang="en-US" sz="1800" spc="1" strike="noStrike">
              <a:ln w="22320">
                <a:solidFill>
                  <a:srgbClr val="ff00ff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733920" y="5715000"/>
            <a:ext cx="52099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учитель МОУ "СОШ № 124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Перевалова С.В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800600" y="3581280"/>
            <a:ext cx="32004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(cаванна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914040" y="129492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з предложенных растений выберите только те, которые произрастают в тундр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аведите курсор мыши на рисунок, если ничего не происходит, значит вы выбрали не верный рисуно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620120" cy="5562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696080" y="15228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96080" y="144792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696080" y="2743200"/>
            <a:ext cx="1143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696080" y="3962520"/>
            <a:ext cx="1143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248520" y="5638680"/>
            <a:ext cx="12189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80060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35268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905120" y="5638680"/>
            <a:ext cx="12189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696080" y="5181480"/>
            <a:ext cx="114300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52280"/>
            <a:ext cx="1447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380880"/>
            <a:ext cx="31240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аван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5638680"/>
            <a:ext cx="1219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324480" y="5715000"/>
            <a:ext cx="1067040" cy="8380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429000" y="57150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7772400" y="15238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457200" y="5715000"/>
            <a:ext cx="10666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 каждом ряду одно растение лишне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йдите это расте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162920" y="228600"/>
            <a:ext cx="167796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sp>
        <p:nvSpPr>
          <p:cNvPr id="64" name=""/>
          <p:cNvSpPr txBox="1"/>
          <p:nvPr/>
        </p:nvSpPr>
        <p:spPr>
          <a:xfrm>
            <a:off x="228600" y="685800"/>
            <a:ext cx="457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1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28600" y="2590920"/>
            <a:ext cx="457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28600" y="4724280"/>
            <a:ext cx="4572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3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914400" y="2438280"/>
            <a:ext cx="179064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5105520" y="228600"/>
            <a:ext cx="182880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2971800" y="228600"/>
            <a:ext cx="182880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914400" y="228600"/>
            <a:ext cx="182880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2895480" y="2438280"/>
            <a:ext cx="190512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72" name="" descr=""/>
          <p:cNvPicPr/>
          <p:nvPr/>
        </p:nvPicPr>
        <p:blipFill>
          <a:blip r:embed="rId7"/>
          <a:stretch/>
        </p:blipFill>
        <p:spPr>
          <a:xfrm>
            <a:off x="5029200" y="2438280"/>
            <a:ext cx="179388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73" name="" descr=""/>
          <p:cNvPicPr/>
          <p:nvPr/>
        </p:nvPicPr>
        <p:blipFill>
          <a:blip r:embed="rId8"/>
          <a:stretch/>
        </p:blipFill>
        <p:spPr>
          <a:xfrm>
            <a:off x="7086600" y="2438280"/>
            <a:ext cx="167652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74" name="" descr=""/>
          <p:cNvPicPr/>
          <p:nvPr/>
        </p:nvPicPr>
        <p:blipFill>
          <a:blip r:embed="rId9"/>
          <a:stretch/>
        </p:blipFill>
        <p:spPr>
          <a:xfrm>
            <a:off x="914400" y="4572000"/>
            <a:ext cx="1752480" cy="175248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75" name="" descr=""/>
          <p:cNvPicPr/>
          <p:nvPr/>
        </p:nvPicPr>
        <p:blipFill>
          <a:blip r:embed="rId10"/>
          <a:stretch/>
        </p:blipFill>
        <p:spPr>
          <a:xfrm>
            <a:off x="2895480" y="4572000"/>
            <a:ext cx="190512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76" name="" descr=""/>
          <p:cNvPicPr/>
          <p:nvPr/>
        </p:nvPicPr>
        <p:blipFill>
          <a:blip r:embed="rId11"/>
          <a:stretch/>
        </p:blipFill>
        <p:spPr>
          <a:xfrm>
            <a:off x="5029200" y="4572000"/>
            <a:ext cx="182880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pic>
        <p:nvPicPr>
          <p:cNvPr id="77" name="" descr=""/>
          <p:cNvPicPr/>
          <p:nvPr/>
        </p:nvPicPr>
        <p:blipFill>
          <a:blip r:embed="rId12"/>
          <a:stretch/>
        </p:blipFill>
        <p:spPr>
          <a:xfrm>
            <a:off x="7010280" y="4572000"/>
            <a:ext cx="1752840" cy="1828800"/>
          </a:xfrm>
          <a:prstGeom prst="rect">
            <a:avLst/>
          </a:prstGeom>
          <a:ln w="25560">
            <a:solidFill>
              <a:srgbClr val="99cc00"/>
            </a:solidFill>
            <a:miter/>
          </a:ln>
        </p:spPr>
      </p:pic>
      <p:sp>
        <p:nvSpPr>
          <p:cNvPr id="78" name=""/>
          <p:cNvSpPr/>
          <p:nvPr/>
        </p:nvSpPr>
        <p:spPr>
          <a:xfrm flipV="1">
            <a:off x="7162920" y="228600"/>
            <a:ext cx="1752480" cy="1828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7162920" y="228600"/>
            <a:ext cx="1676160" cy="1828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8-07-08T07:12:5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