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69C9-A42B-4C40-864A-A6727AC7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821-64F3-45A6-8EAE-4284CB05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D710-8C92-4DEB-8FFB-B1EF94AC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305-D038-4027-B7B6-E8162BBF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2821-93FA-448F-9F3E-C6B5ACFA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849-75C7-4F5F-8FFA-60B3E1CC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A532-A696-41C3-9D97-21E46E5D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764-68D2-4B88-B0B3-A44FE0B6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B1A-E1F8-4463-A02E-9EF0E3F3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2207-80FA-4CAC-B047-8517DDA7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D62-E8A0-4431-A51C-2702229C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79C5-6399-499E-BF7C-618C3BFC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FB5C-07E3-45F7-9DEC-A4AFF94AD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3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99ff99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914400"/>
            <a:ext cx="67053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роверочная работа</a:t>
            </a:r>
            <a:endParaRPr b="0" lang="en-US" sz="1800" spc="1" strike="noStrike">
              <a:ln w="22320">
                <a:solidFill>
                  <a:srgbClr val="ff00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по биологии 6 класс</a:t>
            </a:r>
            <a:endParaRPr b="0" lang="en-US" sz="1800" spc="1" strike="noStrike">
              <a:ln w="22320">
                <a:solidFill>
                  <a:srgbClr val="ff00ff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природные зоны</a:t>
            </a:r>
            <a:endParaRPr b="0" lang="en-US" sz="1800" spc="1" strike="noStrike">
              <a:ln w="22320">
                <a:solidFill>
                  <a:srgbClr val="ff00ff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733920" y="5715000"/>
            <a:ext cx="5209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учитель МОУ "СОШ № 124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еревалова С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00600" y="3581280"/>
            <a:ext cx="3200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(cаванна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з предложенных растений выберите только те, которые произрастают в тунд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ведите курсор мыши на рисунок, если ничего не происходит, значит вы выбрали не верный рису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20120" cy="5562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5228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380880"/>
            <a:ext cx="3124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в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аждом ряду одно растение лишне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это расте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6779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64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17906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10552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97180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91440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2895480" y="243828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029200" y="2438280"/>
            <a:ext cx="179388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7086600" y="2438280"/>
            <a:ext cx="16765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914400" y="4572000"/>
            <a:ext cx="175248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2895480" y="457200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502920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12"/>
          <a:stretch/>
        </p:blipFill>
        <p:spPr>
          <a:xfrm>
            <a:off x="7010280" y="4572000"/>
            <a:ext cx="17528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78" name=""/>
          <p:cNvSpPr/>
          <p:nvPr/>
        </p:nvSpPr>
        <p:spPr>
          <a:xfrm flipV="1">
            <a:off x="7162920" y="228600"/>
            <a:ext cx="175248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7162920" y="228600"/>
            <a:ext cx="167616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7-08T07:12:5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