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9.wmf" ContentType="image/x-wmf"/>
  <Override PartName="/ppt/media/image5.jpeg" ContentType="image/jpeg"/>
  <Override PartName="/ppt/media/push.wav" ContentType="audio/x-wav"/>
  <Override PartName="/ppt/media/image2.jpeg" ContentType="image/jpeg"/>
  <Override PartName="/ppt/media/image4.jpeg" ContentType="image/jpeg"/>
  <Override PartName="/ppt/media/image7.jpeg" ContentType="image/jpeg"/>
  <Override PartName="/ppt/media/voltage.wav" ContentType="audio/x-wav"/>
  <Override PartName="/ppt/media/image6.png" ContentType="image/png"/>
  <Override PartName="/ppt/media/wind.wav" ContentType="audio/x-wav"/>
  <Override PartName="/ppt/media/image16.jpeg" ContentType="image/jpeg"/>
  <Override PartName="/ppt/media/drumroll.wav" ContentType="audio/x-wav"/>
  <Override PartName="/ppt/media/image3.jpeg" ContentType="image/jpeg"/>
  <Override PartName="/ppt/media/image1.jpeg" ContentType="image/jpeg"/>
  <Override PartName="/ppt/media/type.wav" ContentType="audio/x-wav"/>
  <Override PartName="/ppt/media/image15.jpeg" ContentType="image/jpeg"/>
  <Override PartName="/ppt/media/camera.wav" ContentType="audio/x-wav"/>
  <Override PartName="/ppt/media/bomb.wav" ContentType="audio/x-wav"/>
  <Override PartName="/ppt/media/image12.jpeg" ContentType="image/jpeg"/>
  <Override PartName="/ppt/media/explode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11.jpeg" ContentType="image/jpeg"/>
  <Override PartName="/ppt/media/click.wav" ContentType="audio/x-wav"/>
  <Override PartName="/ppt/media/breeze.wav" ContentType="audio/x-wav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BE3-327A-42B4-9B45-84A068DA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D02-7132-41FF-BE50-90EBE31C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14D-C45E-4FC0-A590-AAE915F8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91F-9639-4DDA-970F-DF9EDCDF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65DE-D256-48E3-8472-FA57DF3B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36F-25C6-40C0-82B3-ABEE6346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535-112A-409A-B76E-14C3760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6941-B019-414B-B334-6373FA7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0331-393A-44BF-B6A5-CEB3C44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A71-F11D-4EF3-BDD2-3FB420A6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A2A5-CEC0-41A6-8176-690D6C5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659-BD3F-4B1E-A98D-9D2926F1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C95A-B462-4E35-8F0F-5617686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D07F-EC2E-44E0-A19F-90221CE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4BCC-044C-4A09-9A9D-F46AA447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5C13-92FA-45C7-BBCB-3CF35A2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096D-C507-4063-9987-E9E899BF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A7F-2976-40E3-BEF3-272F028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1AA-7A9F-44FE-83BD-15E8A288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3FD-29FB-4D12-85CD-0A54AD3C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2F9-1464-4206-8181-B3E73C1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1FD-5BF5-49D2-8146-DD2A7FE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67F-AF39-4D97-8133-0032BB21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11A-4008-4EE2-95A9-33856FC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4FB6-886E-4673-8C17-55C6C59AD8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F493-47C6-4E00-8319-A3AD44F2D66D}" type="slidenum">
              <a:rPr b="0" lang="ru-RU" sz="1200" spc="-1" strike="noStrike">
                <a:solidFill>
                  <a:srgbClr val="8c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javascript:void(0)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Tahoma"/>
              </a:rPr>
              <a:t>Шаманы Нижнего Амура.</a:t>
            </a:r>
            <a:endParaRPr b="0" lang="en-US" sz="48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22860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Цель проекта: определить роль шаманов в жизни народов Нижнего Амура.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Выполнила работу: Молокова Дарья 7 класс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Руководитель: Николаева А.Н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0" name="Picture 4" descr="1298120084_yakutskiy_shaman"/>
          <p:cNvPicPr/>
          <p:nvPr/>
        </p:nvPicPr>
        <p:blipFill>
          <a:blip r:embed="rId2"/>
          <a:stretch/>
        </p:blipFill>
        <p:spPr>
          <a:xfrm>
            <a:off x="571680" y="3214800"/>
            <a:ext cx="232092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Главные обязанности шамана — лечить больных людей, охранять их от злых духов, добиваться удачи охотникам на промысле, своевременно угадывать приближения несчастья в семье или селении, узнавать, какой будет весенняя охота, предсказывать погоду на ближайшие два-три дня. Основными функциями шаманов было лечение больных, предсказание будущего и розыск пропавших людей и вещей. 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15" name="Picture 4" descr="72701063"/>
          <p:cNvPicPr/>
          <p:nvPr/>
        </p:nvPicPr>
        <p:blipFill>
          <a:blip r:embed="rId1"/>
          <a:stretch/>
        </p:blipFill>
        <p:spPr>
          <a:xfrm>
            <a:off x="2987640" y="3357720"/>
            <a:ext cx="28083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532764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Духи были всемогущи, могли легко перемещаться в пространстве и принимать любой вид – животного, человека, предмета и т. д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эвэнов как и бусэу – чертей, великое множество. Шаман должен обладать «сильной» душой, чтобы войти в контакт с сэвэнами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Духи – сэвэны.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851280" cy="525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сканиров"/>
          <p:cNvPicPr/>
          <p:nvPr/>
        </p:nvPicPr>
        <p:blipFill>
          <a:blip r:embed="rId2"/>
          <a:stretch/>
        </p:blipFill>
        <p:spPr>
          <a:xfrm>
            <a:off x="826920" y="5300640"/>
            <a:ext cx="338472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  <p:sndAc>
      <p:stSnd>
        <p:snd r:embed="rId3" name="breeze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396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Народы Нижнего Амура говорили о шаманах как о волшебниках – могущественных, мудрых и справедливых. С помощью своих сэвэнов они могли повелевать стихиями, проникать в прошлое, защищать человека от злых сил. Они подарили миру главное – ключ к пониманию своей земли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21" name="Picture 4" descr="shamanka_koryak"/>
          <p:cNvPicPr/>
          <p:nvPr/>
        </p:nvPicPr>
        <p:blipFill>
          <a:blip r:embed="rId1"/>
          <a:stretch/>
        </p:blipFill>
        <p:spPr>
          <a:xfrm>
            <a:off x="4140360" y="620640"/>
            <a:ext cx="486072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Смоляк А. В. Шаман: личность, функции, мировоззрение (народы Нижнего Амура). – М., 1991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Атлас земли Дерсу. – Хабаровск: Хабаровское кн. изд – во, 1982.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</p:spTree>
  </p:cSld>
  <p:transition spd="slow">
    <p:dissolve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Шаманизм является древним методом использования измененных состояний сознания для контакта с духовным миром. Цель шаманизма является сохранение здоровья, лечение болезней, вступление в контакт с другими мирами что бы помочь людям в различных кризисных ситуациях. Шаманы были первыми помощниками и целителями в жизни и смерти как мудрецы и провидцы. Исследование наскальных рисунков времён палеолита показали, что шаманизм существует уже более тридцати тысяч лет. 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</p:spTree>
  </p:cSld>
  <p:transition spd="slow">
    <p:pull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5554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c0000"/>
                </a:solidFill>
                <a:latin typeface="Tahoma"/>
              </a:rPr>
              <a:t>Шаман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- это человек, который путешествует между мирами. Есть миры, которые  сосуществуют рядом с нашим материальным миром, но остаются скрытыми от нас. Шаманизм считает, что мир полон невидимых духов предков и сил, которые могут влиять на жизнь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3" name="Picture 3" descr="shamizm_trans_shamana"/>
          <p:cNvPicPr/>
          <p:nvPr/>
        </p:nvPicPr>
        <p:blipFill>
          <a:blip r:embed="rId1"/>
          <a:stretch/>
        </p:blipFill>
        <p:spPr>
          <a:xfrm>
            <a:off x="5724360" y="1268280"/>
            <a:ext cx="34196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push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843280" y="-360"/>
            <a:ext cx="6300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вои «обязанности» шаман исполнял с помощью определенных действий, получивших у религиоведов имя камлание. Во время камлания шаман облачался в специальный костюм с магическими символами, своего рода броню от злых духов.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лата за камлание больному была ози -чашка либо кружка.</a:t>
            </a:r>
            <a:br>
              <a:rPr sz="2400"/>
            </a:b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лово </a:t>
            </a:r>
            <a:r>
              <a:rPr b="0" i="1" lang="en-US" sz="2400" spc="-1" strike="noStrike">
                <a:solidFill>
                  <a:srgbClr val="8c0000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камлание</a:t>
            </a:r>
            <a:r>
              <a:rPr b="0" i="1" lang="en-US" sz="2400" spc="-1" strike="noStrike">
                <a:solidFill>
                  <a:srgbClr val="8c0000"/>
                </a:solidFill>
                <a:latin typeface="Tahoma"/>
              </a:rPr>
              <a:t>»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происходит от тюркского kam — колдун, знахарь, прорицатель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0920" y="41792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У каждого  шамана был специальный комплект ритуальной одежды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:юбка; халат; кофта; маска; головной убор; пояс; металлические диски толи, подвешивавшиеся на грудь, спину или к поясу; бубен с колотушкой; различные посохи; священные столбы, иногда с жертвенником; много фигурок сэвэн - вместилищ духов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6" name="Picture 4" descr="1295611802_odezhda_shamana"/>
          <p:cNvPicPr/>
          <p:nvPr/>
        </p:nvPicPr>
        <p:blipFill>
          <a:blip r:embed="rId1"/>
          <a:stretch/>
        </p:blipFill>
        <p:spPr>
          <a:xfrm>
            <a:off x="250920" y="260280"/>
            <a:ext cx="284328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-Наряд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8" name="Picture 4" descr="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789360"/>
            <a:ext cx="208908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140420121888"/>
          <p:cNvPicPr/>
          <p:nvPr/>
        </p:nvPicPr>
        <p:blipFill>
          <a:blip r:embed="rId3"/>
          <a:stretch/>
        </p:blipFill>
        <p:spPr>
          <a:xfrm>
            <a:off x="826920" y="378936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40420121887"/>
          <p:cNvPicPr/>
          <p:nvPr/>
        </p:nvPicPr>
        <p:blipFill>
          <a:blip r:embed="rId4"/>
          <a:stretch/>
        </p:blipFill>
        <p:spPr>
          <a:xfrm>
            <a:off x="4572000" y="549360"/>
            <a:ext cx="2160720" cy="291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6732720" y="450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-Бубен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927840" y="234936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-Пояс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47720" y="4365720"/>
            <a:ext cx="16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-Маска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5"/>
          <a:stretch/>
        </p:blipFill>
        <p:spPr>
          <a:xfrm>
            <a:off x="826920" y="549360"/>
            <a:ext cx="20163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6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594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У ульчских шаманов ближайшими духами-помощниками были духи маси и бучу. Они находятся в них.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Шаманы изображали своих духов-помощников на одежде ,но чаще для них изготавливались небольшие статуэтки в виде антропоморфных фигурок в основном из дерева.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516720" y="907920"/>
            <a:ext cx="234000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Шаманский дар нанайцы и ульчи получали преимущественно по линии отца; от родственников матери некоторые шаманы получали второстепенных духов-помощников. Все же некоторые нанайцы и ульчи становились шаманами и по материнской линии, но таких было немного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c0000"/>
                </a:solidFill>
                <a:latin typeface="Tahoma"/>
              </a:rPr>
              <a:t>Касата – шаман</a:t>
            </a:r>
            <a:r>
              <a:rPr b="1" lang="ru-RU" sz="2000" spc="-1" strike="noStrike">
                <a:solidFill>
                  <a:srgbClr val="8c0000"/>
                </a:solidFill>
                <a:latin typeface="Tahoma"/>
              </a:rPr>
              <a:t>  - высшая категория нанайских и ульчских шаманов, умевших возить души умерших в загробный мир.</a:t>
            </a:r>
            <a:endParaRPr b="0" lang="en-US" sz="2000" spc="-1" strike="noStrike">
              <a:solidFill>
                <a:srgbClr val="8c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амые слабые нанайские шаманы —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"мэпи-сама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"(ульч,хойракачи) имели бубны от умерших родственников. Однако лечили они только себя (мэпи — "себя"). У них были слабые духи, и шаманы  не проходили обряда посвящения.  К этим лицам применяли термин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"хаундараву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" (ульч.) шаманить без бубна, петь. У ульчей встречается термин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дякпаку-сама,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но он не означает какой-либо категории:   духами-помощниками были злые  духи, могущие вредить людям, но они подчинялись шаману и действовали так, как он им приказывал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08" name="Picture 5" descr="49e8dfd1-3dbf-4b1f-ffe2-bbd6c2dae285"/>
          <p:cNvPicPr/>
          <p:nvPr/>
        </p:nvPicPr>
        <p:blipFill>
          <a:blip r:embed="rId1"/>
          <a:stretch/>
        </p:blipFill>
        <p:spPr>
          <a:xfrm>
            <a:off x="7020000" y="1052640"/>
            <a:ext cx="194472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  <p:sndAc>
      <p:stSnd>
        <p:snd r:embed="rId2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. Стать шаманом по желанию было невозможно. Духи приходили к избранным сами, не подчиняясь ничьей воле. За время своей жизни шаманы в зависимости от своих способностей получали посвящения. 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Чтобы убедить зрителей в своих духовных силах, шаман девятого посвящения мог возноситься в воздух и парить над кронами деревьев.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10" name="Picture 4" descr="kamlanie_shamana"/>
          <p:cNvPicPr/>
          <p:nvPr/>
        </p:nvPicPr>
        <p:blipFill>
          <a:blip r:embed="rId1"/>
          <a:stretch/>
        </p:blipFill>
        <p:spPr>
          <a:xfrm>
            <a:off x="2124000" y="3429000"/>
            <a:ext cx="433404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20000"/>
                </a:solidFill>
                <a:latin typeface="Tahoma"/>
              </a:rPr>
              <a:t>История нанайской шаманки.</a:t>
            </a:r>
            <a:br>
              <a:rPr sz="4000"/>
            </a:b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Некоторые шаманы утверждали, что духи-помощники и их материальные воплощения появлялись у них прямо изо рта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«Однажды я очень – очень долго болела. У меня болело горло. Все это время ко мне приходил дух  и мучил меня во сне. Когда же мои страдания закончились, у меня изо рта выпали серебряные фигурки двух ящериц и рыбки. С тех пор этот дух служил мне много лет...»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одобное явления были в основном характерны для касаты – шаманов, что доказывало их исключительность, избранность и величие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13" name="Picture 7" descr="DSC04192"/>
          <p:cNvPicPr/>
          <p:nvPr/>
        </p:nvPicPr>
        <p:blipFill>
          <a:blip r:embed="rId1"/>
          <a:stretch/>
        </p:blipFill>
        <p:spPr>
          <a:xfrm>
            <a:off x="5003640" y="4149720"/>
            <a:ext cx="273708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2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6:53:56Z</dcterms:created>
  <dc:creator>User</dc:creator>
  <dc:description/>
  <dc:language>en-US</dc:language>
  <cp:lastModifiedBy>Admin</cp:lastModifiedBy>
  <dcterms:modified xsi:type="dcterms:W3CDTF">2012-05-25T18:13:44Z</dcterms:modified>
  <cp:revision>19</cp:revision>
  <dc:subject/>
  <dc:title>Шаманы Нижнего Амура.</dc:title>
</cp:coreProperties>
</file>