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whoosh.wav" ContentType="audio/x-wav"/>
  <Override PartName="/ppt/media/image9.wmf" ContentType="image/x-wmf"/>
  <Override PartName="/ppt/media/image5.jpeg" ContentType="image/jpeg"/>
  <Override PartName="/ppt/media/push.wav" ContentType="audio/x-wav"/>
  <Override PartName="/ppt/media/image2.jpeg" ContentType="image/jpeg"/>
  <Override PartName="/ppt/media/image4.jpeg" ContentType="image/jpeg"/>
  <Override PartName="/ppt/media/image7.jpeg" ContentType="image/jpeg"/>
  <Override PartName="/ppt/media/voltage.wav" ContentType="audio/x-wav"/>
  <Override PartName="/ppt/media/image6.png" ContentType="image/png"/>
  <Override PartName="/ppt/media/wind.wav" ContentType="audio/x-wav"/>
  <Override PartName="/ppt/media/image16.jpeg" ContentType="image/jpeg"/>
  <Override PartName="/ppt/media/drumroll.wav" ContentType="audio/x-wav"/>
  <Override PartName="/ppt/media/image3.jpeg" ContentType="image/jpeg"/>
  <Override PartName="/ppt/media/image1.jpeg" ContentType="image/jpeg"/>
  <Override PartName="/ppt/media/type.wav" ContentType="audio/x-wav"/>
  <Override PartName="/ppt/media/image15.jpeg" ContentType="image/jpeg"/>
  <Override PartName="/ppt/media/camera.wav" ContentType="audio/x-wav"/>
  <Override PartName="/ppt/media/bomb.wav" ContentType="audio/x-wav"/>
  <Override PartName="/ppt/media/image12.jpeg" ContentType="image/jpeg"/>
  <Override PartName="/ppt/media/explode.wav" ContentType="audio/x-wav"/>
  <Override PartName="/ppt/media/image17.jpeg" ContentType="image/jpeg"/>
  <Override PartName="/ppt/media/image14.jpeg" ContentType="image/jpeg"/>
  <Override PartName="/ppt/media/image13.jpeg" ContentType="image/jpeg"/>
  <Override PartName="/ppt/media/image11.jpeg" ContentType="image/jpeg"/>
  <Override PartName="/ppt/media/click.wav" ContentType="audio/x-wav"/>
  <Override PartName="/ppt/media/breeze.wav" ContentType="audio/x-wav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0DA-036C-46DD-8A25-A8B5C67E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B16-20B1-4643-8888-F07FA119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A42-F118-4E96-8862-855081A8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A92-65F1-41B6-984A-E7A797DF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3DFD-FEBC-4A57-AAF3-8E2A80FA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A31C-2C23-42E1-8DC5-010F5C70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D6F9-0BC9-4536-935D-DDCDF52A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1EA5-080A-4F56-889D-CAA348EB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CA4B-4282-40ED-BD4B-F0D66BC2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39DA-E54E-4148-B921-8F2077DC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32EA-FDDC-4FCF-8DAF-9C4FE38B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33F-052A-444E-A33C-A9EAD6F1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F32E-48B0-410B-8075-6FD98CFC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6066-7A65-41B1-8519-A7DD96EA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F007-65A0-468C-B8B1-33F7E1B3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409F-04E6-4A19-86A0-8BEFC0B5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6BFB-23EF-469A-A92E-C52A7B03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4954-EED3-48FF-A857-0C9C4650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1B1-E35C-4CF7-86F1-3C23BBE2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188-5052-484A-A688-D8F2F444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5FE-63FD-43BB-9464-0AACFFC3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DE5D-77B5-4E3F-8F8D-6A74E05B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B82-AD2E-498F-B740-7F51EA01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02C6-4A84-4DAC-B318-51A751B1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f0f0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c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c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8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8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6316-8685-431F-9184-68BDF905C3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c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c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8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8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c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7200-1816-405D-98A5-11C860BCBF61}" type="slidenum">
              <a:rPr b="0" lang="ru-RU" sz="1200" spc="-1" strike="noStrike">
                <a:solidFill>
                  <a:srgbClr val="8c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javascript:void(0)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wmf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Tahoma"/>
              </a:rPr>
              <a:t>Шаманы Нижнего Амура.</a:t>
            </a:r>
            <a:endParaRPr b="0" lang="en-US" sz="48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743200" y="22860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Цель проекта: определить роль шаманов в жизни народов Нижнего Амура. 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Выполнила работу: Молокова Дарья 7 класс.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Руководитель: Николаева А.Н.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pic>
        <p:nvPicPr>
          <p:cNvPr id="90" name="Picture 4" descr="1298120084_yakutskiy_shaman"/>
          <p:cNvPicPr/>
          <p:nvPr/>
        </p:nvPicPr>
        <p:blipFill>
          <a:blip r:embed="rId2"/>
          <a:stretch/>
        </p:blipFill>
        <p:spPr>
          <a:xfrm>
            <a:off x="571680" y="3214800"/>
            <a:ext cx="2320920" cy="338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3739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Главные обязанности шамана — лечить больных людей, охранять их от злых духов, добиваться удачи охотникам на промысле, своевременно угадывать приближения несчастья в семье или селении, узнавать, какой будет весенняя охота, предсказывать погоду на ближайшие два-три дня. Основными функциями шаманов было лечение больных, предсказание будущего и розыск пропавших людей и вещей. 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</p:txBody>
      </p:sp>
      <p:pic>
        <p:nvPicPr>
          <p:cNvPr id="115" name="Picture 4" descr="72701063"/>
          <p:cNvPicPr/>
          <p:nvPr/>
        </p:nvPicPr>
        <p:blipFill>
          <a:blip r:embed="rId1"/>
          <a:stretch/>
        </p:blipFill>
        <p:spPr>
          <a:xfrm>
            <a:off x="2987640" y="3357720"/>
            <a:ext cx="280836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bomb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1196640"/>
            <a:ext cx="5327640" cy="62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Духи были всемогущи, могли легко перемещаться в пространстве и принимать любой вид – животного, человека, предмета и т. д.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Сэвэнов как и бусэу – чертей, великое множество. Шаман должен обладать «сильной» душой, чтобы войти в контакт с сэвэнами.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0000"/>
                </a:solidFill>
                <a:latin typeface="Tahoma"/>
              </a:rPr>
              <a:t>Духи – сэвэны.</a:t>
            </a: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292720" y="1268280"/>
            <a:ext cx="3851280" cy="5256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сканиров"/>
          <p:cNvPicPr/>
          <p:nvPr/>
        </p:nvPicPr>
        <p:blipFill>
          <a:blip r:embed="rId2"/>
          <a:stretch/>
        </p:blipFill>
        <p:spPr>
          <a:xfrm>
            <a:off x="826920" y="5300640"/>
            <a:ext cx="3384720" cy="1324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  <p:sndAc>
      <p:stSnd>
        <p:snd r:embed="rId3" name="breeze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396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Народы Нижнего Амура говорили о шаманах как о волшебниках – могущественных, мудрых и справедливых. С помощью своих сэвэнов они могли повелевать стихиями, проникать в прошлое, защищать человека от злых сил. Они подарили миру главное – ключ к пониманию своей земли.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</p:txBody>
      </p:sp>
      <p:pic>
        <p:nvPicPr>
          <p:cNvPr id="121" name="Picture 4" descr="shamanka_koryak"/>
          <p:cNvPicPr/>
          <p:nvPr/>
        </p:nvPicPr>
        <p:blipFill>
          <a:blip r:embed="rId1"/>
          <a:stretch/>
        </p:blipFill>
        <p:spPr>
          <a:xfrm>
            <a:off x="4140360" y="620640"/>
            <a:ext cx="4860720" cy="4969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0000"/>
                </a:solidFill>
                <a:latin typeface="Tahoma"/>
              </a:rPr>
              <a:t>Литература</a:t>
            </a:r>
            <a:endParaRPr b="0" lang="en-US" sz="4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Смоляк А. В. Шаман: личность, функции, мировоззрение (народы Нижнего Амура). – М., 1991.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Атлас земли Дерсу. – Хабаровск: Хабаровское кн. изд – во, 1982. 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</p:spTree>
  </p:cSld>
  <p:transition spd="slow">
    <p:dissolve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Шаманизм является древним методом использования измененных состояний сознания для контакта с духовным миром. Цель шаманизма является сохранение здоровья, лечение болезней, вступление в контакт с другими мирами что бы помочь людям в различных кризисных ситуациях. Шаманы были первыми помощниками и целителями в жизни и смерти как мудрецы и провидцы. Исследование наскальных рисунков времён палеолита показали, что шаманизм существует уже более тридцати тысяч лет. </a:t>
            </a:r>
            <a:endParaRPr b="0" lang="en-US" sz="2800" spc="-1" strike="noStrike">
              <a:solidFill>
                <a:srgbClr val="8c0000"/>
              </a:solidFill>
              <a:latin typeface="Tahoma"/>
            </a:endParaRPr>
          </a:p>
        </p:txBody>
      </p:sp>
    </p:spTree>
  </p:cSld>
  <p:transition spd="slow">
    <p:pull dir="d"/>
    <p:sndAc>
      <p:stSnd>
        <p:snd r:embed="rId1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55544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c0000"/>
                </a:solidFill>
                <a:latin typeface="Tahoma"/>
              </a:rPr>
              <a:t>Шаман</a:t>
            </a: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 - это человек, который путешествует между мирами. Есть миры, которые  сосуществуют рядом с нашим материальным миром, но остаются скрытыми от нас. Шаманизм считает, что мир полон невидимых духов предков и сил, которые могут влиять на жизнь.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pic>
        <p:nvPicPr>
          <p:cNvPr id="93" name="Picture 3" descr="shamizm_trans_shamana"/>
          <p:cNvPicPr/>
          <p:nvPr/>
        </p:nvPicPr>
        <p:blipFill>
          <a:blip r:embed="rId1"/>
          <a:stretch/>
        </p:blipFill>
        <p:spPr>
          <a:xfrm>
            <a:off x="5724360" y="1268280"/>
            <a:ext cx="3419640" cy="4392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2" name="push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843280" y="-360"/>
            <a:ext cx="63007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Свои «обязанности» шаман исполнял с помощью определенных действий, получивших у религиоведов имя камлание. Во время камлания шаман облачался в специальный костюм с магическими символами, своего рода броню от злых духов. </a:t>
            </a: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Плата за камлание больному была ози -чашка либо кружка.</a:t>
            </a:r>
            <a:br>
              <a:rPr sz="2400"/>
            </a:b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Слово </a:t>
            </a:r>
            <a:r>
              <a:rPr b="0" i="1" lang="en-US" sz="2400" spc="-1" strike="noStrike">
                <a:solidFill>
                  <a:srgbClr val="8c0000"/>
                </a:solidFill>
                <a:latin typeface="Tahoma"/>
              </a:rPr>
              <a:t>«</a:t>
            </a:r>
            <a:r>
              <a:rPr b="0" i="1" lang="ru-RU" sz="2400" spc="-1" strike="noStrike">
                <a:solidFill>
                  <a:srgbClr val="8c0000"/>
                </a:solidFill>
                <a:latin typeface="Tahoma"/>
              </a:rPr>
              <a:t>камлание</a:t>
            </a:r>
            <a:r>
              <a:rPr b="0" i="1" lang="en-US" sz="2400" spc="-1" strike="noStrike">
                <a:solidFill>
                  <a:srgbClr val="8c0000"/>
                </a:solidFill>
                <a:latin typeface="Tahoma"/>
              </a:rPr>
              <a:t>» </a:t>
            </a:r>
            <a:r>
              <a:rPr b="0" i="1" lang="ru-RU" sz="2400" spc="-1" strike="noStrike">
                <a:solidFill>
                  <a:srgbClr val="8c0000"/>
                </a:solidFill>
                <a:latin typeface="Tahoma"/>
              </a:rPr>
              <a:t>происходит от тюркского kam — колдун, знахарь, прорицатель.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50920" y="417924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У каждого  шамана был специальный комплект ритуальной одежды</a:t>
            </a: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 :юбка; халат; кофта; маска; головной убор; пояс; металлические диски толи, подвешивавшиеся на грудь, спину или к поясу; бубен с колотушкой; различные посохи; священные столбы, иногда с жертвенником; много фигурок сэвэн - вместилищ духов.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</p:txBody>
      </p:sp>
      <p:pic>
        <p:nvPicPr>
          <p:cNvPr id="96" name="Picture 4" descr="1295611802_odezhda_shamana"/>
          <p:cNvPicPr/>
          <p:nvPr/>
        </p:nvPicPr>
        <p:blipFill>
          <a:blip r:embed="rId1"/>
          <a:stretch/>
        </p:blipFill>
        <p:spPr>
          <a:xfrm>
            <a:off x="250920" y="260280"/>
            <a:ext cx="2843280" cy="3745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                       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                   </a:t>
            </a: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-Наряд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                       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pic>
        <p:nvPicPr>
          <p:cNvPr id="98" name="Picture 4" descr="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789360"/>
            <a:ext cx="208908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140420121888"/>
          <p:cNvPicPr/>
          <p:nvPr/>
        </p:nvPicPr>
        <p:blipFill>
          <a:blip r:embed="rId3"/>
          <a:stretch/>
        </p:blipFill>
        <p:spPr>
          <a:xfrm>
            <a:off x="826920" y="3789360"/>
            <a:ext cx="2016360" cy="2519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140420121887"/>
          <p:cNvPicPr/>
          <p:nvPr/>
        </p:nvPicPr>
        <p:blipFill>
          <a:blip r:embed="rId4"/>
          <a:stretch/>
        </p:blipFill>
        <p:spPr>
          <a:xfrm>
            <a:off x="4572000" y="549360"/>
            <a:ext cx="2160720" cy="2916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6732720" y="4508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-Бубен</a:t>
            </a:r>
            <a:endParaRPr b="0" lang="en-US" sz="28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927840" y="2349360"/>
            <a:ext cx="113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-Пояс</a:t>
            </a:r>
            <a:endParaRPr b="0" lang="en-US" sz="2800" spc="-1" strike="noStrike">
              <a:solidFill>
                <a:srgbClr val="8c0000"/>
              </a:solidFill>
              <a:latin typeface="Tahoma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47720" y="4365720"/>
            <a:ext cx="16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-Маска</a:t>
            </a:r>
            <a:endParaRPr b="0" lang="en-US" sz="2800" spc="-1" strike="noStrike">
              <a:solidFill>
                <a:srgbClr val="8c0000"/>
              </a:solidFill>
              <a:latin typeface="Tahoma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5"/>
          <a:stretch/>
        </p:blipFill>
        <p:spPr>
          <a:xfrm>
            <a:off x="826920" y="549360"/>
            <a:ext cx="201636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6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836640"/>
            <a:ext cx="5940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У ульчских шаманов ближайшими духами-помощниками были духи маси и бучу. Они находятся в них.</a:t>
            </a:r>
            <a:endParaRPr b="0" lang="en-US" sz="2800" spc="-1" strike="noStrike">
              <a:solidFill>
                <a:srgbClr val="8c0000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ahoma"/>
              </a:rPr>
              <a:t>Шаманы изображали своих духов-помощников на одежде ,но чаще для них изготавливались небольшие статуэтки в виде антропоморфных фигурок в основном из дерева.</a:t>
            </a:r>
            <a:endParaRPr b="0" lang="en-US" sz="2800" spc="-1" strike="noStrike">
              <a:solidFill>
                <a:srgbClr val="8c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516720" y="907920"/>
            <a:ext cx="2340000" cy="4653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lick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70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Шаманский дар нанайцы и ульчи получали преимущественно по линии отца; от родственников матери некоторые шаманы получали второстепенных духов-помощников. Все же некоторые нанайцы и ульчи становились шаманами и по материнской линии, но таких было немного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c0000"/>
                </a:solidFill>
                <a:latin typeface="Tahoma"/>
              </a:rPr>
              <a:t>Касата – шаман</a:t>
            </a:r>
            <a:r>
              <a:rPr b="1" lang="ru-RU" sz="2000" spc="-1" strike="noStrike">
                <a:solidFill>
                  <a:srgbClr val="8c0000"/>
                </a:solidFill>
                <a:latin typeface="Tahoma"/>
              </a:rPr>
              <a:t>  - высшая категория нанайских и ульчских шаманов, умевших возить души умерших в загробный мир.</a:t>
            </a:r>
            <a:endParaRPr b="0" lang="en-US" sz="2000" spc="-1" strike="noStrike">
              <a:solidFill>
                <a:srgbClr val="8c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Самые слабые нанайские шаманы — </a:t>
            </a:r>
            <a:r>
              <a:rPr b="0" i="1" lang="ru-RU" sz="2400" spc="-1" strike="noStrike">
                <a:solidFill>
                  <a:srgbClr val="8c0000"/>
                </a:solidFill>
                <a:latin typeface="Tahoma"/>
              </a:rPr>
              <a:t>"мэпи-сама</a:t>
            </a: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"(ульч,хойракачи) имели бубны от умерших родственников. Однако лечили они только себя (мэпи — "себя"). У них были слабые духи, и шаманы  не проходили обряда посвящения.  К этим лицам применяли термин </a:t>
            </a:r>
            <a:r>
              <a:rPr b="0" i="1" lang="ru-RU" sz="2400" spc="-1" strike="noStrike">
                <a:solidFill>
                  <a:srgbClr val="8c0000"/>
                </a:solidFill>
                <a:latin typeface="Tahoma"/>
              </a:rPr>
              <a:t>"хаундараву</a:t>
            </a: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" (ульч.) шаманить без бубна, петь. У ульчей встречается термин </a:t>
            </a:r>
            <a:r>
              <a:rPr b="0" i="1" lang="ru-RU" sz="2400" spc="-1" strike="noStrike">
                <a:solidFill>
                  <a:srgbClr val="8c0000"/>
                </a:solidFill>
                <a:latin typeface="Tahoma"/>
              </a:rPr>
              <a:t>дякпаку-сама,</a:t>
            </a: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 но он не означает какой-либо категории:   духами-помощниками были злые  духи, могущие вредить людям, но они подчинялись шаману и действовали так, как он им приказывал.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</p:txBody>
      </p:sp>
      <p:pic>
        <p:nvPicPr>
          <p:cNvPr id="108" name="Picture 5" descr="49e8dfd1-3dbf-4b1f-ffe2-bbd6c2dae285"/>
          <p:cNvPicPr/>
          <p:nvPr/>
        </p:nvPicPr>
        <p:blipFill>
          <a:blip r:embed="rId1"/>
          <a:stretch/>
        </p:blipFill>
        <p:spPr>
          <a:xfrm>
            <a:off x="7020000" y="1052640"/>
            <a:ext cx="194472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  <p:sndAc>
      <p:stSnd>
        <p:snd r:embed="rId2" name="pu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. Стать шаманом по желанию было невозможно. Духи приходили к избранным сами, не подчиняясь ничьей воле. За время своей жизни шаманы в зависимости от своих способностей получали посвящения. 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Чтобы убедить зрителей в своих духовных силах, шаман девятого посвящения мог возноситься в воздух и парить над кронами деревьев.</a:t>
            </a:r>
            <a:r>
              <a:rPr b="0" lang="ru-RU" sz="3200" spc="-1" strike="noStrike">
                <a:solidFill>
                  <a:srgbClr val="8c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8c0000"/>
              </a:solidFill>
              <a:latin typeface="Tahoma"/>
            </a:endParaRPr>
          </a:p>
        </p:txBody>
      </p:sp>
      <p:pic>
        <p:nvPicPr>
          <p:cNvPr id="110" name="Picture 4" descr="kamlanie_shamana"/>
          <p:cNvPicPr/>
          <p:nvPr/>
        </p:nvPicPr>
        <p:blipFill>
          <a:blip r:embed="rId1"/>
          <a:stretch/>
        </p:blipFill>
        <p:spPr>
          <a:xfrm>
            <a:off x="2124000" y="3429000"/>
            <a:ext cx="4334040" cy="3301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drumroll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20000"/>
                </a:solidFill>
                <a:latin typeface="Tahoma"/>
              </a:rPr>
              <a:t>История нанайской шаманки.</a:t>
            </a:r>
            <a:br>
              <a:rPr sz="4000"/>
            </a:b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83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Некоторые шаманы утверждали, что духи-помощники и их материальные воплощения появлялись у них прямо изо рта.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  <a:p>
            <a:pPr marL="260640" indent="-260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c0000"/>
                </a:solidFill>
                <a:latin typeface="Tahoma"/>
              </a:rPr>
              <a:t>«Однажды я очень – очень долго болела. У меня болело горло. Все это время ко мне приходил дух  и мучил меня во сне. Когда же мои страдания закончились, у меня изо рта выпали серебряные фигурки двух ящериц и рыбки. С тех пор этот дух служил мне много лет...»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  <a:p>
            <a:pPr marL="260640" indent="-26064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00"/>
                </a:solidFill>
                <a:latin typeface="Tahoma"/>
              </a:rPr>
              <a:t>Подобное явления были в основном характерны для касаты – шаманов, что доказывало их исключительность, избранность и величие.</a:t>
            </a:r>
            <a:endParaRPr b="0" lang="en-US" sz="2400" spc="-1" strike="noStrike">
              <a:solidFill>
                <a:srgbClr val="8c0000"/>
              </a:solidFill>
              <a:latin typeface="Tahoma"/>
            </a:endParaRPr>
          </a:p>
        </p:txBody>
      </p:sp>
      <p:pic>
        <p:nvPicPr>
          <p:cNvPr id="113" name="Picture 7" descr="DSC04192"/>
          <p:cNvPicPr/>
          <p:nvPr/>
        </p:nvPicPr>
        <p:blipFill>
          <a:blip r:embed="rId1"/>
          <a:stretch/>
        </p:blipFill>
        <p:spPr>
          <a:xfrm>
            <a:off x="5003640" y="4149720"/>
            <a:ext cx="2737080" cy="1366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2" name="voltag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06:53:56Z</dcterms:created>
  <dc:creator>User</dc:creator>
  <dc:description/>
  <dc:language>en-US</dc:language>
  <cp:lastModifiedBy>Admin</cp:lastModifiedBy>
  <dcterms:modified xsi:type="dcterms:W3CDTF">2012-05-25T18:13:44Z</dcterms:modified>
  <cp:revision>19</cp:revision>
  <dc:subject/>
  <dc:title>Шаманы Нижнего Амура.</dc:title>
</cp:coreProperties>
</file>