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606-BAD9-4691-B7BA-3FE52FF0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7BB-F3D1-4029-81DB-221137C1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C25-56AD-440F-93C5-844913B1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2B9-D671-4CAF-B3E3-181E4003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7D8-FC91-4BB2-ACC7-62F59E94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CDDF-B1C5-47D9-9AD7-B0B3BC10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A96-AD49-4FFA-8BB5-576955E8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EF1-093C-4844-8EA8-7413D4C3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AF9-FDF4-4E6F-8A10-843553C0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CA4-A4BD-4D6A-9810-8B0AA85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2C9-2B0D-472F-AD97-48510660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688C-ED17-49C8-93AA-BADF2E1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BD6-2D07-42A1-BB12-1138CA146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image" Target="../media/image19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image" Target="../media/image19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image" Target="../media/image19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6.jpeg"/><Relationship Id="rId5" Type="http://schemas.openxmlformats.org/officeDocument/2006/relationships/image" Target="../media/image19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1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image" Target="../media/image12.pn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image" Target="../media/image12.png"/><Relationship Id="rId15" Type="http://schemas.openxmlformats.org/officeDocument/2006/relationships/image" Target="../media/image8.jpe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9.jpeg"/><Relationship Id="rId13" Type="http://schemas.openxmlformats.org/officeDocument/2006/relationships/image" Target="../media/image6.jpeg"/><Relationship Id="rId14" Type="http://schemas.openxmlformats.org/officeDocument/2006/relationships/image" Target="../media/image12.png"/><Relationship Id="rId15" Type="http://schemas.openxmlformats.org/officeDocument/2006/relationships/image" Target="../media/image8.jpeg"/><Relationship Id="rId16" Type="http://schemas.openxmlformats.org/officeDocument/2006/relationships/image" Target="../media/image10.jpeg"/><Relationship Id="rId17" Type="http://schemas.openxmlformats.org/officeDocument/2006/relationships/image" Target="../media/image11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581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широколиств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лес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228600" y="3505320"/>
            <a:ext cx="2209680" cy="146988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8"/>
          <a:stretch/>
        </p:blipFill>
        <p:spPr>
          <a:xfrm>
            <a:off x="2209680" y="3962520"/>
            <a:ext cx="1905120" cy="1428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9"/>
          <a:stretch/>
        </p:blipFill>
        <p:spPr>
          <a:xfrm>
            <a:off x="1066680" y="5181480"/>
            <a:ext cx="1981440" cy="14860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828800" cy="1469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71800" y="457200"/>
            <a:ext cx="17604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174312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7162920" y="457200"/>
            <a:ext cx="16002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55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914400" y="2362320"/>
            <a:ext cx="182880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50292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190512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8"/>
          <a:stretch/>
        </p:blipFill>
        <p:spPr>
          <a:xfrm>
            <a:off x="70866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288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12"/>
          <a:stretch/>
        </p:blipFill>
        <p:spPr>
          <a:xfrm>
            <a:off x="9144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828800" cy="1469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971800" y="457200"/>
            <a:ext cx="17604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174312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7162920" y="457200"/>
            <a:ext cx="16002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70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914400" y="2362320"/>
            <a:ext cx="182880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0292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190512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0866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8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288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9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12"/>
          <a:stretch/>
        </p:blipFill>
        <p:spPr>
          <a:xfrm>
            <a:off x="9144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81" name=""/>
          <p:cNvSpPr/>
          <p:nvPr/>
        </p:nvSpPr>
        <p:spPr>
          <a:xfrm>
            <a:off x="4952880" y="380880"/>
            <a:ext cx="190512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876920" y="380520"/>
            <a:ext cx="1981080" cy="167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828800" cy="1469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971800" y="457200"/>
            <a:ext cx="17604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174312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7162920" y="457200"/>
            <a:ext cx="16002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87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914400" y="2362320"/>
            <a:ext cx="182880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50292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190512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8"/>
          <a:stretch/>
        </p:blipFill>
        <p:spPr>
          <a:xfrm>
            <a:off x="70866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288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12"/>
          <a:stretch/>
        </p:blipFill>
        <p:spPr>
          <a:xfrm>
            <a:off x="9144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4952880" y="380880"/>
            <a:ext cx="190512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876920" y="380520"/>
            <a:ext cx="1981080" cy="167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010280" y="2361960"/>
            <a:ext cx="182880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2362320"/>
            <a:ext cx="182880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1828800" cy="1469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971800" y="457200"/>
            <a:ext cx="17604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29200" y="457200"/>
            <a:ext cx="174312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162920" y="457200"/>
            <a:ext cx="1600200" cy="15238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306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914400" y="2362320"/>
            <a:ext cx="182880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50292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2895480" y="2362320"/>
            <a:ext cx="190512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7086600" y="2362320"/>
            <a:ext cx="1752480" cy="19047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288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6" name="" descr=""/>
          <p:cNvPicPr/>
          <p:nvPr/>
        </p:nvPicPr>
        <p:blipFill>
          <a:blip r:embed="rId12"/>
          <a:stretch/>
        </p:blipFill>
        <p:spPr>
          <a:xfrm>
            <a:off x="914400" y="4572000"/>
            <a:ext cx="182880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4952880" y="380880"/>
            <a:ext cx="190512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876920" y="380520"/>
            <a:ext cx="1981080" cy="1676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010280" y="2361960"/>
            <a:ext cx="182880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2362320"/>
            <a:ext cx="182880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572000"/>
            <a:ext cx="18288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914400" y="4572000"/>
            <a:ext cx="18288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876920" y="114300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304920" y="1523880"/>
            <a:ext cx="1600200" cy="1447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2666880" y="609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304920" y="1523880"/>
            <a:ext cx="1600200" cy="1447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2666880" y="609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5"/>
          <a:stretch/>
        </p:blipFill>
        <p:spPr>
          <a:xfrm>
            <a:off x="2514600" y="914400"/>
            <a:ext cx="1828800" cy="1471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2971800" y="37339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ё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304920" y="1523880"/>
            <a:ext cx="1600200" cy="1447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2666880" y="609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5"/>
          <a:stretch/>
        </p:blipFill>
        <p:spPr>
          <a:xfrm>
            <a:off x="2514600" y="914400"/>
            <a:ext cx="1828800" cy="1471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16"/>
          <a:stretch/>
        </p:blipFill>
        <p:spPr>
          <a:xfrm>
            <a:off x="2514600" y="2438280"/>
            <a:ext cx="1676520" cy="1371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3048120" y="373392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ё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36576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2590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228600"/>
            <a:ext cx="3048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колиственны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772400" y="5257800"/>
            <a:ext cx="965160" cy="914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58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"/>
          <a:stretch/>
        </p:blipFill>
        <p:spPr>
          <a:xfrm>
            <a:off x="4724280" y="137160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5638680" y="2895480"/>
            <a:ext cx="15242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4876920" y="106668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1932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ь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4"/>
          <a:stretch/>
        </p:blipFill>
        <p:spPr>
          <a:xfrm>
            <a:off x="304920" y="1523880"/>
            <a:ext cx="1600200" cy="14479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2666880" y="609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я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5"/>
          <a:stretch/>
        </p:blipFill>
        <p:spPr>
          <a:xfrm>
            <a:off x="2514600" y="914400"/>
            <a:ext cx="1828800" cy="1471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16"/>
          <a:stretch/>
        </p:blipFill>
        <p:spPr>
          <a:xfrm>
            <a:off x="2514600" y="2438280"/>
            <a:ext cx="1676520" cy="13716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3048120" y="373392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ё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3657600"/>
            <a:ext cx="1218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7"/>
          <a:stretch/>
        </p:blipFill>
        <p:spPr>
          <a:xfrm>
            <a:off x="1219320" y="3962520"/>
            <a:ext cx="1600200" cy="1476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25T05:52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