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6181-2182-4910-9CA7-F24A9571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31C-4CBA-468F-BA3E-E993EC2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09F-40CB-48A6-AC58-B27420F5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316-019C-4786-80DD-686BDB03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F3E2-D94A-4628-BCD6-2340FF6E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41A5-1D47-453B-A37C-D55E9541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77EC-30C5-4FD2-AA18-C6A07B5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BE42-CEC9-4B77-BD1A-1F01136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B5B1-5300-44A0-B9DD-E1F3BA89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FB65-629C-43D5-AC22-4FEDC05F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F76-DFE2-480D-A5A4-D2F23E6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D1B-591A-4BC1-956C-2EEB3EB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785F-D82A-4CF5-877E-CA51C5C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AC47-7E7A-446E-AEF4-15440F89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B5A4-88E2-4DBB-9830-E7C9BB64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D064-6D4B-4605-9C4A-236BB855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08F5-6CFF-4CD0-87C9-B65E294A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A83-156B-447A-AE7D-9DDB5682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622-743A-4B1E-B904-67CE6EA3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EAD-1F55-445F-98BF-75203175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394-C2C5-42C8-8512-D3C18F80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B95-F351-4A0F-94BE-B764CB87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317-E006-4002-ABF8-0D151BB8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0DF-F697-4EBB-A9A9-9C2AFA99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DF81-0EE8-4BF5-BEDB-C5749B46E4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E335-D62E-4496-9F98-7F105A79FA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26920" y="436572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боту выполняли: ученик 8«а» класса Барнашов Евгений и ученик 8 «б» класса Гордеев Вас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268280"/>
            <a:ext cx="7416720" cy="265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паргалки по теме 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ПРОЦЕНТЫ".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часть составляет одна величина от другой (в процентах).Нужно меньшую величину разделить на большую и умножить на 100 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03640" y="0"/>
            <a:ext cx="308592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авило</a:t>
            </a:r>
            <a:endParaRPr b="0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917360"/>
            <a:ext cx="403848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Процен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это одн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ота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асть от данной велич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58920" y="189000"/>
            <a:ext cx="813420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процент?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88000" y="1846440"/>
          <a:ext cx="3236760" cy="1919160"/>
        </p:xfrm>
        <a:graphic>
          <a:graphicData uri="http://schemas.openxmlformats.org/drawingml/2006/table">
            <a:tbl>
              <a:tblPr/>
              <a:tblGrid>
                <a:gridCol w="323676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%=0,01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250920" y="3573360"/>
            <a:ext cx="88930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сантиметр 1% от одного ме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на копейка 1% от одного руб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килограмм 1% от одного центне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которые часто используемые дроби заменяются процентами следующим образ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вина: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½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Четверть: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25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ри четверти: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¾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=75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 целое: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1=100%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333360"/>
            <a:ext cx="5715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S Mincho"/>
              </a:rPr>
              <a:t>Запомни!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S Mincho"/>
              <a:ea typeface="MS Mincho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419640" y="3068640"/>
          <a:ext cx="2304720" cy="647640"/>
        </p:xfrm>
        <a:graphic>
          <a:graphicData uri="http://schemas.openxmlformats.org/drawingml/2006/table">
            <a:tbl>
              <a:tblPr/>
              <a:tblGrid>
                <a:gridCol w="2304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348000" y="3860640"/>
          <a:ext cx="2376360" cy="576360"/>
        </p:xfrm>
        <a:graphic>
          <a:graphicData uri="http://schemas.openxmlformats.org/drawingml/2006/table">
            <a:tbl>
              <a:tblPr/>
              <a:tblGrid>
                <a:gridCol w="2376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708360" y="4581360"/>
          <a:ext cx="1871640" cy="648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635280" y="5300640"/>
          <a:ext cx="1873440" cy="649440"/>
        </p:xfrm>
        <a:graphic>
          <a:graphicData uri="http://schemas.openxmlformats.org/drawingml/2006/table">
            <a:tbl>
              <a:tblPr/>
              <a:tblGrid>
                <a:gridCol w="1873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жно проценты перевести в дробь и умножить на чис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еление составляло 282млн человек из них 66% жило в городах. Сколько человек жило в городах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6%=0.6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.6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82=186.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186.12млн  проживало в городах.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03280" y="333360"/>
            <a:ext cx="6912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ахождение процента от числа.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центы перевести в дробь и соответствующую часть величины разделить на эту дроб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 процента от имеющейся жидкости составляет 0.2 литра. Сколько всего жидк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2:0.02=10(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вет: всего 10 литров жидк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26920" y="-171360"/>
            <a:ext cx="70866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хождение величины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его проценту.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ящике было 120 яблок. Из них было 30 красных. Сколько % составляют красные ябло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:120*100%=25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вет: в ящике 25% красных ябл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19640" y="476280"/>
            <a:ext cx="2152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ча</a:t>
            </a:r>
            <a:endParaRPr b="1" i="1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1:08:16Z</dcterms:created>
  <dc:creator>Антон</dc:creator>
  <dc:description/>
  <dc:language>en-US</dc:language>
  <cp:lastModifiedBy>Антон</cp:lastModifiedBy>
  <dcterms:modified xsi:type="dcterms:W3CDTF">2007-12-27T04:30:47Z</dcterms:modified>
  <cp:revision>4</cp:revision>
  <dc:subject/>
  <dc:title>Слайд 1</dc:title>
</cp:coreProperties>
</file>