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82A3-B96B-465F-BE45-EDDF3B0A6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2DE7-75C5-47ED-B5E4-46AAF1D0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CFF7-98E0-497C-830F-FCFCAFABB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1BF8-0E45-4A1F-A508-0CAE3B965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4AF9-B2B8-46FB-A358-1FB9AC9B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C7A3-8661-421A-862D-AD57615E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4198-D38C-40CB-A006-6496D361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8389-E6C3-44C3-BC40-29FA153A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DF83-BF93-4575-9ECD-454ED3D3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C08F-DDEE-40E2-AB0A-D1C80AF9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A5FF-19D5-4690-ABC1-7B236775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6635-1443-4056-B2BD-5C5D72A5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11C5-9DE3-441D-881A-E412670D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9DCC-F514-403E-9278-A0BC1513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CE9D-FC9A-4448-8CC6-022B056D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A5DD-B461-4DE2-9E28-C18753F0F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885D-5766-4048-93FD-0AB40FFF6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4EFB-4173-4D0B-814A-0720B793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71DF-8669-4E23-8DE0-3823B157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BC4B-69A5-40FF-AFA1-4B93DB4C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FB93-B0DA-4A8A-83E9-E443467C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31A2-1F3D-4119-BEB9-519DC9E8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AFD5-4CF1-470A-9DB1-BB1192E3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FD3C-439B-4FF7-B691-297C1D69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AF7C-5735-47D1-940B-6E31AE13FA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B4C8-4D6B-41DD-BFEA-FAC6EB21AB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826920" y="436572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боту выполняли: ученик 8«а» класса Барнашов Евгений и ученик 8 «б» класса Гордеев Васил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42920" y="1268280"/>
            <a:ext cx="7416720" cy="265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Шпаргалки по теме 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ПРОЦЕНТЫ".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ую часть составляет одна величина от другой (в процентах).Нужно меньшую величину разделить на большую и умножить на 100 %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203640" y="0"/>
            <a:ext cx="308592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равило</a:t>
            </a:r>
            <a:endParaRPr b="0" i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360" y="1917360"/>
            <a:ext cx="403848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Процен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это одна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сотая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асть от данной величи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58920" y="189000"/>
            <a:ext cx="8134200" cy="14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Что такое процент?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788000" y="1846440"/>
          <a:ext cx="3236760" cy="1919160"/>
        </p:xfrm>
        <a:graphic>
          <a:graphicData uri="http://schemas.openxmlformats.org/drawingml/2006/table">
            <a:tbl>
              <a:tblPr/>
              <a:tblGrid>
                <a:gridCol w="3236760"/>
              </a:tblGrid>
              <a:tr h="19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%=0,01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250920" y="3573360"/>
            <a:ext cx="889308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Один сантиметр 1% от одного мет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Одна копейка 1% от одного руб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Один килограмм 1% от одного центне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136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которые часто используемые дроби заменяются процентами следующим образом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овина: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½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=50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Четверть: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¼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=25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Три четверти: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¾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=75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Одно целое: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1=100%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35280" y="333360"/>
            <a:ext cx="5715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S Mincho"/>
              </a:rPr>
              <a:t>Запомни!</a:t>
            </a:r>
            <a:endParaRPr b="0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S Mincho"/>
              <a:ea typeface="MS Mincho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419640" y="3068640"/>
          <a:ext cx="2304720" cy="647640"/>
        </p:xfrm>
        <a:graphic>
          <a:graphicData uri="http://schemas.openxmlformats.org/drawingml/2006/table">
            <a:tbl>
              <a:tblPr/>
              <a:tblGrid>
                <a:gridCol w="230472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348000" y="3860640"/>
          <a:ext cx="2376360" cy="576360"/>
        </p:xfrm>
        <a:graphic>
          <a:graphicData uri="http://schemas.openxmlformats.org/drawingml/2006/table">
            <a:tbl>
              <a:tblPr/>
              <a:tblGrid>
                <a:gridCol w="23763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3708360" y="4581360"/>
          <a:ext cx="1871640" cy="648000"/>
        </p:xfrm>
        <a:graphic>
          <a:graphicData uri="http://schemas.openxmlformats.org/drawingml/2006/table">
            <a:tbl>
              <a:tblPr/>
              <a:tblGrid>
                <a:gridCol w="187164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3635280" y="5300640"/>
          <a:ext cx="1873440" cy="649440"/>
        </p:xfrm>
        <a:graphic>
          <a:graphicData uri="http://schemas.openxmlformats.org/drawingml/2006/table">
            <a:tbl>
              <a:tblPr/>
              <a:tblGrid>
                <a:gridCol w="1873440"/>
              </a:tblGrid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ужно проценты перевести в дробь и умножить на числ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АЧ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селение составляло 282млн человек из них 66% жило в городах. Сколько человек жило в городах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Ш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6%=0.6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0.6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282=186.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вет: 186.12млн  проживало в городах.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403280" y="333360"/>
            <a:ext cx="691200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Нахождение процента от числа.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АВИЛ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центы перевести в дробь и соответствующую часть величины разделить на эту дроб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ДАЧ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ва процента от имеющейся жидкости составляет 0.2 литра. Сколько всего жидкост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Ш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2:0.02=10(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вет: всего 10 литров жидк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26920" y="-171360"/>
            <a:ext cx="7086600" cy="17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хождение величины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 его проценту.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ящике было 120 яблок. Из них было 30 красных. Сколько % составляют красные яблок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ше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:120*100%=25%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вет: в ящике 25% красных ябл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419640" y="476280"/>
            <a:ext cx="2152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Задача</a:t>
            </a:r>
            <a:endParaRPr b="1" i="1" lang="en-US" sz="4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5T01:08:16Z</dcterms:created>
  <dc:creator>Антон</dc:creator>
  <dc:description/>
  <dc:language>en-US</dc:language>
  <cp:lastModifiedBy>Антон</cp:lastModifiedBy>
  <dcterms:modified xsi:type="dcterms:W3CDTF">2007-12-27T04:30:47Z</dcterms:modified>
  <cp:revision>4</cp:revision>
  <dc:subject/>
  <dc:title>Слайд 1</dc:title>
</cp:coreProperties>
</file>