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01E-CA33-446C-8B00-28CBB411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D6F-055A-4E39-B5B4-8D6A1ECC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55A-4598-4C5E-AD67-DAF89355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57A-1626-486C-A0E3-4B2D409C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99BC-DFC0-4635-8E71-813C9410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A88-0FCC-4EFD-A6EA-B361D357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65F-F42A-431A-9E71-72D6074C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2F5-BB18-493C-AC31-A28ECEB2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B15-E87A-499E-A0DA-3C71F6B5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1B56-4ABB-41DD-B68D-5B75859C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80C-5803-4EF2-B876-E6860EC5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C27-A079-4D92-AA3D-CD46E357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6632-C375-41B3-A6B1-972753BF4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2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3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3.jpeg"/><Relationship Id="rId10" Type="http://schemas.openxmlformats.org/officeDocument/2006/relationships/image" Target="../media/image6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3.jpeg"/><Relationship Id="rId9" Type="http://schemas.openxmlformats.org/officeDocument/2006/relationships/image" Target="../media/image6.jpeg"/><Relationship Id="rId10" Type="http://schemas.openxmlformats.org/officeDocument/2006/relationships/image" Target="../media/image11.jpe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3.jpeg"/><Relationship Id="rId8" Type="http://schemas.openxmlformats.org/officeDocument/2006/relationships/image" Target="../media/image6.jpeg"/><Relationship Id="rId9" Type="http://schemas.openxmlformats.org/officeDocument/2006/relationships/image" Target="../media/image11.jpeg"/><Relationship Id="rId10" Type="http://schemas.openxmlformats.org/officeDocument/2006/relationships/image" Target="../media/image9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3.jpeg"/><Relationship Id="rId7" Type="http://schemas.openxmlformats.org/officeDocument/2006/relationships/image" Target="../media/image6.jpeg"/><Relationship Id="rId8" Type="http://schemas.openxmlformats.org/officeDocument/2006/relationships/image" Target="../media/image11.jpeg"/><Relationship Id="rId9" Type="http://schemas.openxmlformats.org/officeDocument/2006/relationships/image" Target="../media/image9.png"/><Relationship Id="rId10" Type="http://schemas.openxmlformats.org/officeDocument/2006/relationships/image" Target="../media/image8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image" Target="../media/image11.jpeg"/><Relationship Id="rId8" Type="http://schemas.openxmlformats.org/officeDocument/2006/relationships/image" Target="../media/image9.png"/><Relationship Id="rId9" Type="http://schemas.openxmlformats.org/officeDocument/2006/relationships/image" Target="../media/image8.jpeg"/><Relationship Id="rId10" Type="http://schemas.openxmlformats.org/officeDocument/2006/relationships/image" Target="../media/image10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914400"/>
            <a:ext cx="6705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оверочная работа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 биологии 6 класс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2232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иродные зоны</a:t>
            </a:r>
            <a:endParaRPr b="0" lang="en-US" sz="1800" spc="1" strike="noStrike">
              <a:ln cap="rnd" w="2232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33920" y="5715000"/>
            <a:ext cx="52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читель МОУ "СОШ № 124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еревалова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373392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(степь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7"/>
          <a:stretch/>
        </p:blipFill>
        <p:spPr>
          <a:xfrm>
            <a:off x="304920" y="3505320"/>
            <a:ext cx="1904760" cy="126972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8"/>
          <a:stretch/>
        </p:blipFill>
        <p:spPr>
          <a:xfrm>
            <a:off x="1828800" y="3962520"/>
            <a:ext cx="2057400" cy="154296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9"/>
          <a:stretch/>
        </p:blipFill>
        <p:spPr>
          <a:xfrm>
            <a:off x="228600" y="4952880"/>
            <a:ext cx="2081160" cy="13716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ждом ряду одно растение лиш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это раст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790640" cy="179064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18651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952880" y="2286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34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762120" y="2438280"/>
            <a:ext cx="1790640" cy="17910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281952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1955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281952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8380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790640" cy="179064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18651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952880" y="2286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49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762120" y="2438280"/>
            <a:ext cx="1790640" cy="17910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281952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5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1955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11"/>
          <a:stretch/>
        </p:blipFill>
        <p:spPr>
          <a:xfrm>
            <a:off x="281952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12"/>
          <a:stretch/>
        </p:blipFill>
        <p:spPr>
          <a:xfrm>
            <a:off x="8380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876920" y="228600"/>
            <a:ext cx="1981080" cy="1905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876920" y="304920"/>
            <a:ext cx="190476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790640" cy="179064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18651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4952880" y="2286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66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62120" y="2438280"/>
            <a:ext cx="1790640" cy="17910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281952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1955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281952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8380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4876920" y="228600"/>
            <a:ext cx="1981080" cy="1905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876920" y="304920"/>
            <a:ext cx="190476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086600" y="2362320"/>
            <a:ext cx="182880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010280" y="2514600"/>
            <a:ext cx="190512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790640" cy="179064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819520" y="228600"/>
            <a:ext cx="18651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4952880" y="2286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85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762120" y="2438280"/>
            <a:ext cx="1790640" cy="17910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281952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70866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4952880" y="4572000"/>
            <a:ext cx="1955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281952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8380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296" name=""/>
          <p:cNvSpPr/>
          <p:nvPr/>
        </p:nvSpPr>
        <p:spPr>
          <a:xfrm>
            <a:off x="4876920" y="228600"/>
            <a:ext cx="1981080" cy="1905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876920" y="304920"/>
            <a:ext cx="190476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2362320"/>
            <a:ext cx="1828800" cy="1904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7010280" y="2514600"/>
            <a:ext cx="190512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62120" y="4572000"/>
            <a:ext cx="190476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38080" y="4572000"/>
            <a:ext cx="1828800" cy="1905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предложенных растений выберите только те, которые произрастают в тунд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ведите курсор мыши на рисунок, если ничего не происходит, значит вы выбрали не верный рис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8195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228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19810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429000" y="32767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7692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429000" y="3200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3429000" y="3505320"/>
            <a:ext cx="1523880" cy="1573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28600" y="914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2819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3429000" y="3200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3429000" y="3505320"/>
            <a:ext cx="1523880" cy="1573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228600" y="914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52280" y="121932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762120" y="3505320"/>
            <a:ext cx="1447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в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525780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3429000" y="3200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3429000" y="3505320"/>
            <a:ext cx="1523880" cy="1573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28600" y="914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152280" y="121932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762120" y="3505320"/>
            <a:ext cx="1447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в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533520" y="3886200"/>
            <a:ext cx="1676160" cy="15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2971800" y="106668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чи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772400" y="403848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3429000" y="3200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3429000" y="3505320"/>
            <a:ext cx="1523880" cy="1573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228600" y="914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152280" y="121932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762120" y="3505320"/>
            <a:ext cx="1447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в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533520" y="3886200"/>
            <a:ext cx="1676160" cy="15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2971800" y="106668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чи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2895480" y="1371600"/>
            <a:ext cx="1752840" cy="1617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5410080" y="3049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ар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5562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27432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152280"/>
            <a:ext cx="30481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еп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772400" y="1523880"/>
            <a:ext cx="990720" cy="976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5791320" y="3048120"/>
            <a:ext cx="160020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3429000" y="3200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лы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3429000" y="3505320"/>
            <a:ext cx="1523880" cy="1573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228600" y="91440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152280" y="1219320"/>
            <a:ext cx="1524240" cy="1523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762120" y="3505320"/>
            <a:ext cx="1447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вы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9"/>
          <a:stretch/>
        </p:blipFill>
        <p:spPr>
          <a:xfrm>
            <a:off x="533520" y="3886200"/>
            <a:ext cx="1676160" cy="154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2971800" y="106668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чи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0"/>
          <a:stretch/>
        </p:blipFill>
        <p:spPr>
          <a:xfrm>
            <a:off x="2895480" y="1371600"/>
            <a:ext cx="1752840" cy="16178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5410080" y="30492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ар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5334120" y="609480"/>
            <a:ext cx="1676160" cy="15480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6-26T03:35:35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