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BAC-CD8F-44A9-8AD3-CD86AB88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7CD-A2FE-491C-A05F-90B70263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872-181F-4AC6-A2F6-A4D7A9B8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CBE-9F75-4979-9477-1AE59F58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C18-9E09-498D-A27B-4998C659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F75-C16E-475A-A8D7-321898E2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01E-A959-4820-9F3C-41A829E8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A46-9662-4A3C-9B98-94DB3F96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0B0-A1A0-4F1D-B586-D6ACA96D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879-66CD-4477-BB3A-9ABE98F0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AAB-E948-4D59-92CB-22418685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049-2F41-4C98-9132-14FA28B5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F5D9-38DD-4BEF-BF82-DD9463674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11.jpe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11.jpe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11.jpe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11.jpe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3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3.jpeg"/><Relationship Id="rId10" Type="http://schemas.openxmlformats.org/officeDocument/2006/relationships/image" Target="../media/image6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3.jpeg"/><Relationship Id="rId9" Type="http://schemas.openxmlformats.org/officeDocument/2006/relationships/image" Target="../media/image6.jpeg"/><Relationship Id="rId10" Type="http://schemas.openxmlformats.org/officeDocument/2006/relationships/image" Target="../media/image11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3.jpeg"/><Relationship Id="rId8" Type="http://schemas.openxmlformats.org/officeDocument/2006/relationships/image" Target="../media/image6.jpeg"/><Relationship Id="rId9" Type="http://schemas.openxmlformats.org/officeDocument/2006/relationships/image" Target="../media/image11.jpeg"/><Relationship Id="rId10" Type="http://schemas.openxmlformats.org/officeDocument/2006/relationships/image" Target="../media/image9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3.jpeg"/><Relationship Id="rId7" Type="http://schemas.openxmlformats.org/officeDocument/2006/relationships/image" Target="../media/image6.jpeg"/><Relationship Id="rId8" Type="http://schemas.openxmlformats.org/officeDocument/2006/relationships/image" Target="../media/image11.jpeg"/><Relationship Id="rId9" Type="http://schemas.openxmlformats.org/officeDocument/2006/relationships/image" Target="../media/image9.png"/><Relationship Id="rId10" Type="http://schemas.openxmlformats.org/officeDocument/2006/relationships/image" Target="../media/image8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image" Target="../media/image11.jpeg"/><Relationship Id="rId8" Type="http://schemas.openxmlformats.org/officeDocument/2006/relationships/image" Target="../media/image9.png"/><Relationship Id="rId9" Type="http://schemas.openxmlformats.org/officeDocument/2006/relationships/image" Target="../media/image8.jpeg"/><Relationship Id="rId10" Type="http://schemas.openxmlformats.org/officeDocument/2006/relationships/image" Target="../media/image10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914400"/>
            <a:ext cx="67053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оверочная работа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о биологии 6 класс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риродные зоны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733920" y="5715000"/>
            <a:ext cx="520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читель МОУ "СОШ № 124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еревалова С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00600" y="373392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(степь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7"/>
          <a:stretch/>
        </p:blipFill>
        <p:spPr>
          <a:xfrm>
            <a:off x="304920" y="3505320"/>
            <a:ext cx="1904760" cy="126972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8"/>
          <a:stretch/>
        </p:blipFill>
        <p:spPr>
          <a:xfrm>
            <a:off x="1828800" y="3962520"/>
            <a:ext cx="2057400" cy="15429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9"/>
          <a:stretch/>
        </p:blipFill>
        <p:spPr>
          <a:xfrm>
            <a:off x="228600" y="4952880"/>
            <a:ext cx="2081160" cy="13716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аждом ряду одно растение лишн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это расте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1790640" cy="179064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19520" y="228600"/>
            <a:ext cx="18651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4952880" y="2286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34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762120" y="2438280"/>
            <a:ext cx="1790640" cy="17910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2819520" y="243828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49528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70866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4952880" y="4572000"/>
            <a:ext cx="1955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11"/>
          <a:stretch/>
        </p:blipFill>
        <p:spPr>
          <a:xfrm>
            <a:off x="281952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12"/>
          <a:stretch/>
        </p:blipFill>
        <p:spPr>
          <a:xfrm>
            <a:off x="8380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1790640" cy="179064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819520" y="228600"/>
            <a:ext cx="18651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952880" y="2286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49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762120" y="2438280"/>
            <a:ext cx="1790640" cy="17910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2819520" y="243828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49528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6" name="" descr=""/>
          <p:cNvPicPr/>
          <p:nvPr/>
        </p:nvPicPr>
        <p:blipFill>
          <a:blip r:embed="rId9"/>
          <a:stretch/>
        </p:blipFill>
        <p:spPr>
          <a:xfrm>
            <a:off x="70866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10"/>
          <a:stretch/>
        </p:blipFill>
        <p:spPr>
          <a:xfrm>
            <a:off x="4952880" y="4572000"/>
            <a:ext cx="1955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11"/>
          <a:stretch/>
        </p:blipFill>
        <p:spPr>
          <a:xfrm>
            <a:off x="281952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12"/>
          <a:stretch/>
        </p:blipFill>
        <p:spPr>
          <a:xfrm>
            <a:off x="8380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876920" y="228600"/>
            <a:ext cx="1981080" cy="1905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876920" y="304920"/>
            <a:ext cx="190476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1790640" cy="179064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819520" y="228600"/>
            <a:ext cx="18651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4952880" y="2286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66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62120" y="2438280"/>
            <a:ext cx="1790640" cy="17910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2819520" y="243828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49528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70866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>
            <a:off x="4952880" y="4572000"/>
            <a:ext cx="1955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>
            <a:off x="281952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12"/>
          <a:stretch/>
        </p:blipFill>
        <p:spPr>
          <a:xfrm>
            <a:off x="8380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77" name=""/>
          <p:cNvSpPr/>
          <p:nvPr/>
        </p:nvSpPr>
        <p:spPr>
          <a:xfrm>
            <a:off x="4876920" y="228600"/>
            <a:ext cx="1981080" cy="1905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876920" y="304920"/>
            <a:ext cx="190476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086600" y="2362320"/>
            <a:ext cx="1828800" cy="1904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010280" y="2514600"/>
            <a:ext cx="190512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1790640" cy="179064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2819520" y="228600"/>
            <a:ext cx="18651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4952880" y="2286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85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762120" y="2438280"/>
            <a:ext cx="1790640" cy="17910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2819520" y="243828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49528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70866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4952880" y="4572000"/>
            <a:ext cx="1955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11"/>
          <a:stretch/>
        </p:blipFill>
        <p:spPr>
          <a:xfrm>
            <a:off x="281952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12"/>
          <a:stretch/>
        </p:blipFill>
        <p:spPr>
          <a:xfrm>
            <a:off x="8380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96" name=""/>
          <p:cNvSpPr/>
          <p:nvPr/>
        </p:nvSpPr>
        <p:spPr>
          <a:xfrm>
            <a:off x="4876920" y="228600"/>
            <a:ext cx="1981080" cy="1905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876920" y="304920"/>
            <a:ext cx="190476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86600" y="2362320"/>
            <a:ext cx="1828800" cy="1904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010280" y="2514600"/>
            <a:ext cx="190512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62120" y="4572000"/>
            <a:ext cx="190476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4572000"/>
            <a:ext cx="1828800" cy="1905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 предложенных растений выберите только те, которые произрастают в тунд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ведите курсор мыши на рисунок, если ничего не происходит, значит вы выбрали не верный рису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8195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152280"/>
            <a:ext cx="3048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7772400" y="1523880"/>
            <a:ext cx="990720" cy="976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52280"/>
            <a:ext cx="3048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7772400" y="1523880"/>
            <a:ext cx="990720" cy="97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5791320" y="3048120"/>
            <a:ext cx="160020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429000" y="32767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лы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52280"/>
            <a:ext cx="3048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7772400" y="1523880"/>
            <a:ext cx="990720" cy="97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5791320" y="3048120"/>
            <a:ext cx="160020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429000" y="3200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лы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3429000" y="3505320"/>
            <a:ext cx="1523880" cy="1573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228600" y="914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лоч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152280"/>
            <a:ext cx="3048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772400" y="1523880"/>
            <a:ext cx="990720" cy="976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5791320" y="3048120"/>
            <a:ext cx="160020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3429000" y="3200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лы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3429000" y="3505320"/>
            <a:ext cx="1523880" cy="1573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228600" y="914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лоч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152280" y="121932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762120" y="3505320"/>
            <a:ext cx="1447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вы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152280"/>
            <a:ext cx="3048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76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5791320" y="3048120"/>
            <a:ext cx="160020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3429000" y="3200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лы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3429000" y="3505320"/>
            <a:ext cx="1523880" cy="1573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228600" y="914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лоч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152280" y="121932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762120" y="3505320"/>
            <a:ext cx="1447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вы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533520" y="3886200"/>
            <a:ext cx="1676160" cy="154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2971800" y="106668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чи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152280"/>
            <a:ext cx="3048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7772400" y="1523880"/>
            <a:ext cx="990720" cy="976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5791320" y="3048120"/>
            <a:ext cx="160020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3429000" y="3200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лы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3429000" y="3505320"/>
            <a:ext cx="1523880" cy="1573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228600" y="914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лоч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152280" y="121932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762120" y="3505320"/>
            <a:ext cx="1447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вы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533520" y="3886200"/>
            <a:ext cx="1676160" cy="154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2971800" y="106668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чи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2895480" y="1371600"/>
            <a:ext cx="1752840" cy="16178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5410080" y="3049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парж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52280"/>
            <a:ext cx="3048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772400" y="1523880"/>
            <a:ext cx="990720" cy="976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5791320" y="3048120"/>
            <a:ext cx="160020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3429000" y="3200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лы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3429000" y="3505320"/>
            <a:ext cx="1523880" cy="1573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228600" y="914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лоч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152280" y="121932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762120" y="3505320"/>
            <a:ext cx="1447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вы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9"/>
          <a:stretch/>
        </p:blipFill>
        <p:spPr>
          <a:xfrm>
            <a:off x="533520" y="3886200"/>
            <a:ext cx="1676160" cy="154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2971800" y="106668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чи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2895480" y="1371600"/>
            <a:ext cx="1752840" cy="16178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5410080" y="3049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парж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5334120" y="609480"/>
            <a:ext cx="1676160" cy="15480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6-26T03:35:3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