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368-C74B-4B4F-BAC2-5BF8AF44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D9F-222F-44D6-9F65-7311472F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104-9426-4C91-9DDC-74FCAE2B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AB3-D326-4BCF-B949-E5B9A6B7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1F2-4185-440C-A5D9-B3A8946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053-1533-4334-915E-068C9E77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83C-5AD2-4807-8F39-46D0B875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68B3-2698-4797-9A80-B81A23BD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CEF-4AA2-4B83-BB2E-FFBBA7BC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419-CEAF-4C37-9B63-AAC6916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502-61D9-48A4-95C8-9C0527F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429-7495-43D6-83F6-89F55FA2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29E3-3EA2-4979-9A77-5DFB061F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9.jpeg"/><Relationship Id="rId8" Type="http://schemas.openxmlformats.org/officeDocument/2006/relationships/image" Target="../media/image21.jpeg"/><Relationship Id="rId9" Type="http://schemas.openxmlformats.org/officeDocument/2006/relationships/image" Target="../media/image8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3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228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тайг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228600" y="3505320"/>
            <a:ext cx="24382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2438280" y="3809880"/>
            <a:ext cx="2210040" cy="16574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609480" y="4952880"/>
            <a:ext cx="2286000" cy="17146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57913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68" name=""/>
          <p:cNvSpPr/>
          <p:nvPr/>
        </p:nvSpPr>
        <p:spPr>
          <a:xfrm>
            <a:off x="5943600" y="22860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1"/>
          <a:stretch/>
        </p:blipFill>
        <p:spPr>
          <a:xfrm>
            <a:off x="5943600" y="609480"/>
            <a:ext cx="1523880" cy="16002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4114800" y="8380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ь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038480" y="121932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4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5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6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7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283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31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24280" y="2286000"/>
            <a:ext cx="1828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800600" y="220968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609560" cy="1638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1676520" cy="1644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1676520" cy="16761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6781680" y="304920"/>
            <a:ext cx="1676520" cy="164448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sp>
        <p:nvSpPr>
          <p:cNvPr id="33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914400" y="2286000"/>
            <a:ext cx="162576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2819520" y="2286000"/>
            <a:ext cx="175248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7"/>
          <a:stretch/>
        </p:blipFill>
        <p:spPr>
          <a:xfrm>
            <a:off x="6781680" y="2286000"/>
            <a:ext cx="1676520" cy="1752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8"/>
          <a:stretch/>
        </p:blipFill>
        <p:spPr>
          <a:xfrm>
            <a:off x="4800600" y="2286000"/>
            <a:ext cx="1708200" cy="1752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9"/>
          <a:stretch/>
        </p:blipFill>
        <p:spPr>
          <a:xfrm>
            <a:off x="838080" y="4419720"/>
            <a:ext cx="1752840" cy="17874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10"/>
          <a:stretch/>
        </p:blipFill>
        <p:spPr>
          <a:xfrm>
            <a:off x="4800600" y="4419720"/>
            <a:ext cx="1752480" cy="182880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2819520" y="4419720"/>
            <a:ext cx="1752480" cy="1828800"/>
          </a:xfrm>
          <a:prstGeom prst="rect">
            <a:avLst/>
          </a:prstGeom>
          <a:ln w="25560">
            <a:solidFill>
              <a:srgbClr val="339966"/>
            </a:solidFill>
            <a:miter/>
          </a:ln>
        </p:spPr>
      </p:pic>
      <p:pic>
        <p:nvPicPr>
          <p:cNvPr id="343" name="" descr=""/>
          <p:cNvPicPr/>
          <p:nvPr/>
        </p:nvPicPr>
        <p:blipFill>
          <a:blip r:embed="rId12"/>
          <a:stretch/>
        </p:blipFill>
        <p:spPr>
          <a:xfrm>
            <a:off x="6781680" y="4419720"/>
            <a:ext cx="1708200" cy="1828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781680" y="2286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800600" y="228600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895480" y="4419720"/>
            <a:ext cx="167652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9400" y="228600"/>
            <a:ext cx="19810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2286000"/>
            <a:ext cx="182880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419720"/>
            <a:ext cx="1828800" cy="1981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9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0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0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1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2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55627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5943600" y="3049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614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0" y="304920"/>
            <a:ext cx="2895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15238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52280" y="0"/>
            <a:ext cx="1524240" cy="152388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57200" y="5715000"/>
            <a:ext cx="1066680" cy="866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743200" y="3505320"/>
            <a:ext cx="1447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2743200" y="3886200"/>
            <a:ext cx="152388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5791320" y="2590920"/>
            <a:ext cx="1447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х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1112760" cy="838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562720" y="2971800"/>
            <a:ext cx="1523880" cy="152388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762120" y="2362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6840" cy="9907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762120" y="2743200"/>
            <a:ext cx="1600200" cy="151452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43600" y="22860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5943600" y="609480"/>
            <a:ext cx="1523880" cy="1600200"/>
          </a:xfrm>
          <a:prstGeom prst="rect">
            <a:avLst/>
          </a:prstGeom>
          <a:ln w="22320">
            <a:solidFill>
              <a:srgbClr val="ffffff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4114800" y="838080"/>
            <a:ext cx="1447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нь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3505320" y="5715000"/>
            <a:ext cx="97632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3"/>
          <a:stretch/>
        </p:blipFill>
        <p:spPr>
          <a:xfrm>
            <a:off x="1981080" y="5715000"/>
            <a:ext cx="10717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4"/>
          <a:stretch/>
        </p:blipFill>
        <p:spPr>
          <a:xfrm>
            <a:off x="7772400" y="2819520"/>
            <a:ext cx="990720" cy="888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5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5T05:52:3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