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2.jpeg" ContentType="image/jpeg"/>
  <Override PartName="/ppt/media/image13.png" ContentType="image/pn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1A1F-3937-44D0-BA69-9F3AEBC0CE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2CA5-4E03-4A09-B8E9-983427BBBC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D74C-CDBB-4317-8275-3D93AFE368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EB78-5CA9-494E-92BA-ED97FF4E77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DEE6-4E5D-43B6-9CCA-40875EC065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8779-4627-41A3-A3E8-64CF3C0FE9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0210-B475-40E9-BBA3-5AAC10DA7D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CD2B-E379-433B-A656-09B4C2341A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8C06-DA35-4E98-8980-7A9CC3B07D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429B-BDBC-46F3-AAE3-9DF6BE4DCA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8298-05D0-4C5A-A6CB-45A8F9C3B8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60E5-C624-4EF4-91BA-17207466C9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1C55-2AF6-4FC5-B0F5-5FD2645616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5869-2E0F-4903-9AA0-AA177560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3440-EE4E-4740-8D38-0236F20A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BC14-AECA-4810-96E3-EF8AE67B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DFC-A974-48AF-929D-13FC0A7D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647-5057-47D9-BDF0-CEA2678C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332E-3302-4A1F-B26A-9FC376D8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792-F65C-4C6D-933C-0D15DB62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91D8-E9F1-44B8-AE1D-86028880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B85-4161-49F2-AA28-0ED69E83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1C31-6B20-4E28-B877-AA7089FF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3A7E-D024-4E5C-8EEF-9F8EF10F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9FD1-7EF0-425C-96F8-E8131C99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AF20-8158-4F80-9624-7F6C0F1BCFE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4" descr="C:\Users\Динара\Desktop\зимние картинки\846686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 rot="21236400">
            <a:off x="1040760" y="1376280"/>
            <a:ext cx="2643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바탕"/>
                <a:ea typeface="바탕"/>
              </a:rPr>
              <a:t>Мои друзь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바탕"/>
                <a:ea typeface="바탕"/>
              </a:rPr>
              <a:t>Вы самые лучшие дети на све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바탕"/>
                <a:ea typeface="바탕"/>
              </a:rPr>
              <a:t>Вы яркие солныш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바탕"/>
                <a:ea typeface="바탕"/>
              </a:rPr>
              <a:t>Мне вы поверь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바탕"/>
                <a:ea typeface="바탕"/>
              </a:rPr>
              <a:t>Пусть искры улыбок и блеск ваших гла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바탕"/>
                <a:ea typeface="바탕"/>
              </a:rPr>
              <a:t>Сегодня наградой станут для н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 rot="21150600">
            <a:off x="5155200" y="3327840"/>
            <a:ext cx="3000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바탕"/>
                <a:ea typeface="바탕"/>
              </a:rPr>
              <a:t>Мы будем исследовать, будем пис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바탕"/>
                <a:ea typeface="바탕"/>
              </a:rPr>
              <a:t>и знания наши как клад добы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바탕"/>
                <a:ea typeface="바탕"/>
              </a:rPr>
              <a:t>Желаю успехов, желаю удачи, чтоб вместе смогли мы решить все задачи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F:\олимпийские игры\картинки\c5c31d40ffef567d60530e7fa4be82eb.gif"/>
          <p:cNvPicPr/>
          <p:nvPr/>
        </p:nvPicPr>
        <p:blipFill>
          <a:blip r:embed="rId1"/>
          <a:stretch/>
        </p:blipFill>
        <p:spPr>
          <a:xfrm>
            <a:off x="5214960" y="285840"/>
            <a:ext cx="3533760" cy="2581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F:\олимпийские игры\картинки\0a080f1aac2754a546935804a5a51d79.jpg"/>
          <p:cNvPicPr/>
          <p:nvPr/>
        </p:nvPicPr>
        <p:blipFill>
          <a:blip r:embed="rId2"/>
          <a:stretch/>
        </p:blipFill>
        <p:spPr>
          <a:xfrm>
            <a:off x="285840" y="285840"/>
            <a:ext cx="3009960" cy="3098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F:\олимпийские игры\картинки\вапоь.jpg"/>
          <p:cNvPicPr/>
          <p:nvPr/>
        </p:nvPicPr>
        <p:blipFill>
          <a:blip r:embed="rId3"/>
          <a:stretch/>
        </p:blipFill>
        <p:spPr>
          <a:xfrm>
            <a:off x="428760" y="3643200"/>
            <a:ext cx="2786040" cy="2746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F:\олимпийские игры\картинки\preview.jpg"/>
          <p:cNvPicPr/>
          <p:nvPr/>
        </p:nvPicPr>
        <p:blipFill>
          <a:blip r:embed="rId4"/>
          <a:stretch/>
        </p:blipFill>
        <p:spPr>
          <a:xfrm>
            <a:off x="4357800" y="335772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Динара\Desktop\олимпийские игры\6a77e5397fbafd34ead552108680233a_big.jpg"/>
          <p:cNvPicPr/>
          <p:nvPr/>
        </p:nvPicPr>
        <p:blipFill>
          <a:blip r:embed="rId1"/>
          <a:stretch/>
        </p:blipFill>
        <p:spPr>
          <a:xfrm>
            <a:off x="689040" y="281160"/>
            <a:ext cx="7119720" cy="1145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I:\олимпийские игры\1102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f0ff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5"/>
          <p:cNvSpPr/>
          <p:nvPr/>
        </p:nvSpPr>
        <p:spPr>
          <a:xfrm>
            <a:off x="0" y="28584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Monotype Corsiva"/>
              </a:rPr>
              <a:t>Исследовать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0" y="1285920"/>
            <a:ext cx="30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Monotype Corsiva"/>
              </a:rPr>
              <a:t>Исследователь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714760" y="357120"/>
            <a:ext cx="600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Monotype Corsiva"/>
              </a:rPr>
              <a:t>подвергнуть научному изу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2928960" y="135720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Monotype Corsiva"/>
              </a:rPr>
              <a:t>человек, занимающийся научными исследова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76.wmf"/>
          <p:cNvPicPr/>
          <p:nvPr/>
        </p:nvPicPr>
        <p:blipFill>
          <a:blip r:embed="rId1"/>
          <a:stretch/>
        </p:blipFill>
        <p:spPr>
          <a:xfrm>
            <a:off x="0" y="2500200"/>
            <a:ext cx="46720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Динара\Desktop\зимние картинки\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 rot="19868400">
            <a:off x="45360" y="43704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Arial"/>
                <a:ea typeface="바탕"/>
              </a:rPr>
              <a:t>сне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 rot="19882200">
            <a:off x="910800" y="21067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Arial"/>
              </a:rPr>
              <a:t>сугро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 rot="19881000">
            <a:off x="1779840" y="3253320"/>
            <a:ext cx="407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Arial"/>
              </a:rPr>
              <a:t>зим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 rot="19954800">
            <a:off x="2689920" y="4853520"/>
            <a:ext cx="328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Arial"/>
              </a:rPr>
              <a:t>холо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cf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книга"/>
          <p:cNvPicPr/>
          <p:nvPr/>
        </p:nvPicPr>
        <p:blipFill>
          <a:blip r:embed="rId1"/>
          <a:stretch/>
        </p:blipFill>
        <p:spPr>
          <a:xfrm rot="20873400">
            <a:off x="5635800" y="3840120"/>
            <a:ext cx="3157200" cy="290052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714240" y="64296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Сне 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714240" y="150012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Холо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642960" y="25002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Сугро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2286000" y="6429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04fc"/>
                </a:solidFill>
                <a:latin typeface="Arial"/>
              </a:rPr>
              <a:t>[</a:t>
            </a: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сн</a:t>
            </a:r>
            <a:r>
              <a:rPr b="1" lang="en-US" sz="2800" spc="-1" strike="noStrike">
                <a:solidFill>
                  <a:srgbClr val="1004fc"/>
                </a:solidFill>
                <a:latin typeface="Arial"/>
              </a:rPr>
              <a:t>’</a:t>
            </a: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эк</a:t>
            </a:r>
            <a:r>
              <a:rPr b="1" lang="en-US" sz="2800" spc="-1" strike="noStrike">
                <a:solidFill>
                  <a:srgbClr val="1004fc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2357280" y="150012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04fc"/>
                </a:solidFill>
                <a:latin typeface="Arial"/>
              </a:rPr>
              <a:t>[</a:t>
            </a: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холыт</a:t>
            </a:r>
            <a:r>
              <a:rPr b="1" lang="en-US" sz="2800" spc="-1" strike="noStrike">
                <a:solidFill>
                  <a:srgbClr val="1004fc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2357280" y="2500200"/>
            <a:ext cx="18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04fc"/>
                </a:solidFill>
                <a:latin typeface="Arial"/>
              </a:rPr>
              <a:t>[</a:t>
            </a: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сугроп</a:t>
            </a:r>
            <a:r>
              <a:rPr b="1" lang="en-US" sz="2800" spc="-1" strike="noStrike">
                <a:solidFill>
                  <a:srgbClr val="1004fc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714840" y="5716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- сне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г</a:t>
            </a: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3786120" y="150012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-холо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д</a:t>
            </a: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3786120" y="2428920"/>
            <a:ext cx="20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-сугро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б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714240" y="3643200"/>
            <a:ext cx="13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З…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714240" y="45007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Хол…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2214720" y="36432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- з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м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2286000" y="45007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- хол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lang="ru-RU" sz="2800" spc="-1" strike="noStrike">
                <a:solidFill>
                  <a:srgbClr val="1004fc"/>
                </a:solidFill>
                <a:latin typeface="Arial"/>
              </a:rPr>
              <a:t>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1428840" y="6429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1500120" y="150012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8"/>
          <p:cNvSpPr/>
          <p:nvPr/>
        </p:nvSpPr>
        <p:spPr>
          <a:xfrm>
            <a:off x="1714680" y="250020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9"/>
          <p:cNvSpPr/>
          <p:nvPr/>
        </p:nvSpPr>
        <p:spPr>
          <a:xfrm>
            <a:off x="1071720" y="364320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0"/>
          <p:cNvSpPr/>
          <p:nvPr/>
        </p:nvSpPr>
        <p:spPr>
          <a:xfrm>
            <a:off x="1428840" y="45007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i-188540 - копия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684360" y="1628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84360" y="1628640"/>
            <a:ext cx="158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92200" y="1073160"/>
            <a:ext cx="18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684360" y="1557360"/>
            <a:ext cx="201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моро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698400" y="1125360"/>
            <a:ext cx="16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785880" y="8571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3348000" y="9079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Мн.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6443640" y="9079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Чег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735120" y="2852640"/>
            <a:ext cx="18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6"/>
          <p:cNvSpPr/>
          <p:nvPr/>
        </p:nvSpPr>
        <p:spPr>
          <a:xfrm>
            <a:off x="6659640" y="2924280"/>
            <a:ext cx="649080" cy="64908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7956720" y="3141720"/>
            <a:ext cx="360360" cy="358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3419640" y="299736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Мн.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492360" y="1628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моро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6156360" y="1628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моро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611280" y="3645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г…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3"/>
          <p:cNvSpPr/>
          <p:nvPr/>
        </p:nvSpPr>
        <p:spPr>
          <a:xfrm>
            <a:off x="3564000" y="357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г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6300720" y="35733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г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9"/>
          <p:cNvSpPr/>
          <p:nvPr/>
        </p:nvSpPr>
        <p:spPr>
          <a:xfrm>
            <a:off x="1857240" y="1571760"/>
            <a:ext cx="50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з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0"/>
          <p:cNvSpPr/>
          <p:nvPr/>
        </p:nvSpPr>
        <p:spPr>
          <a:xfrm>
            <a:off x="857160" y="3643200"/>
            <a:ext cx="50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i-188540 - копия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684360" y="1628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4360" y="1628640"/>
            <a:ext cx="158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92200" y="1073160"/>
            <a:ext cx="18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900000" y="1773360"/>
            <a:ext cx="129564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98400" y="1125360"/>
            <a:ext cx="16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4360" y="1557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шар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492360" y="1557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шар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30072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шар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684360" y="2276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тулу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227664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тулу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6227640" y="227664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тулу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684360" y="3573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с…с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539640" y="4365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зв…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3564000" y="3573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с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6372360" y="3573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с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3419640" y="43657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з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з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6156360" y="4365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з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зд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0"/>
          <p:cNvSpPr/>
          <p:nvPr/>
        </p:nvSpPr>
        <p:spPr>
          <a:xfrm>
            <a:off x="1714680" y="1571760"/>
            <a:ext cx="50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1"/>
          <p:cNvSpPr/>
          <p:nvPr/>
        </p:nvSpPr>
        <p:spPr>
          <a:xfrm>
            <a:off x="1785960" y="2286000"/>
            <a:ext cx="50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2"/>
          <p:cNvSpPr/>
          <p:nvPr/>
        </p:nvSpPr>
        <p:spPr>
          <a:xfrm>
            <a:off x="1000080" y="3571920"/>
            <a:ext cx="50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3"/>
          <p:cNvSpPr/>
          <p:nvPr/>
        </p:nvSpPr>
        <p:spPr>
          <a:xfrm>
            <a:off x="1071720" y="4357800"/>
            <a:ext cx="50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:\урок..)\1260612572_novog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C:\Users\Динара\Desktop\зимние картинки\prihodi_na_kato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H:\олимпийские игры\08225244a89090749c2d9fe205feb1b8.jpeg"/>
          <p:cNvPicPr/>
          <p:nvPr/>
        </p:nvPicPr>
        <p:blipFill>
          <a:blip r:embed="rId2"/>
          <a:stretch/>
        </p:blipFill>
        <p:spPr>
          <a:xfrm>
            <a:off x="3000240" y="4000680"/>
            <a:ext cx="2864160" cy="2643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C:\Users\Динара\Desktop\зимние картинки\507368.jpg"/>
          <p:cNvPicPr/>
          <p:nvPr/>
        </p:nvPicPr>
        <p:blipFill>
          <a:blip r:embed="rId3"/>
          <a:stretch/>
        </p:blipFill>
        <p:spPr>
          <a:xfrm>
            <a:off x="6643800" y="3786120"/>
            <a:ext cx="2500200" cy="3071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H:\олимпийские игры\7c3e9547657c.jpg"/>
          <p:cNvPicPr/>
          <p:nvPr/>
        </p:nvPicPr>
        <p:blipFill>
          <a:blip r:embed="rId4"/>
          <a:stretch/>
        </p:blipFill>
        <p:spPr>
          <a:xfrm>
            <a:off x="6715080" y="571680"/>
            <a:ext cx="2428920" cy="25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C:\Users\Динара\Desktop\1260612572_novog41 - копия.jpg"/>
          <p:cNvPicPr/>
          <p:nvPr/>
        </p:nvPicPr>
        <p:blipFill>
          <a:blip r:embed="rId5"/>
          <a:stretch/>
        </p:blipFill>
        <p:spPr>
          <a:xfrm>
            <a:off x="4000680" y="0"/>
            <a:ext cx="25714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F:\олимпийские игры\Талисман сборной Росси на олимп. играх в Ванк.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20:39:17Z</dcterms:created>
  <dc:creator>лёха</dc:creator>
  <dc:description/>
  <dc:language>en-US</dc:language>
  <cp:lastModifiedBy>Динара</cp:lastModifiedBy>
  <dcterms:modified xsi:type="dcterms:W3CDTF">2012-06-21T17:55:59Z</dcterms:modified>
  <cp:revision>45</cp:revision>
  <dc:subject/>
  <dc:title>Слайд 1</dc:title>
</cp:coreProperties>
</file>