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1551-C360-4F02-A800-EE5AFFCC6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F0F-5E67-4529-967F-39AC75125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65BF-2029-42EF-9400-63160B99C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3B8-7F88-4823-8138-96471121C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895F-0FAC-4E97-942B-D35A60B3C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F04-7A14-4B1E-BFB4-CFB8DD78F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DE83-B1B4-4BDA-B35C-DE3B99EAC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6B7-0333-4A2F-BE96-29A05C173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53CC-4E5D-4AF9-AB0D-E20088A92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DB03-96E6-4C6C-82A9-7AA0962E8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E083-447D-4E26-9838-4ABA98059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7A8D-C761-478B-8469-EFA4AECB2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E403-B7C6-4148-8EA4-039DA2AE5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D06-D997-4161-9986-4ECFC50E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631-8F04-4579-B94D-52A52F0A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E37-4133-4977-AB82-55F59B52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69F-3BD4-4F1B-9264-CC29EE8E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B09-FD8D-498E-8788-9E352D43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F37-3C69-470E-938A-DD1A3460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3D8-E392-4822-ADC8-1035753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FC1-8EB8-4D48-A98D-FD044EF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042-A4E9-49C4-99C7-2395D9D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EE9-D2D2-45C5-AB1F-E4D5143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35D-C319-4418-818A-B51C662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D66-02BC-4356-B2B9-EE4183F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5B50-1600-431B-9258-AC5D492B80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Динара\Desktop\зимние картинки\84668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 rot="21236400">
            <a:off x="1040760" y="1376280"/>
            <a:ext cx="264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Мои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Вы самые лучшие дети на св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Вы яркие солны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Мне вы поверь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Пусть искры улыбок и блеск ваших гл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Сегодня наградой станут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21150600">
            <a:off x="5155200" y="3327840"/>
            <a:ext cx="300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Мы будем исследовать, будем пис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и знания наши как клад доб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Желаю успехов, желаю удачи, чтоб вместе смогли мы решить все задач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F:\олимпийские игры\картинки\c5c31d40ffef567d60530e7fa4be82eb.gif"/>
          <p:cNvPicPr/>
          <p:nvPr/>
        </p:nvPicPr>
        <p:blipFill>
          <a:blip r:embed="rId1"/>
          <a:stretch/>
        </p:blipFill>
        <p:spPr>
          <a:xfrm>
            <a:off x="5214960" y="285840"/>
            <a:ext cx="3533760" cy="258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F:\олимпийские игры\картинки\0a080f1aac2754a546935804a5a51d79.jpg"/>
          <p:cNvPicPr/>
          <p:nvPr/>
        </p:nvPicPr>
        <p:blipFill>
          <a:blip r:embed="rId2"/>
          <a:stretch/>
        </p:blipFill>
        <p:spPr>
          <a:xfrm>
            <a:off x="285840" y="285840"/>
            <a:ext cx="3009960" cy="3098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олимпийские игры\картинки\вапоь.jpg"/>
          <p:cNvPicPr/>
          <p:nvPr/>
        </p:nvPicPr>
        <p:blipFill>
          <a:blip r:embed="rId3"/>
          <a:stretch/>
        </p:blipFill>
        <p:spPr>
          <a:xfrm>
            <a:off x="428760" y="3643200"/>
            <a:ext cx="2786040" cy="274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:\олимпийские игры\картинки\preview.jpg"/>
          <p:cNvPicPr/>
          <p:nvPr/>
        </p:nvPicPr>
        <p:blipFill>
          <a:blip r:embed="rId4"/>
          <a:stretch/>
        </p:blipFill>
        <p:spPr>
          <a:xfrm>
            <a:off x="4357800" y="33577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Динара\Desktop\олимпийские игры\6a77e5397fbafd34ead552108680233a_big.jpg"/>
          <p:cNvPicPr/>
          <p:nvPr/>
        </p:nvPicPr>
        <p:blipFill>
          <a:blip r:embed="rId1"/>
          <a:stretch/>
        </p:blipFill>
        <p:spPr>
          <a:xfrm>
            <a:off x="689040" y="281160"/>
            <a:ext cx="7119720" cy="114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:\олимпийские игры\110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0f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0" y="2858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Исследовать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0" y="1285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Исследователь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714760" y="35712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подвергнуть научному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928960" y="1357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человек, занимающийся научными исследов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76.wmf"/>
          <p:cNvPicPr/>
          <p:nvPr/>
        </p:nvPicPr>
        <p:blipFill>
          <a:blip r:embed="rId1"/>
          <a:stretch/>
        </p:blipFill>
        <p:spPr>
          <a:xfrm>
            <a:off x="0" y="2500200"/>
            <a:ext cx="4672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Динара\Desktop\зимние картинки\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 rot="19868400">
            <a:off x="45360" y="437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  <a:ea typeface="바탕"/>
              </a:rPr>
              <a:t>сне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 rot="19882200">
            <a:off x="910800" y="2106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сугро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 rot="19881000">
            <a:off x="1779840" y="325332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зи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 rot="19954800">
            <a:off x="2689920" y="4853520"/>
            <a:ext cx="32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хол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f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нига"/>
          <p:cNvPicPr/>
          <p:nvPr/>
        </p:nvPicPr>
        <p:blipFill>
          <a:blip r:embed="rId1"/>
          <a:stretch/>
        </p:blipFill>
        <p:spPr>
          <a:xfrm rot="20873400">
            <a:off x="5635800" y="3840120"/>
            <a:ext cx="3157200" cy="2900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714240" y="64296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не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14240" y="1500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о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42960" y="25002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угро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286000" y="642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н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эк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357280" y="1500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ыт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357280" y="250020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угроп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714840" y="5716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с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378612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хол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786120" y="24289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-сугр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714240" y="36432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З…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14240" y="4500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…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214720" y="36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з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м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2286000" y="4500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хол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1428840" y="642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500120" y="1500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714680" y="25002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1071720" y="36432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1428840" y="4500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i-188540 - копия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8436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1628640"/>
            <a:ext cx="158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92200" y="10731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84360" y="155736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98400" y="1125360"/>
            <a:ext cx="16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5880" y="8571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348000" y="907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н.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443640" y="9079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735120" y="2852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6659640" y="2924280"/>
            <a:ext cx="649080" cy="649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7956720" y="3141720"/>
            <a:ext cx="360360" cy="358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3419640" y="29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н.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92360" y="162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15636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611280" y="364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…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300720" y="3573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1857240" y="157176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857160" y="36432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i-188540 - копия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68436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1628640"/>
            <a:ext cx="158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2200" y="10731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1773360"/>
            <a:ext cx="1295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98400" y="1125360"/>
            <a:ext cx="16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4360" y="155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30072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8436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2276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22764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84360" y="3573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…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39640" y="4365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…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6372360" y="35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19640" y="4365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15636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д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714680" y="157176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1785960" y="22860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000080" y="357192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1071720" y="43578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:\урок..)\1260612572_novog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C:\Users\Динара\Desktop\зимние картинки\prihodi_na_kat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:\олимпийские игры\08225244a89090749c2d9fe205feb1b8.jpeg"/>
          <p:cNvPicPr/>
          <p:nvPr/>
        </p:nvPicPr>
        <p:blipFill>
          <a:blip r:embed="rId2"/>
          <a:stretch/>
        </p:blipFill>
        <p:spPr>
          <a:xfrm>
            <a:off x="3000240" y="4000680"/>
            <a:ext cx="2864160" cy="26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Динара\Desktop\зимние картинки\507368.jpg"/>
          <p:cNvPicPr/>
          <p:nvPr/>
        </p:nvPicPr>
        <p:blipFill>
          <a:blip r:embed="rId3"/>
          <a:stretch/>
        </p:blipFill>
        <p:spPr>
          <a:xfrm>
            <a:off x="6643800" y="378612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:\олимпийские игры\7c3e9547657c.jpg"/>
          <p:cNvPicPr/>
          <p:nvPr/>
        </p:nvPicPr>
        <p:blipFill>
          <a:blip r:embed="rId4"/>
          <a:stretch/>
        </p:blipFill>
        <p:spPr>
          <a:xfrm>
            <a:off x="6715080" y="571680"/>
            <a:ext cx="24289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Динара\Desktop\1260612572_novog41 - копия.jpg"/>
          <p:cNvPicPr/>
          <p:nvPr/>
        </p:nvPicPr>
        <p:blipFill>
          <a:blip r:embed="rId5"/>
          <a:stretch/>
        </p:blipFill>
        <p:spPr>
          <a:xfrm>
            <a:off x="4000680" y="0"/>
            <a:ext cx="2571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F:\олимпийские игры\Талисман сборной Росси на олимп. играх в Ванк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39:17Z</dcterms:created>
  <dc:creator>лёха</dc:creator>
  <dc:description/>
  <dc:language>en-US</dc:language>
  <cp:lastModifiedBy>Динара</cp:lastModifiedBy>
  <dcterms:modified xsi:type="dcterms:W3CDTF">2012-06-21T17:55:59Z</dcterms:modified>
  <cp:revision>45</cp:revision>
  <dc:subject/>
  <dc:title>Слайд 1</dc:title>
</cp:coreProperties>
</file>