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10.gif" ContentType="image/gif"/>
  <Override PartName="/ppt/media/image14.png" ContentType="image/png"/>
  <Override PartName="/ppt/media/image11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12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ECED-050B-49CA-80C0-F25721E7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3766-D547-472F-AD6B-BB56D5E9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9D8-377F-4DC8-814A-F8E4EB4A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CE1-179E-46EB-885F-D01B7EA1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7E25-EBAE-4909-B677-2C1EB62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024-AB68-41D2-911E-4E9C6AD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A187-488D-4DF9-B78F-ABDBAD34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CA5F-E161-4E2B-AAE4-89990FC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0BAA-2984-40E8-9ED3-A25975DA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9DD6-DC26-4E23-8701-91C845E1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AD15-5CF1-474A-A9B9-956734B7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235-EEFC-4204-BFB7-68D7D7F6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159E-57A7-4017-B40D-10722C4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DA49-EBE8-4B52-8F04-47E68D91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741F-B0B9-4391-9824-CC54247E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4B85-BD62-4451-8EA3-DE258306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767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2120" y="16002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3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767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2120" y="396432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D00F-AEEC-4960-BF7A-E00CAE07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852-23AF-47BD-9532-3555D784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1841-E586-46F8-8D83-7BEAC58E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97B-68E8-4D52-BF25-25DBC67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2743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D83-9FFD-4FEF-AF12-D045A1B7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14C-D574-4433-82F6-FA7EF1FE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F65-A5DE-461A-AED2-54C474C5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96432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6D6-40CC-45DC-8A98-EAFF354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C26-0D02-4AE5-B42C-F1E9B16A6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7132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FE40-E8E5-4E45-933F-9859E1CFD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miles.33bru.com/smile.104676.html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840" y="1052280"/>
            <a:ext cx="8929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Цветик – семицветик.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урок литературного чтения во 2 классе)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общение знаний по предмету</a:t>
            </a:r>
            <a:br>
              <a:rPr sz="5400"/>
            </a:br>
            <a:endParaRPr b="0" lang="en-US" sz="20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83" name="Text Placeholder 2" descr=""/>
          <p:cNvPicPr/>
          <p:nvPr/>
        </p:nvPicPr>
        <p:blipFill>
          <a:blip r:embed="rId2"/>
          <a:stretch/>
        </p:blipFill>
        <p:spPr>
          <a:xfrm>
            <a:off x="2627280" y="2133720"/>
            <a:ext cx="3673440" cy="3666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1280" y="5589720"/>
            <a:ext cx="44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</a:rPr>
              <a:t>Полякова Г.В. учитель нач. классов школы № 878 ЮАО г. Москв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2920" y="1052640"/>
            <a:ext cx="698508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Х ВСЕ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4000" y="2492280"/>
            <a:ext cx="37972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НИКУЛ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2521080" cy="2266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 rot="21349200">
            <a:off x="3492000" y="40464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 rot="21349200">
            <a:off x="2339640" y="2781360"/>
            <a:ext cx="1390680" cy="5146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 rot="21349200">
            <a:off x="6948000" y="-747360"/>
            <a:ext cx="1390680" cy="5146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 rot="21349200">
            <a:off x="6443280" y="2492280"/>
            <a:ext cx="1390680" cy="514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924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92843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71320" y="549000"/>
            <a:ext cx="8001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Итак, друзья, начнём програм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тей у нас большой зап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А для кого он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Для вас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Мы знаем, что вы любите игр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есни, загадки и пляск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Но нет ничего интересне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Чем наши весёлые книги и сказки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Узнай автора!</a:t>
            </a:r>
            <a:endParaRPr b="0" lang="en-US" sz="5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4824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Свет мой, зеркальце, ска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Да всю правду долож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Яль на свете всех мил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Всех румяней и беле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Text Placeholder 2" descr=""/>
          <p:cNvPicPr/>
          <p:nvPr/>
        </p:nvPicPr>
        <p:blipFill>
          <a:blip r:embed="rId2"/>
          <a:stretch/>
        </p:blipFill>
        <p:spPr>
          <a:xfrm rot="2614200">
            <a:off x="5363640" y="1412640"/>
            <a:ext cx="2778120" cy="360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486900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А. Пушкин «Сказка о мёртвой царевне и семи богатырях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00000" y="620280"/>
            <a:ext cx="43610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Белая берё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од моим ок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инакрылась снег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Точно серебр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089520" cy="468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3933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С. Есенин «Берёз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Я не зря себя хвал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Всем и всюду говор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Что любое предложе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ямо сразу повтор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364500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Э. Успенский «Памя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621240" cy="4608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627280" y="4149720"/>
            <a:ext cx="2376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500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У меня зазвонил телеф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- Кто говор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- Сло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4130640" cy="489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378936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К. Чуковск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              </a:t>
            </a: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«Телефо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764640"/>
            <a:ext cx="80010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 Танюши дел немал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 Танюши много де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Утром брату помогала,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Он с утра конфеты 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35640" y="1125360"/>
            <a:ext cx="3100320" cy="426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35640" y="1341360"/>
            <a:ext cx="2952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1700280"/>
            <a:ext cx="266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716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А. Барто «Помощниц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784600" y="4221000"/>
            <a:ext cx="2112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Доскажи слово!</a:t>
            </a:r>
            <a:endParaRPr b="0" lang="en-US" sz="5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26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руд - л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7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Труд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 человека кормит, 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лень 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порт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2637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Язык –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13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Не спеш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языком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, торопись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м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4005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 – мас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65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ело мастера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 бо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32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«Красная, синяя, чёрная…»</a:t>
            </a: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14130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- Какое слово пропущено в названии произвед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205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азка Ш. Перро «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Крас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220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Шапоч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299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Сказка Ш. Перро «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Синя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99736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бород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716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Рассказ Д. Мамина - Сибиряка «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Сер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37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шей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4437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Рассказ В. Бианки « </a:t>
            </a: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Оранжев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горлышк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149720"/>
            <a:ext cx="19573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8:58:58Z</dcterms:created>
  <dc:creator>878</dc:creator>
  <dc:description>Шаблон оформления
Корпорация Майкрософт</dc:description>
  <cp:keywords/>
  <dc:language>en-US</dc:language>
  <cp:lastModifiedBy>878</cp:lastModifiedBy>
  <dcterms:modified xsi:type="dcterms:W3CDTF">2012-06-22T07:57:52Z</dcterms:modified>
  <cp:revision>5</cp:revision>
  <dc:subject/>
  <dc:title>Цветик – семицветик. </dc:title>
</cp:coreProperties>
</file>