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10.gif" ContentType="image/gif"/>
  <Override PartName="/ppt/media/image14.png" ContentType="image/png"/>
  <Override PartName="/ppt/media/image11.gif" ContentType="image/gif"/>
  <Override PartName="/ppt/media/image6.jpeg" ContentType="image/jpeg"/>
  <Override PartName="/ppt/media/image5.jpeg" ContentType="image/jpeg"/>
  <Override PartName="/ppt/media/image7.gif" ContentType="image/gif"/>
  <Override PartName="/ppt/media/image12.gif" ContentType="image/gi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96AE-0A30-448B-B2D4-E02B81CF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D017-DA27-48E0-83E2-9A079E1A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A28C-AB2F-4A6E-B7E5-C567EE9A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420B-C376-43E8-900E-C9F99B3A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B5D3-A9C3-4ADB-BACD-0166D089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2028-664E-4B08-8171-51F3EF17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1106-2EA0-4672-9A92-B312B62C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BFB5-021B-408A-B8F6-1AD2C0E0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A001-2B3C-48FE-9E3A-26D743E3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8B22-FCC3-4785-B8CE-42D0E6C7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D21F-5FE5-4696-8AA1-AE2F5081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195A-7614-4CF8-94AF-3B36540D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C4F2-74DD-4B7E-B294-88BF1334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49BF-DB50-4D41-B8BE-BAC29F88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A8D5-1B14-48A2-8EC4-17A67CDC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031E-00D7-41DD-8D4D-0B5E1146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A563-EC33-44EF-8DFD-61379C4D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F7F1-13C2-4EA4-9862-6C9E0800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C325-644C-4E52-B4D3-E2DA2496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05B1-E6F9-4705-8807-0A70F36F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5934-C0FC-4773-BE44-C6956EEE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1A2D-428D-4E59-AFF8-D78920A0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2EF9-9D4C-4AFE-85A2-AF4FFE44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834D-EBE1-49AC-8CAE-D7D627CA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7986-0461-410E-A2BE-C983795376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556B-7974-4FAF-BB66-37F62B8020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miles.33bru.com/smile.104676.html" TargetMode="Externa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840" y="1052280"/>
            <a:ext cx="89298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Цветик – семицветик.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урок литературного чтения во 2 классе)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бобщение знаний по предмету</a:t>
            </a:r>
            <a:br>
              <a:rPr sz="5400"/>
            </a:br>
            <a:endParaRPr b="0" lang="en-US" sz="2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83" name="Text Placeholder 2" descr=""/>
          <p:cNvPicPr/>
          <p:nvPr/>
        </p:nvPicPr>
        <p:blipFill>
          <a:blip r:embed="rId2"/>
          <a:stretch/>
        </p:blipFill>
        <p:spPr>
          <a:xfrm>
            <a:off x="2627280" y="2133720"/>
            <a:ext cx="3673440" cy="3666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411280" y="5589720"/>
            <a:ext cx="44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Полякова Г.В. учитель нач. классов школы № 878 ЮАО г. Москв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042920" y="1052640"/>
            <a:ext cx="698508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ЁЛЫХ ВСЕМ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4000" y="2492280"/>
            <a:ext cx="3797280" cy="262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НИКУЛ 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2521080" cy="2266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 rot="21349200">
            <a:off x="3492000" y="404640"/>
            <a:ext cx="1390680" cy="5146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 rot="21349200">
            <a:off x="2339640" y="2781360"/>
            <a:ext cx="1390680" cy="5146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 rot="21349200">
            <a:off x="6948000" y="-747360"/>
            <a:ext cx="1390680" cy="5146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 rot="21349200">
            <a:off x="6443280" y="2492280"/>
            <a:ext cx="1390680" cy="5146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3924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92843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71320" y="549000"/>
            <a:ext cx="80010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Итак, друзья, начнём программ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Затей у нас большой запас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А для кого он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Для вас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Мы знаем, что вы любите игры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Песни, загадки и пляск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Но нет ничего интереснее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Чем наши весёлые книги и сказки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Monotype Corsiva"/>
              </a:rPr>
              <a:t>Узнай автора!</a:t>
            </a:r>
            <a:endParaRPr b="0" lang="en-US" sz="5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0920" y="1197000"/>
            <a:ext cx="4824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Свет мой, зеркальце, скаж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Да всю правду долож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Яль на свете всех миле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Всех румяней и беле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Text Placeholder 2" descr=""/>
          <p:cNvPicPr/>
          <p:nvPr/>
        </p:nvPicPr>
        <p:blipFill>
          <a:blip r:embed="rId2"/>
          <a:stretch/>
        </p:blipFill>
        <p:spPr>
          <a:xfrm rot="2614200">
            <a:off x="5363640" y="1412640"/>
            <a:ext cx="2778120" cy="3600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71640" y="4869000"/>
            <a:ext cx="73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А. Пушкин «Сказка о мёртвой царевне и семи богатырях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00000" y="620280"/>
            <a:ext cx="436104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Белая берё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Под моим ок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Принакрылась снего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Точно серебр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76720" y="620640"/>
            <a:ext cx="3089520" cy="4680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16000" y="393372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С. Есенин «Берёз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Я не зря себя хвалю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Всем и всюду говорю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Что любое предложень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Прямо сразу повтор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364500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Э. Успенский «Памят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292720" y="260280"/>
            <a:ext cx="3621240" cy="4608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627280" y="4149720"/>
            <a:ext cx="23763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4000" y="692280"/>
            <a:ext cx="500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У меня зазвонил телеф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- Кто говори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- Слон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851280" y="1268280"/>
            <a:ext cx="4130640" cy="4896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55640" y="3789360"/>
            <a:ext cx="374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К. Чуковск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«Телефон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3640" y="764640"/>
            <a:ext cx="800100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Calibri"/>
              </a:rPr>
              <a:t>У Танюши дел немало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Calibri"/>
              </a:rPr>
              <a:t>У Танюши много дел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Calibri"/>
              </a:rPr>
              <a:t>Утром брату помогала, -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Calibri"/>
              </a:rPr>
              <a:t>Он с утра конфеты е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435640" y="1125360"/>
            <a:ext cx="3100320" cy="4262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35640" y="1341360"/>
            <a:ext cx="2952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724360" y="1700280"/>
            <a:ext cx="26640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371628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А. Барто «Помощниц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784600" y="4221000"/>
            <a:ext cx="21128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Доскажи слово!</a:t>
            </a:r>
            <a:endParaRPr b="0" lang="en-US" sz="5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1268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Труд - ле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77336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Труд</a:t>
            </a:r>
            <a:r>
              <a:rPr b="1" i="1" lang="ru-RU" sz="3200" spc="-1" strike="noStrike">
                <a:solidFill>
                  <a:srgbClr val="800080"/>
                </a:solidFill>
                <a:latin typeface="Arial"/>
              </a:rPr>
              <a:t> человека кормит, а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лень </a:t>
            </a:r>
            <a:r>
              <a:rPr b="1" i="1" lang="ru-RU" sz="3200" spc="-1" strike="noStrike">
                <a:solidFill>
                  <a:srgbClr val="800080"/>
                </a:solidFill>
                <a:latin typeface="Arial"/>
              </a:rPr>
              <a:t>порти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263700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Язык – де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3213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Arial"/>
              </a:rPr>
              <a:t>Не спеши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языком</a:t>
            </a:r>
            <a:r>
              <a:rPr b="1" i="1" lang="ru-RU" sz="3200" spc="-1" strike="noStrike">
                <a:solidFill>
                  <a:srgbClr val="800080"/>
                </a:solidFill>
                <a:latin typeface="Arial"/>
              </a:rPr>
              <a:t>, торопись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делом</a:t>
            </a:r>
            <a:r>
              <a:rPr b="1" i="1" lang="ru-RU" sz="32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2843280" y="400536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Дело – масте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1908000" y="4653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Дело мастера</a:t>
            </a:r>
            <a:r>
              <a:rPr b="1" i="1" lang="ru-RU" sz="3200" spc="-1" strike="noStrike">
                <a:solidFill>
                  <a:srgbClr val="800080"/>
                </a:solidFill>
                <a:latin typeface="Arial"/>
              </a:rPr>
              <a:t> бои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«Красная, синяя, чёрная…»</a:t>
            </a:r>
            <a:endParaRPr b="0" lang="en-US" sz="4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1413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- Какое слово пропущено в названии произвед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220500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Сказка Ш. Перро «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Крас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5003640" y="220500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Шапочк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29973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Сказка Ш. Перро «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Синя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2997360"/>
            <a:ext cx="39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бород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3716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Рассказ Д. Мамина - Сибиряка « </a:t>
            </a:r>
            <a:r>
              <a:rPr b="1" i="1" lang="ru-RU" sz="2400" spc="-1" strike="noStrike">
                <a:solidFill>
                  <a:srgbClr val="969696"/>
                </a:solidFill>
                <a:latin typeface="Arial"/>
              </a:rPr>
              <a:t>Сер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6877080" y="3716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шейк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4437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Рассказ В. Бианки « </a:t>
            </a: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Оранжево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5940360" y="4437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горлышко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4149720"/>
            <a:ext cx="195732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08:58:58Z</dcterms:created>
  <dc:creator>878</dc:creator>
  <dc:description>Шаблон оформления
Корпорация Майкрософт</dc:description>
  <cp:keywords/>
  <dc:language>en-US</dc:language>
  <cp:lastModifiedBy>878</cp:lastModifiedBy>
  <dcterms:modified xsi:type="dcterms:W3CDTF">2012-06-22T07:57:52Z</dcterms:modified>
  <cp:revision>5</cp:revision>
  <dc:subject/>
  <dc:title>Цветик – семицветик. </dc:title>
</cp:coreProperties>
</file>