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4637-B17F-4BD7-A652-4318E897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990C-0759-4323-A405-BA680222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FB2C-FFBC-4B4B-94C9-B6424B4B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FCD3-D8A8-4765-A505-C83AE587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B390-CFF8-47EE-AB29-40799513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48DD-414E-4DDC-B2BA-3EB0F0E6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818B-68A3-4C3C-90EE-D8876F2D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55DE-6278-4CBC-98D5-405A877F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98B6-DA2D-46E1-A4FF-12CBEFAE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E374-7AF9-4C43-B581-50D38852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0BA2-B4E6-432A-9788-901663EB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41A7-7479-4F47-BA33-CB4B308E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B535-A712-4626-BF60-BCBE94BAE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klass39.ru/vrednye-sovety-g-ostera/" TargetMode="External"/><Relationship Id="rId2" Type="http://schemas.openxmlformats.org/officeDocument/2006/relationships/hyperlink" Target="http://www.klass39.ru/vrednye-sovety-g-ostera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ooks.ru/books/38-popugaev-329750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476280"/>
            <a:ext cx="27622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.Б. ОСТЕР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981000"/>
            <a:ext cx="3811680" cy="5469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67440" y="1670040"/>
            <a:ext cx="322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РОДИЛСЯ в 1947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781360"/>
            <a:ext cx="410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ПЯТЕРО  ДЕТЕЙ ПИС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ВДОХНОВЛЯЮТ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НА СОЗ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НОВЫХ ГЕРОЕ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НЕ ДАВАЯ ВОЗМОЖНОСТИ ЗАБЫТЬ ДЕТ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6521400"/>
            <a:ext cx="74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Полякова Г.В. Учитель нач. классов школы № 878 ЮАО г. Моск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715000" cy="2857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913800">
            <a:off x="6876720" y="4005360"/>
            <a:ext cx="1800360" cy="2547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 rot="20739000">
            <a:off x="394920" y="4221000"/>
            <a:ext cx="1690560" cy="2275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 rot="20792400">
            <a:off x="2124000" y="3284280"/>
            <a:ext cx="1873440" cy="2665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 rot="1754400">
            <a:off x="7308360" y="404640"/>
            <a:ext cx="1257480" cy="2000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084720" y="907920"/>
            <a:ext cx="1336680" cy="1814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 rot="1571400">
            <a:off x="5651280" y="2707920"/>
            <a:ext cx="1904760" cy="2495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995640" y="3789360"/>
            <a:ext cx="19051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1260360" y="188640"/>
            <a:ext cx="1137744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редные советы  Г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Остера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5257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Если друг на день рожден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ригласил тебя к себ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ы оставь подарок дома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ригодится самому.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Сесть старайся рядом с тор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 разговоры не вступ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ы во время разго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двое меньше съешь конф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ыбирай куски поменьш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Чтоб быстрее проглот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е хватай салат рук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Ложкой больше зачерпне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Если вдруг дадут орех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Сыпь их бережно в карма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о не прячь туда варенье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Сложно будет вынимать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932360" y="2997360"/>
            <a:ext cx="3851280" cy="3600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19280" y="1052640"/>
            <a:ext cx="482436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. ОСТЕР – В ДУШЕ ОЗОРНОЙ РЕБЕНОК, КАК И КАЖД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ДЕТСКИЙ ПИСА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НАВЕРНОЕ, ИМЕННО ПОЭТОМУ ОН ДАЕТ ВАМ НЕ ПОЛЕЗ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А ВРЕДНЫЕ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СОВ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140360" y="134136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Забавная сказка о микробах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о маленьком Петьке и его друге Ангинке, живущих в третьем стаканчике морожено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7200" y="620640"/>
            <a:ext cx="4015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311280" cy="3278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V="1" rot="10800000">
            <a:off x="3776400" y="1334880"/>
            <a:ext cx="5367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На чердаке жил котенок по имени - Гав. Когда соседский кот, узнал, что коте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зовут - Гав, то сказа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«Во дворе котенка с таким именем ждут одни неприятност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- Что это за неприятности и зачем они меня ждут?  И где эти неприятности? Надо осмотреть все вокруг. Что-то я не вижу никаких неприят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284360" y="1125000"/>
            <a:ext cx="4546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_x000b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одном африканском лесу жили-были удав, мартышка, слоненок и попуг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ждое утро они встречались и затевали новую игру. Поэтому им никогда не было скуч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А ты, чтобы не скучать, почитай книжку про их приклю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9290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95840" y="1290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7620120" cy="5676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9280" y="2492280"/>
            <a:ext cx="32115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 u="sng">
                <a:solidFill>
                  <a:srgbClr val="333399"/>
                </a:solidFill>
                <a:uFillTx/>
                <a:latin typeface="Arial"/>
              </a:rPr>
              <a:t>А теперь проверим, были вы сегодня внимательн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Скажите, кто из зверей: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амый умны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амый вежливы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то передал удав мартыш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кое математическое действие любила мартыш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ерой сказки Остера, длина которого 38 попугае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к звали микроба – героя сказки Осте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дружка Пети – микроб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мя котёнка в сказке Осте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Друг котёнка по имени Га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кие советы дает Г.Остер детя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ригорий Остер  –  имя и фамилия писателя, о книгах которого мы сегодня говорили. Читайте их, они очень интересны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1:02:32Z</dcterms:created>
  <dc:creator>USER</dc:creator>
  <dc:description/>
  <dc:language>en-US</dc:language>
  <cp:lastModifiedBy>878</cp:lastModifiedBy>
  <dcterms:modified xsi:type="dcterms:W3CDTF">2012-06-22T08:20:06Z</dcterms:modified>
  <cp:revision>4</cp:revision>
  <dc:subject/>
  <dc:title>Слайд 1</dc:title>
</cp:coreProperties>
</file>