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1C20-E9DC-47DB-A695-1BF419D2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44B-4B5B-4062-A97E-BAB929EF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B0F4-F7A2-4960-ACED-01B01F04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5671-82E9-4983-B855-FD3EB79A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61D-461D-4128-832A-33A504FA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2D10-880F-44FC-8A14-4FB1D6DD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56B-2DE6-4CCD-84B0-E3802445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1E14-0644-4302-B2BF-1E284F0C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E963-6922-4475-95E7-F9F96979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20A-7E44-470C-99C0-CCE61D2F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6078-A12E-493A-92F1-D228831E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6199-CFA4-4D62-9552-EE415F2B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BCFA-3E52-4DA9-9FF6-F304C64AB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lass39.ru/vrednye-sovety-g-ostera/" TargetMode="External"/><Relationship Id="rId2" Type="http://schemas.openxmlformats.org/officeDocument/2006/relationships/hyperlink" Target="http://www.klass39.ru/vrednye-sovety-g-ostera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ooks.ru/books/38-popugaev-329750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476280"/>
            <a:ext cx="27622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.Б. ОСТЕР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981000"/>
            <a:ext cx="3811680" cy="5469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67440" y="1670040"/>
            <a:ext cx="322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РОДИЛСЯ в 1947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781360"/>
            <a:ext cx="410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ЯТЕРО  ДЕТЕЙ ПИС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ДОХНОВЛЯЮТ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А СОЗ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ОВЫХ ГЕРОЕ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Е ДАВАЯ ВОЗМОЖНОСТИ ЗАБЫТЬ ДЕТ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6521400"/>
            <a:ext cx="74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Полякова Г.В. Учитель нач. классов школы № 878 ЮАО г. Моск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715000" cy="2857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913800">
            <a:off x="6876720" y="4005360"/>
            <a:ext cx="1800360" cy="2547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 rot="20739000">
            <a:off x="394920" y="4221000"/>
            <a:ext cx="1690560" cy="2275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 rot="20792400">
            <a:off x="2124000" y="3284280"/>
            <a:ext cx="1873440" cy="2665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 rot="1754400">
            <a:off x="7308360" y="404640"/>
            <a:ext cx="1257480" cy="2000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084720" y="907920"/>
            <a:ext cx="1336680" cy="1814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 rot="1571400">
            <a:off x="5651280" y="2707920"/>
            <a:ext cx="1904760" cy="2495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995640" y="3789360"/>
            <a:ext cx="19051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1260360" y="188640"/>
            <a:ext cx="113774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редные советы  Г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Остер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5257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Если друг на день рожден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игласил тебя к себ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ы оставь подарок дома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игодится самому.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Сесть старайся рядом с тор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 разговоры не вступ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ы во время разго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двое меньше съешь конф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ыбирай куски поменьш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Чтоб быстрее проглот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е хватай салат рук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Ложкой больше зачерпн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Если вдруг дадут орех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Сыпь их бережно в карма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о не прячь туда варень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Сложно будет вынимать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932360" y="2997360"/>
            <a:ext cx="3851280" cy="3600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19280" y="1052640"/>
            <a:ext cx="4824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. ОСТЕР – В ДУШЕ ОЗОРНОЙ РЕБЕНОК, КАК И КАЖД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ДЕТСКИЙ ПИС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НАВЕРНОЕ, ИМЕННО ПОЭТОМУ ОН ДАЕТ ВАМ НЕ ПОЛЕЗ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А ВРЕДНЫЕ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СО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140360" y="134136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Забавная сказка о микробах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о маленьком Петьке и его друге Ангинке, живущих в третьем стаканчике морожен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7200" y="620640"/>
            <a:ext cx="4015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311280" cy="3278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V="1" rot="10800000">
            <a:off x="3776400" y="1334880"/>
            <a:ext cx="5367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а чердаке жил котенок по имени - Гав. Когда соседский кот, узнал, что кот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зовут - Гав, то сказа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«Во дворе котенка с таким именем ждут одни неприятнос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- Что это за неприятности и зачем они меня ждут?  И где эти неприятности? Надо осмотреть все вокруг. Что-то я не вижу никаких неприят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284360" y="1125000"/>
            <a:ext cx="4546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одном африканском лесу жили-были удав, мартышка, слоненок и попуг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ждое утро они встречались и затевали новую игру. Поэтому им никогда не было скуч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А ты, чтобы не скучать, почитай книжку про их приклю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9290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95840" y="1290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7620120" cy="5676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32115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А теперь проверим, были вы сегодня вниматель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кажите, кто из зверей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амый умн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амый вежлив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 передал удав мартыш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ое математическое действие любила мартыш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ерой сказки Остера, длина которого 38 попугае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 звали микроба – героя сказки Ост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дружка Пети – микроб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мя котёнка в сказке Ост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руг котёнка по имени Га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ие советы дает Г.Остер детя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ригорий Остер  –  имя и фамилия писателя, о книгах которого мы сегодня говорили. Читайте их, они очень интересны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1:02:32Z</dcterms:created>
  <dc:creator>USER</dc:creator>
  <dc:description/>
  <dc:language>en-US</dc:language>
  <cp:lastModifiedBy>878</cp:lastModifiedBy>
  <dcterms:modified xsi:type="dcterms:W3CDTF">2012-06-22T08:20:06Z</dcterms:modified>
  <cp:revision>4</cp:revision>
  <dc:subject/>
  <dc:title>Слайд 1</dc:title>
</cp:coreProperties>
</file>