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445-2645-4C19-9C5C-81C61BF2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BA1-2CE7-4E11-90ED-71C5C2A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133-0FCE-4E45-A003-E76E8250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204-7967-4DDC-8032-28ED6DB4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3CF4-4438-4E89-BCBB-5F4D9419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1A7F-D247-46FC-A2AE-2B8C0E5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3764-73DC-4570-B662-5C4D5D9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E8CE-C07D-4959-9D94-C842931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F79-71C4-40EE-BA22-CCE601A4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DC90-3430-4591-929E-E4823371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0EB8-2336-4BB1-853B-D507628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8B3-CC04-406E-9EC2-7442D659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A8BD-C186-4459-8A71-F29BA1F2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32B-55CB-4150-B1CC-AC6712A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53A-A73F-4028-9EFD-48F6EF1F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96D1-8735-493A-AE72-F7541660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86D-3DF4-4627-A9AA-A1E79A7C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EC9-5221-458A-A1F4-AEFC96B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306-DDAB-4500-B2D7-4CF15100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EC0-D73D-47C0-829C-00817F5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DF6-8EEE-4AAF-BB4A-A02D559D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9AF-E9DC-4CB0-862E-E482A40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954-FAF4-42E0-BB36-DFA72D8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218-27D6-4C1C-A8AC-982883D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0760" cy="4043520"/>
            <a:chOff x="0" y="2438280"/>
            <a:chExt cx="9140760" cy="4043520"/>
          </a:xfrm>
        </p:grpSpPr>
        <p:sp>
          <p:nvSpPr>
            <p:cNvPr id="1" name=""/>
            <p:cNvSpPr/>
            <p:nvPr/>
          </p:nvSpPr>
          <p:spPr>
            <a:xfrm rot="20160000">
              <a:off x="3368520" y="4118040"/>
              <a:ext cx="4873680" cy="6062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8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4200" cy="193968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08440" cy="195264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0840" cy="120672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1960" cy="1872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0520" cy="18756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4840" cy="43344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1560" cy="48240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6640" cy="139572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2960" cy="40644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4680" cy="36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3280" cy="60480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1480" cy="3542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6240" cy="14778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19640" cy="172872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4E880-3FEC-4566-A7E2-3C95E32D30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0760" cy="4043520"/>
            <a:chOff x="0" y="2438280"/>
            <a:chExt cx="9140760" cy="4043520"/>
          </a:xfrm>
        </p:grpSpPr>
        <p:sp>
          <p:nvSpPr>
            <p:cNvPr id="58" name=""/>
            <p:cNvSpPr/>
            <p:nvPr/>
          </p:nvSpPr>
          <p:spPr>
            <a:xfrm rot="20160000">
              <a:off x="3368520" y="4118040"/>
              <a:ext cx="4873680" cy="6062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8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4200" cy="193968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08440" cy="195264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0840" cy="120672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1960" cy="1872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0520" cy="18756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4840" cy="43344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1560" cy="48240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6640" cy="139572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2960" cy="40644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4680" cy="36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3280" cy="60480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1480" cy="3542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6240" cy="14778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19640" cy="172872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39824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B08E42-85F6-4FFB-9FF4-4C8C0F30FBB8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Garamond"/>
              </a:rPr>
              <a:t>Гиперактивные дети рядом с нами </a:t>
            </a:r>
            <a:endParaRPr b="1" lang="en-US" sz="5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Рекомендации педагогам и родителя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168768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ff23"/>
                </a:solidFill>
                <a:latin typeface="Harlow Solid Italic"/>
              </a:rPr>
              <a:t>Автор идеи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90016"/>
                </a:solidFill>
                <a:latin typeface="Garamond"/>
              </a:rPr>
              <a:t>Бледай Виктория Васильевна, воспитатель МБДОУ д/с №6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68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Цели исследования</a:t>
            </a: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акой техники коррекционных и воспитательных воздействий должны придерживаться взрослые при работе с гиперактивными детьми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акие методы и приемы должен использовать педагог в работе с гиперактивными детьми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24720" y="501336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Задачи</a:t>
            </a: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Выявить методы и приемы эффективного воздействия на гиперактивных детей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2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Создать модель образовательно-воспитательных условий для работы с гиперактивными деть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4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Рекомендации родителям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0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бегать жестоких оценок, упреков, угроз, слов: «нет», «прекрати», «нельзя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моционально поддерживать ребенка во всех его попытках конструктивного, позитивного повед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граничивать время пребывания ребенка в местах массового скопления людей, среди беспокойных шумных сверстников, так как это чрезмерно возбуждает ребенк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ять ребенку возможность адекватно расходовать избыточную энерг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1413000"/>
            <a:ext cx="349416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0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Рекомендации педагогу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0" y="1267920"/>
            <a:ext cx="536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авать ребенку только одно задание на определенный отрезок времени, чтобы он мог его заверши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ть индивидуальный подход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ощрять ребенка за все виды деятельности, в которой требуется концентрация внимания, усидчивость, терп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ерегать ребенка от утомления, поскольку оно приводит к снижения самоконтро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изическую активность такого ребенка следует не сдерживать, а направлять и организовыва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ь детей правильному поведен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льзя недостатки в образовательной и воспитательной деятельности переносить  на оценку личных качеств и достоинст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400" y="1197000"/>
            <a:ext cx="365904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30360" y="-3886200"/>
            <a:ext cx="70308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 algn="just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Harlow Solid Italic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Harlow Solid Italic"/>
              </a:rPr>
              <a:t>Необходимо организовать эффективную цепочку воспитательных воздействий на ребен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 algn="just">
              <a:spcBef>
                <a:spcPts val="700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90016"/>
                </a:solidFill>
                <a:latin typeface="Garamond"/>
              </a:rPr>
              <a:t>Воспитатель – ребенок – его достижения – поведение – положение в группе – взаимоотношения – ролевые функции – отношение родителей к нему – взаимоотношения в семье – формирование и развитие нравственных отношений и качеств ребенка – их закрепление в практике повседневных отно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3924360"/>
            <a:ext cx="8229600" cy="21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40000" y="3760920"/>
            <a:ext cx="633564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Garamond"/>
              </a:rPr>
              <a:t>Выводы:</a:t>
            </a:r>
            <a:br>
              <a:rPr sz="4000"/>
            </a:b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Воспитание гиперактивных детей будет проходить успешно при использовании специальных приемов и создании комфортных условий для работы с такими детьми. При этом педагоги и родители должны активно сотрудни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73988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Список литературы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оррекционная педагогика в начальном образовании.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/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 Под ред. Г.Ф. Кумариной – М.: Академия, 2001 – 320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Подласый И.П. Курс лекций по коррекционной педагогике. – М.: ВЛАДОС, 2002. – 352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376360" cy="249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5:51:26Z</dcterms:created>
  <dc:creator>UI</dc:creator>
  <dc:description/>
  <dc:language>en-US</dc:language>
  <cp:lastModifiedBy>UI</cp:lastModifiedBy>
  <dcterms:modified xsi:type="dcterms:W3CDTF">2006-12-05T06:35:48Z</dcterms:modified>
  <cp:revision>20</cp:revision>
  <dc:subject/>
  <dc:title>Гиперактивные дети рядом с нами </dc:title>
</cp:coreProperties>
</file>