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7.jpeg" ContentType="image/jpeg"/>
  <Override PartName="/ppt/media/image3.gif" ContentType="image/gif"/>
  <Override PartName="/ppt/media/image6.wmf" ContentType="image/x-wmf"/>
  <Override PartName="/ppt/media/image4.gif" ContentType="image/gi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E20-FB50-42B1-A29F-63FCB680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4C26-4974-44F6-9F02-DE91A2BD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B1E-5D6B-43BA-B626-8B4B6B53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820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1956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6A67-5B60-44FD-948C-DC893A2A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C5AB-C5E0-452A-827D-2131BD61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3983-B538-472D-A959-DCF912A7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313F-1839-4356-9C34-293014B0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0E5A-D1E9-4702-AB80-37559BD6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3478-207D-453B-8407-A9EE31F7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6840" y="-206640"/>
            <a:ext cx="8226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0561-D011-41B6-BD47-4CB85B1B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FFF7-4D29-437B-BFF7-BB23F989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7ECA-C151-47EF-9E6D-620BF17E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04A3-4C2E-4DC1-909B-F3271FD3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2B36-0753-4456-8FB4-7BB8ED5F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9F5D-BC10-4183-B7E0-9D06D9BA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01B6-9A10-47F1-917F-65B20075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820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1956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D34E-3713-413B-893D-661FADEC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9EEA-E303-434E-AABA-8F6B9736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1B07-853A-4EF1-A398-5D0967E6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DE2-2E9D-4C1A-AAAF-D1E805BC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6840" y="-206640"/>
            <a:ext cx="8226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0C2-C63A-4828-91F0-0E9A5671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F2A9-C790-4973-922A-CBB2EAD8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4E1-2941-417B-B9A1-A775F081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F46D-3D68-4FDA-B1C8-72D899FC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0760" cy="4043520"/>
            <a:chOff x="0" y="2438280"/>
            <a:chExt cx="9140760" cy="4043520"/>
          </a:xfrm>
        </p:grpSpPr>
        <p:sp>
          <p:nvSpPr>
            <p:cNvPr id="1" name=""/>
            <p:cNvSpPr/>
            <p:nvPr/>
          </p:nvSpPr>
          <p:spPr>
            <a:xfrm rot="20160000">
              <a:off x="3368520" y="4118040"/>
              <a:ext cx="4873680" cy="60624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00008f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4200" cy="193968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08440" cy="195264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0840" cy="120672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d2db5"/>
                </a:gs>
                <a:gs pos="100000">
                  <a:srgbClr val="0000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1960" cy="1872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0520" cy="18756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4840" cy="43344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1560" cy="48240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6640" cy="139572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2960" cy="40644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e0eaa"/>
                </a:gs>
                <a:gs pos="100000">
                  <a:srgbClr val="0000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4680" cy="36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3280" cy="60480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e0eaa"/>
                </a:gs>
                <a:gs pos="100000">
                  <a:srgbClr val="0000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1480" cy="35424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e0eaa"/>
                </a:gs>
                <a:gs pos="100000">
                  <a:srgbClr val="0000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6240" cy="147780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d2db5"/>
                </a:gs>
                <a:gs pos="100000">
                  <a:srgbClr val="0000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19640" cy="172872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21A0B-3776-40F2-ACF8-CB59F9C83A7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0760" cy="4043520"/>
            <a:chOff x="0" y="2438280"/>
            <a:chExt cx="9140760" cy="4043520"/>
          </a:xfrm>
        </p:grpSpPr>
        <p:sp>
          <p:nvSpPr>
            <p:cNvPr id="58" name=""/>
            <p:cNvSpPr/>
            <p:nvPr/>
          </p:nvSpPr>
          <p:spPr>
            <a:xfrm rot="20160000">
              <a:off x="3368520" y="4118040"/>
              <a:ext cx="4873680" cy="60624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00008f"/>
                </a:gs>
                <a:gs pos="100000">
                  <a:srgbClr val="0000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4200" cy="193968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08440" cy="195264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0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0840" cy="120672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d2db5"/>
                </a:gs>
                <a:gs pos="100000">
                  <a:srgbClr val="0000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1960" cy="1872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0520" cy="18756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4840" cy="43344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1560" cy="48240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6640" cy="139572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2960" cy="40644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e0eaa"/>
                </a:gs>
                <a:gs pos="100000">
                  <a:srgbClr val="0000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4680" cy="36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3280" cy="60480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e0eaa"/>
                </a:gs>
                <a:gs pos="100000">
                  <a:srgbClr val="0000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1480" cy="35424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e0eaa"/>
                </a:gs>
                <a:gs pos="100000">
                  <a:srgbClr val="0000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6240" cy="147780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d2db5"/>
                </a:gs>
                <a:gs pos="100000">
                  <a:srgbClr val="0000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19640" cy="172872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398240"/>
            <a:ext cx="77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Garamond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  <a:ea typeface="DejaVu 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Garamond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  <a:ea typeface="DejaVu San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Garamond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3000E0F-74CB-4041-B585-D85EA04A18BD}" type="slidenum">
              <a:rPr b="0" lang="ru-RU" sz="1200" spc="-1" strike="noStrike">
                <a:solidFill>
                  <a:srgbClr val="ffffff"/>
                </a:solidFill>
                <a:latin typeface="Garamond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5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cffff"/>
                </a:solidFill>
                <a:latin typeface="Garamond"/>
              </a:rPr>
              <a:t>Гиперактивные дети рядом с нами </a:t>
            </a:r>
            <a:endParaRPr b="1" lang="en-US" sz="5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Garamond"/>
              </a:rPr>
              <a:t>Рекомендации педагогам и родителя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47640" y="4508640"/>
            <a:ext cx="1687680" cy="186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ff23"/>
                </a:solidFill>
                <a:latin typeface="Harlow Solid Italic"/>
              </a:rPr>
              <a:t>Автор идеи: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90016"/>
                </a:solidFill>
                <a:latin typeface="Garamond"/>
              </a:rPr>
              <a:t>Бледай Виктория Васильевна, воспитатель МБДОУ д/с №64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dur="indefinite" fill="hold">
                      <p:stCondLst>
                        <p:cond delay="0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68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68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6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68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Garamond"/>
              </a:rPr>
              <a:t>Цели исследования</a:t>
            </a: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: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cc99"/>
                </a:solidFill>
                <a:latin typeface="Garamond"/>
              </a:rPr>
              <a:t>.</a:t>
            </a:r>
            <a:r>
              <a:rPr b="0" lang="ru-RU" sz="3200" spc="-1" strike="noStrike">
                <a:solidFill>
                  <a:srgbClr val="ffcc99"/>
                </a:solidFill>
                <a:latin typeface="Garamond"/>
              </a:rPr>
              <a:t>Какой техники коррекционных и воспитательных воздействий должны придерживаться взрослые при работе с гиперактивными детьми</a:t>
            </a:r>
            <a:r>
              <a:rPr b="0" lang="en-US" sz="3200" spc="-1" strike="noStrike">
                <a:solidFill>
                  <a:srgbClr val="ffcc99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 algn="just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cc99"/>
                </a:solidFill>
                <a:latin typeface="Garamond"/>
              </a:rPr>
              <a:t>.</a:t>
            </a:r>
            <a:r>
              <a:rPr b="0" lang="ru-RU" sz="3200" spc="-1" strike="noStrike">
                <a:solidFill>
                  <a:srgbClr val="ffcc99"/>
                </a:solidFill>
                <a:latin typeface="Garamond"/>
              </a:rPr>
              <a:t>Какие методы и приемы должен использовать педагог в работе с гиперактивными детьми</a:t>
            </a:r>
            <a:r>
              <a:rPr b="0" lang="en-US" sz="3200" spc="-1" strike="noStrike">
                <a:solidFill>
                  <a:srgbClr val="ffcc99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524720" y="5013360"/>
            <a:ext cx="1224000" cy="1079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0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Garamond"/>
              </a:rPr>
              <a:t>Задачи</a:t>
            </a:r>
            <a:r>
              <a:rPr b="1" lang="en-US" sz="4400" spc="-1" strike="noStrike">
                <a:solidFill>
                  <a:srgbClr val="ccffff"/>
                </a:solidFill>
                <a:latin typeface="Garamond"/>
              </a:rPr>
              <a:t>: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cc99"/>
                </a:solidFill>
                <a:latin typeface="Garamond"/>
              </a:rPr>
              <a:t>.</a:t>
            </a:r>
            <a:r>
              <a:rPr b="0" lang="ru-RU" sz="3200" spc="-1" strike="noStrike">
                <a:solidFill>
                  <a:srgbClr val="ffcc99"/>
                </a:solidFill>
                <a:latin typeface="Garamond"/>
              </a:rPr>
              <a:t>Выявить методы и приемы эффективного воздействия на гиперактивных детей</a:t>
            </a:r>
            <a:r>
              <a:rPr b="0" lang="en-US" sz="3200" spc="-1" strike="noStrike">
                <a:solidFill>
                  <a:srgbClr val="ffcc99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 algn="just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Garamond"/>
              </a:rPr>
              <a:t>2.</a:t>
            </a:r>
            <a:r>
              <a:rPr b="0" lang="ru-RU" sz="3200" spc="-1" strike="noStrike">
                <a:solidFill>
                  <a:srgbClr val="ffcc99"/>
                </a:solidFill>
                <a:latin typeface="Garamond"/>
              </a:rPr>
              <a:t>Создать модель образовательно-воспитательных условий для работы с гиперактивными деть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56360" y="4005360"/>
            <a:ext cx="244800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0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Garamond"/>
              </a:rPr>
              <a:t>Рекомендации родителям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508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2400" indent="-302400" algn="just">
              <a:spcBef>
                <a:spcPts val="601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збегать жестоких оценок, упреков, угроз, слов: «нет», «прекрати», «нельзя»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2400" indent="-302400" algn="just">
              <a:spcBef>
                <a:spcPts val="601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моционально поддерживать ребенка во всех его попытках конструктивного, позитивного поведения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2400" indent="-302400" algn="just">
              <a:spcBef>
                <a:spcPts val="601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граничивать время пребывания ребенка в местах массового скопления людей, среди беспокойных шумных сверстников, так как это чрезмерно возбуждает ребенк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2400" indent="-302400" algn="just">
              <a:spcBef>
                <a:spcPts val="601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оставлять ребенку возможность адекватно расходовать избыточную энергию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59320" y="1413000"/>
            <a:ext cx="3494160" cy="51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0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Garamond"/>
              </a:rPr>
              <a:t>Рекомендации педагогу: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80000" y="1267920"/>
            <a:ext cx="536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5720" indent="-31572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авать ребенку только одно задание на определенный отрезок времени, чтобы он мог его завершит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720" indent="-31572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пользовать индивидуальный подход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720" indent="-31572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ощрять ребенка за все виды деятельности, в которой требуется концентрация внимания, усидчивость, терпение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720" indent="-31572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берегать ребенка от утомления, поскольку оно приводит к снижения самоконтрол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720" indent="-31572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изическую активность такого ребенка следует не сдерживать, а направлять и организовыват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720" indent="-31572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чить детей правильному поведению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720" indent="-315720" algn="just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ельзя недостатки в образовательной и воспитательной деятельности переносить  на оценку личных качеств и достоинст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4400" y="1197000"/>
            <a:ext cx="3659040" cy="566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dur="indefinite" fill="hold">
                      <p:stCondLst>
                        <p:cond delay="0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30360" y="-3886200"/>
            <a:ext cx="703080" cy="82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443700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9320" indent="-319320" algn="just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Harlow Solid Italic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Harlow Solid Italic"/>
              </a:rPr>
              <a:t>Необходимо организовать эффективную цепочку воспитательных воздействий на ребен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6769440" cy="39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56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0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35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9400" indent="-329400" algn="just">
              <a:spcBef>
                <a:spcPts val="700"/>
              </a:spcBef>
              <a:buClr>
                <a:srgbClr val="ffcc66"/>
              </a:buClr>
              <a:buFont typeface="Garamond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90016"/>
                </a:solidFill>
                <a:latin typeface="Garamond"/>
              </a:rPr>
              <a:t>Воспитатель – ребенок – его достижения – поведение – положение в группе – взаимоотношения – ролевые функции – отношение родителей к нему – взаимоотношения в семье – формирование и развитие нравственных отношений и качеств ребенка – их закрепление в практике повседневных отноше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7200" y="3924360"/>
            <a:ext cx="8229600" cy="2171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440000" y="3760920"/>
            <a:ext cx="633564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90016"/>
                </a:solidFill>
                <a:latin typeface="Garamond"/>
              </a:rPr>
              <a:t>Выводы:</a:t>
            </a:r>
            <a:br>
              <a:rPr sz="4000"/>
            </a:br>
            <a:endParaRPr b="1" lang="en-US" sz="40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Воспитание гиперактивных детей будет проходить успешно при использовании специальных приемов и создании комфортных условий для работы с такими детьми. При этом педагоги и родители должны активно сотруднича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635280" y="4653000"/>
            <a:ext cx="1739880" cy="1873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dur="indefinite" fill="hold">
                      <p:stCondLst>
                        <p:cond delay="0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ffff"/>
                </a:solidFill>
                <a:latin typeface="Garamond"/>
              </a:rPr>
              <a:t>Список литературы:</a:t>
            </a:r>
            <a:endParaRPr b="1" lang="en-US" sz="4400" spc="-1" strike="noStrike">
              <a:solidFill>
                <a:srgbClr val="ccff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Garamond"/>
              </a:rPr>
              <a:t>Коррекционная педагогика в начальном образовании.</a:t>
            </a:r>
            <a:r>
              <a:rPr b="0" lang="en-US" sz="3200" spc="-1" strike="noStrike">
                <a:solidFill>
                  <a:srgbClr val="ffcc99"/>
                </a:solidFill>
                <a:latin typeface="Garamond"/>
              </a:rPr>
              <a:t>/</a:t>
            </a:r>
            <a:r>
              <a:rPr b="0" lang="ru-RU" sz="3200" spc="-1" strike="noStrike">
                <a:solidFill>
                  <a:srgbClr val="ffcc99"/>
                </a:solidFill>
                <a:latin typeface="Garamond"/>
              </a:rPr>
              <a:t> Под ред. Г.Ф. Кумариной – М.: Академия, 2001 – 320 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c99"/>
                </a:solidFill>
                <a:latin typeface="Garamond"/>
              </a:rPr>
              <a:t>Подласый И.П. Курс лекций по коррекционной педагогике. – М.: ВЛАДОС, 2002. – 352 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443640" y="4149720"/>
            <a:ext cx="2376360" cy="2492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476360" y="5300640"/>
            <a:ext cx="1224000" cy="10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0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05:51:26Z</dcterms:created>
  <dc:creator>UI</dc:creator>
  <dc:description/>
  <dc:language>en-US</dc:language>
  <cp:lastModifiedBy>UI</cp:lastModifiedBy>
  <dcterms:modified xsi:type="dcterms:W3CDTF">2006-12-05T06:35:48Z</dcterms:modified>
  <cp:revision>20</cp:revision>
  <dc:subject/>
  <dc:title>Гиперактивные дети рядом с нами </dc:title>
</cp:coreProperties>
</file>