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E5A2-6502-4A29-902E-0961C39D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D08A-6DB1-4DC2-8540-5E4E9599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C03A-47B5-4949-AF18-700BDF32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4085-A07E-41A9-A8BE-9CD23908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0CCE-CD4A-4722-B57B-5A3562C7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E1D7-F6F7-4E84-9534-391E78D8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0FB9-2120-4CE6-8D3B-6133F88E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3792-5295-465B-92C7-8B3E46F2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B471-999B-4774-8C9B-6E53AAF4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8246-6994-46EF-B840-C251090F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2AA4-4942-4A19-AA26-557D3659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272D-0A2A-434E-8834-18BFAFAD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532B-FFB7-46CB-9005-CCC6B7FE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AB72-8174-4C85-A6A8-5EC70057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46ED-DD3F-4121-B028-F80C0767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5A3D-94A3-489D-A6C1-47B65FCA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36F6-8146-4656-A4A9-E3A10328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27A9-D86D-4FB5-B012-ADCEB4F4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D7D6-CE3C-4FAF-8C35-B95609CD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92E5-D081-4403-AB86-90438271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21F4-F6A6-40F7-AFFB-10A5E051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45E-9EBF-49DD-BACA-EE156EA5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B260-4760-418A-B589-07259F49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28B2-E437-43CF-A690-6BC45463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F677-68BE-47F7-B422-4184A98B85C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4BD6-7BDF-451A-AE87-1F714157076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5800" y="762120"/>
            <a:ext cx="701028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нные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амятники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етербурга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09480" y="1369440"/>
            <a:ext cx="784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Автор этого памятника – архитектор и скульптор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отец известного архитектора середины XVIII века, создателя Зимнего дворц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8458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  <a:path fill="darken" w="21600" h="26394">
                <a:moveTo>
                  <a:pt x="10800" y="1720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6394">
                <a:moveTo>
                  <a:pt x="11905" y="16678"/>
                </a:moveTo>
                <a:lnTo>
                  <a:pt x="11905" y="14720"/>
                </a:lnTo>
                <a:cubicBezTo>
                  <a:pt x="11905" y="13893"/>
                  <a:pt x="12236" y="13197"/>
                  <a:pt x="12837" y="13197"/>
                </a:cubicBezTo>
                <a:cubicBezTo>
                  <a:pt x="13968" y="13197"/>
                  <a:pt x="14865" y="11830"/>
                  <a:pt x="14865" y="10246"/>
                </a:cubicBezTo>
                <a:cubicBezTo>
                  <a:pt x="14865" y="7931"/>
                  <a:pt x="13011" y="6190"/>
                  <a:pt x="10800" y="6190"/>
                </a:cubicBezTo>
                <a:cubicBezTo>
                  <a:pt x="8589" y="6190"/>
                  <a:pt x="6918" y="7931"/>
                  <a:pt x="6918" y="10246"/>
                </a:cubicBezTo>
                <a:lnTo>
                  <a:pt x="8772" y="10246"/>
                </a:lnTo>
                <a:cubicBezTo>
                  <a:pt x="8772" y="9106"/>
                  <a:pt x="9695" y="8218"/>
                  <a:pt x="10800" y="8218"/>
                </a:cubicBezTo>
                <a:cubicBezTo>
                  <a:pt x="11905" y="8218"/>
                  <a:pt x="12837" y="9106"/>
                  <a:pt x="12837" y="10246"/>
                </a:cubicBezTo>
                <a:cubicBezTo>
                  <a:pt x="12837" y="10986"/>
                  <a:pt x="12367" y="11717"/>
                  <a:pt x="11905" y="11717"/>
                </a:cubicBezTo>
                <a:cubicBezTo>
                  <a:pt x="10800" y="11717"/>
                  <a:pt x="9695" y="13197"/>
                  <a:pt x="9695" y="14720"/>
                </a:cubicBezTo>
                <a:lnTo>
                  <a:pt x="9695" y="16678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2440" y="3049920"/>
            <a:ext cx="862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Это первый памятник Росс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8458200" y="5867280"/>
            <a:ext cx="685800" cy="9907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90720"/>
              <a:gd name="textAreaBottom" fmla="*/ 946440 h 990720"/>
            </a:gdLst>
            <a:ahLst/>
            <a:rect l="textAreaLeft" t="textAreaTop" r="textAreaRight" b="textAreaBottom"/>
            <a:pathLst>
              <a:path w="21600" h="31199">
                <a:moveTo>
                  <a:pt x="0" y="0"/>
                </a:moveTo>
                <a:lnTo>
                  <a:pt x="21600" y="0"/>
                </a:lnTo>
                <a:lnTo>
                  <a:pt x="21600" y="31199"/>
                </a:lnTo>
                <a:lnTo>
                  <a:pt x="0" y="31199"/>
                </a:lnTo>
                <a:close/>
              </a:path>
              <a:path fill="lightenLess" w="21600" h="31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199">
                <a:moveTo>
                  <a:pt x="21600" y="0"/>
                </a:moveTo>
                <a:lnTo>
                  <a:pt x="21600" y="31199"/>
                </a:lnTo>
                <a:lnTo>
                  <a:pt x="20200" y="29799"/>
                </a:lnTo>
                <a:lnTo>
                  <a:pt x="20200" y="1400"/>
                </a:lnTo>
                <a:close/>
              </a:path>
              <a:path fill="darkenLess" w="21600" h="31199">
                <a:moveTo>
                  <a:pt x="21600" y="31199"/>
                </a:moveTo>
                <a:lnTo>
                  <a:pt x="0" y="31199"/>
                </a:lnTo>
                <a:lnTo>
                  <a:pt x="1400" y="29799"/>
                </a:lnTo>
                <a:lnTo>
                  <a:pt x="20200" y="29799"/>
                </a:lnTo>
                <a:close/>
              </a:path>
              <a:path fill="lighten" w="21600" h="31199">
                <a:moveTo>
                  <a:pt x="0" y="31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799"/>
                </a:lnTo>
                <a:close/>
              </a:path>
              <a:path fill="darken" w="21600" h="31199">
                <a:moveTo>
                  <a:pt x="10800" y="1960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1199">
                <a:moveTo>
                  <a:pt x="11905" y="19081"/>
                </a:moveTo>
                <a:lnTo>
                  <a:pt x="11905" y="17123"/>
                </a:lnTo>
                <a:cubicBezTo>
                  <a:pt x="11905" y="16296"/>
                  <a:pt x="12236" y="15599"/>
                  <a:pt x="12837" y="15599"/>
                </a:cubicBezTo>
                <a:cubicBezTo>
                  <a:pt x="13968" y="15599"/>
                  <a:pt x="14865" y="14233"/>
                  <a:pt x="14865" y="12649"/>
                </a:cubicBezTo>
                <a:cubicBezTo>
                  <a:pt x="14865" y="10334"/>
                  <a:pt x="13011" y="8593"/>
                  <a:pt x="10800" y="8593"/>
                </a:cubicBezTo>
                <a:cubicBezTo>
                  <a:pt x="8589" y="8593"/>
                  <a:pt x="6918" y="10334"/>
                  <a:pt x="6918" y="12649"/>
                </a:cubicBezTo>
                <a:lnTo>
                  <a:pt x="8772" y="12649"/>
                </a:lnTo>
                <a:cubicBezTo>
                  <a:pt x="8772" y="11509"/>
                  <a:pt x="9695" y="10621"/>
                  <a:pt x="10800" y="10621"/>
                </a:cubicBezTo>
                <a:cubicBezTo>
                  <a:pt x="11905" y="10621"/>
                  <a:pt x="12837" y="11509"/>
                  <a:pt x="12837" y="12649"/>
                </a:cubicBezTo>
                <a:cubicBezTo>
                  <a:pt x="12837" y="13389"/>
                  <a:pt x="12367" y="14120"/>
                  <a:pt x="11905" y="14120"/>
                </a:cubicBezTo>
                <a:cubicBezTo>
                  <a:pt x="10800" y="14120"/>
                  <a:pt x="9695" y="15599"/>
                  <a:pt x="9695" y="17123"/>
                </a:cubicBezTo>
                <a:lnTo>
                  <a:pt x="9695" y="19081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1067760"/>
            <a:ext cx="7924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На постаменте этого памятника расположен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барельефы, рассказывающие о правлении эт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император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8458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  <a:path fill="darken" w="21600" h="26394">
                <a:moveTo>
                  <a:pt x="10800" y="1720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6394">
                <a:moveTo>
                  <a:pt x="11905" y="16678"/>
                </a:moveTo>
                <a:lnTo>
                  <a:pt x="11905" y="14720"/>
                </a:lnTo>
                <a:cubicBezTo>
                  <a:pt x="11905" y="13893"/>
                  <a:pt x="12236" y="13197"/>
                  <a:pt x="12837" y="13197"/>
                </a:cubicBezTo>
                <a:cubicBezTo>
                  <a:pt x="13968" y="13197"/>
                  <a:pt x="14865" y="11830"/>
                  <a:pt x="14865" y="10246"/>
                </a:cubicBezTo>
                <a:cubicBezTo>
                  <a:pt x="14865" y="7931"/>
                  <a:pt x="13011" y="6190"/>
                  <a:pt x="10800" y="6190"/>
                </a:cubicBezTo>
                <a:cubicBezTo>
                  <a:pt x="8589" y="6190"/>
                  <a:pt x="6918" y="7931"/>
                  <a:pt x="6918" y="10246"/>
                </a:cubicBezTo>
                <a:lnTo>
                  <a:pt x="8772" y="10246"/>
                </a:lnTo>
                <a:cubicBezTo>
                  <a:pt x="8772" y="9106"/>
                  <a:pt x="9695" y="8218"/>
                  <a:pt x="10800" y="8218"/>
                </a:cubicBezTo>
                <a:cubicBezTo>
                  <a:pt x="11905" y="8218"/>
                  <a:pt x="12837" y="9106"/>
                  <a:pt x="12837" y="10246"/>
                </a:cubicBezTo>
                <a:cubicBezTo>
                  <a:pt x="12837" y="10986"/>
                  <a:pt x="12367" y="11717"/>
                  <a:pt x="11905" y="11717"/>
                </a:cubicBezTo>
                <a:cubicBezTo>
                  <a:pt x="10800" y="11717"/>
                  <a:pt x="9695" y="13197"/>
                  <a:pt x="9695" y="14720"/>
                </a:cubicBezTo>
                <a:lnTo>
                  <a:pt x="9695" y="16678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66680" y="1295280"/>
            <a:ext cx="731520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Герой этого памятника предстае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перед нами в вид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полководца-триумфатор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8458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  <a:path fill="darken" w="21600" h="26394">
                <a:moveTo>
                  <a:pt x="10800" y="1720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6394">
                <a:moveTo>
                  <a:pt x="11905" y="16678"/>
                </a:moveTo>
                <a:lnTo>
                  <a:pt x="11905" y="14720"/>
                </a:lnTo>
                <a:cubicBezTo>
                  <a:pt x="11905" y="13893"/>
                  <a:pt x="12236" y="13197"/>
                  <a:pt x="12837" y="13197"/>
                </a:cubicBezTo>
                <a:cubicBezTo>
                  <a:pt x="13968" y="13197"/>
                  <a:pt x="14865" y="11830"/>
                  <a:pt x="14865" y="10246"/>
                </a:cubicBezTo>
                <a:cubicBezTo>
                  <a:pt x="14865" y="7931"/>
                  <a:pt x="13011" y="6190"/>
                  <a:pt x="10800" y="6190"/>
                </a:cubicBezTo>
                <a:cubicBezTo>
                  <a:pt x="8589" y="6190"/>
                  <a:pt x="6918" y="7931"/>
                  <a:pt x="6918" y="10246"/>
                </a:cubicBezTo>
                <a:lnTo>
                  <a:pt x="8772" y="10246"/>
                </a:lnTo>
                <a:cubicBezTo>
                  <a:pt x="8772" y="9106"/>
                  <a:pt x="9695" y="8218"/>
                  <a:pt x="10800" y="8218"/>
                </a:cubicBezTo>
                <a:cubicBezTo>
                  <a:pt x="11905" y="8218"/>
                  <a:pt x="12837" y="9106"/>
                  <a:pt x="12837" y="10246"/>
                </a:cubicBezTo>
                <a:cubicBezTo>
                  <a:pt x="12837" y="10986"/>
                  <a:pt x="12367" y="11717"/>
                  <a:pt x="11905" y="11717"/>
                </a:cubicBezTo>
                <a:cubicBezTo>
                  <a:pt x="10800" y="11717"/>
                  <a:pt x="9695" y="13197"/>
                  <a:pt x="9695" y="14720"/>
                </a:cubicBezTo>
                <a:lnTo>
                  <a:pt x="9695" y="16678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371600"/>
            <a:ext cx="8001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Лошадь, на которой император изображен на памятнике, была названа  также,  как   дочь  и даже собака император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8458200" y="5867280"/>
            <a:ext cx="685800" cy="9907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90720"/>
              <a:gd name="textAreaBottom" fmla="*/ 946440 h 990720"/>
            </a:gdLst>
            <a:ahLst/>
            <a:rect l="textAreaLeft" t="textAreaTop" r="textAreaRight" b="textAreaBottom"/>
            <a:pathLst>
              <a:path w="21600" h="31199">
                <a:moveTo>
                  <a:pt x="0" y="0"/>
                </a:moveTo>
                <a:lnTo>
                  <a:pt x="21600" y="0"/>
                </a:lnTo>
                <a:lnTo>
                  <a:pt x="21600" y="31199"/>
                </a:lnTo>
                <a:lnTo>
                  <a:pt x="0" y="31199"/>
                </a:lnTo>
                <a:close/>
              </a:path>
              <a:path fill="lightenLess" w="21600" h="31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199">
                <a:moveTo>
                  <a:pt x="21600" y="0"/>
                </a:moveTo>
                <a:lnTo>
                  <a:pt x="21600" y="31199"/>
                </a:lnTo>
                <a:lnTo>
                  <a:pt x="20200" y="29799"/>
                </a:lnTo>
                <a:lnTo>
                  <a:pt x="20200" y="1400"/>
                </a:lnTo>
                <a:close/>
              </a:path>
              <a:path fill="darkenLess" w="21600" h="31199">
                <a:moveTo>
                  <a:pt x="21600" y="31199"/>
                </a:moveTo>
                <a:lnTo>
                  <a:pt x="0" y="31199"/>
                </a:lnTo>
                <a:lnTo>
                  <a:pt x="1400" y="29799"/>
                </a:lnTo>
                <a:lnTo>
                  <a:pt x="20200" y="29799"/>
                </a:lnTo>
                <a:close/>
              </a:path>
              <a:path fill="lighten" w="21600" h="31199">
                <a:moveTo>
                  <a:pt x="0" y="31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799"/>
                </a:lnTo>
                <a:close/>
              </a:path>
              <a:path fill="darken" w="21600" h="31199">
                <a:moveTo>
                  <a:pt x="10800" y="1960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1199">
                <a:moveTo>
                  <a:pt x="11905" y="19081"/>
                </a:moveTo>
                <a:lnTo>
                  <a:pt x="11905" y="17123"/>
                </a:lnTo>
                <a:cubicBezTo>
                  <a:pt x="11905" y="16296"/>
                  <a:pt x="12236" y="15599"/>
                  <a:pt x="12837" y="15599"/>
                </a:cubicBezTo>
                <a:cubicBezTo>
                  <a:pt x="13968" y="15599"/>
                  <a:pt x="14865" y="14233"/>
                  <a:pt x="14865" y="12649"/>
                </a:cubicBezTo>
                <a:cubicBezTo>
                  <a:pt x="14865" y="10334"/>
                  <a:pt x="13011" y="8593"/>
                  <a:pt x="10800" y="8593"/>
                </a:cubicBezTo>
                <a:cubicBezTo>
                  <a:pt x="8589" y="8593"/>
                  <a:pt x="6918" y="10334"/>
                  <a:pt x="6918" y="12649"/>
                </a:cubicBezTo>
                <a:lnTo>
                  <a:pt x="8772" y="12649"/>
                </a:lnTo>
                <a:cubicBezTo>
                  <a:pt x="8772" y="11509"/>
                  <a:pt x="9695" y="10621"/>
                  <a:pt x="10800" y="10621"/>
                </a:cubicBezTo>
                <a:cubicBezTo>
                  <a:pt x="11905" y="10621"/>
                  <a:pt x="12837" y="11509"/>
                  <a:pt x="12837" y="12649"/>
                </a:cubicBezTo>
                <a:cubicBezTo>
                  <a:pt x="12837" y="13389"/>
                  <a:pt x="12367" y="14120"/>
                  <a:pt x="11905" y="14120"/>
                </a:cubicBezTo>
                <a:cubicBezTo>
                  <a:pt x="10800" y="14120"/>
                  <a:pt x="9695" y="15599"/>
                  <a:pt x="9695" y="17123"/>
                </a:cubicBezTo>
                <a:lnTo>
                  <a:pt x="9695" y="19081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520" y="762120"/>
            <a:ext cx="80769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Автор памятника – известный скульптор, создатель памятника И.А.Крылову в Летнем саду и колесницы богини Ники на Нарвских ворота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8458200" y="5867280"/>
            <a:ext cx="685800" cy="9907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90720"/>
              <a:gd name="textAreaBottom" fmla="*/ 946440 h 990720"/>
            </a:gdLst>
            <a:ahLst/>
            <a:rect l="textAreaLeft" t="textAreaTop" r="textAreaRight" b="textAreaBottom"/>
            <a:pathLst>
              <a:path w="21600" h="31199">
                <a:moveTo>
                  <a:pt x="0" y="0"/>
                </a:moveTo>
                <a:lnTo>
                  <a:pt x="21600" y="0"/>
                </a:lnTo>
                <a:lnTo>
                  <a:pt x="21600" y="31199"/>
                </a:lnTo>
                <a:lnTo>
                  <a:pt x="0" y="31199"/>
                </a:lnTo>
                <a:close/>
              </a:path>
              <a:path fill="lightenLess" w="21600" h="31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199">
                <a:moveTo>
                  <a:pt x="21600" y="0"/>
                </a:moveTo>
                <a:lnTo>
                  <a:pt x="21600" y="31199"/>
                </a:lnTo>
                <a:lnTo>
                  <a:pt x="20200" y="29799"/>
                </a:lnTo>
                <a:lnTo>
                  <a:pt x="20200" y="1400"/>
                </a:lnTo>
                <a:close/>
              </a:path>
              <a:path fill="darkenLess" w="21600" h="31199">
                <a:moveTo>
                  <a:pt x="21600" y="31199"/>
                </a:moveTo>
                <a:lnTo>
                  <a:pt x="0" y="31199"/>
                </a:lnTo>
                <a:lnTo>
                  <a:pt x="1400" y="29799"/>
                </a:lnTo>
                <a:lnTo>
                  <a:pt x="20200" y="29799"/>
                </a:lnTo>
                <a:close/>
              </a:path>
              <a:path fill="lighten" w="21600" h="31199">
                <a:moveTo>
                  <a:pt x="0" y="31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799"/>
                </a:lnTo>
                <a:close/>
              </a:path>
              <a:path fill="darken" w="21600" h="31199">
                <a:moveTo>
                  <a:pt x="10800" y="1960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1199">
                <a:moveTo>
                  <a:pt x="11905" y="19081"/>
                </a:moveTo>
                <a:lnTo>
                  <a:pt x="11905" y="17123"/>
                </a:lnTo>
                <a:cubicBezTo>
                  <a:pt x="11905" y="16296"/>
                  <a:pt x="12236" y="15599"/>
                  <a:pt x="12837" y="15599"/>
                </a:cubicBezTo>
                <a:cubicBezTo>
                  <a:pt x="13968" y="15599"/>
                  <a:pt x="14865" y="14233"/>
                  <a:pt x="14865" y="12649"/>
                </a:cubicBezTo>
                <a:cubicBezTo>
                  <a:pt x="14865" y="10334"/>
                  <a:pt x="13011" y="8593"/>
                  <a:pt x="10800" y="8593"/>
                </a:cubicBezTo>
                <a:cubicBezTo>
                  <a:pt x="8589" y="8593"/>
                  <a:pt x="6918" y="10334"/>
                  <a:pt x="6918" y="12649"/>
                </a:cubicBezTo>
                <a:lnTo>
                  <a:pt x="8772" y="12649"/>
                </a:lnTo>
                <a:cubicBezTo>
                  <a:pt x="8772" y="11509"/>
                  <a:pt x="9695" y="10621"/>
                  <a:pt x="10800" y="10621"/>
                </a:cubicBezTo>
                <a:cubicBezTo>
                  <a:pt x="11905" y="10621"/>
                  <a:pt x="12837" y="11509"/>
                  <a:pt x="12837" y="12649"/>
                </a:cubicBezTo>
                <a:cubicBezTo>
                  <a:pt x="12837" y="13389"/>
                  <a:pt x="12367" y="14120"/>
                  <a:pt x="11905" y="14120"/>
                </a:cubicBezTo>
                <a:cubicBezTo>
                  <a:pt x="10800" y="14120"/>
                  <a:pt x="9695" y="15599"/>
                  <a:pt x="9695" y="17123"/>
                </a:cubicBezTo>
                <a:lnTo>
                  <a:pt x="9695" y="19081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38080" y="121932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Герой  памятника совсем не заслужил тех обидных слов, которые были посвящены его бронзовому изображению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8458200" y="5867280"/>
            <a:ext cx="685800" cy="9907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90720"/>
              <a:gd name="textAreaBottom" fmla="*/ 946440 h 990720"/>
            </a:gdLst>
            <a:ahLst/>
            <a:rect l="textAreaLeft" t="textAreaTop" r="textAreaRight" b="textAreaBottom"/>
            <a:pathLst>
              <a:path w="21600" h="31199">
                <a:moveTo>
                  <a:pt x="0" y="0"/>
                </a:moveTo>
                <a:lnTo>
                  <a:pt x="21600" y="0"/>
                </a:lnTo>
                <a:lnTo>
                  <a:pt x="21600" y="31199"/>
                </a:lnTo>
                <a:lnTo>
                  <a:pt x="0" y="31199"/>
                </a:lnTo>
                <a:close/>
              </a:path>
              <a:path fill="lightenLess" w="21600" h="31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199">
                <a:moveTo>
                  <a:pt x="21600" y="0"/>
                </a:moveTo>
                <a:lnTo>
                  <a:pt x="21600" y="31199"/>
                </a:lnTo>
                <a:lnTo>
                  <a:pt x="20200" y="29799"/>
                </a:lnTo>
                <a:lnTo>
                  <a:pt x="20200" y="1400"/>
                </a:lnTo>
                <a:close/>
              </a:path>
              <a:path fill="darkenLess" w="21600" h="31199">
                <a:moveTo>
                  <a:pt x="21600" y="31199"/>
                </a:moveTo>
                <a:lnTo>
                  <a:pt x="0" y="31199"/>
                </a:lnTo>
                <a:lnTo>
                  <a:pt x="1400" y="29799"/>
                </a:lnTo>
                <a:lnTo>
                  <a:pt x="20200" y="29799"/>
                </a:lnTo>
                <a:close/>
              </a:path>
              <a:path fill="lighten" w="21600" h="31199">
                <a:moveTo>
                  <a:pt x="0" y="31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799"/>
                </a:lnTo>
                <a:close/>
              </a:path>
              <a:path fill="darken" w="21600" h="31199">
                <a:moveTo>
                  <a:pt x="10800" y="1960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1199">
                <a:moveTo>
                  <a:pt x="11905" y="19081"/>
                </a:moveTo>
                <a:lnTo>
                  <a:pt x="11905" y="17123"/>
                </a:lnTo>
                <a:cubicBezTo>
                  <a:pt x="11905" y="16296"/>
                  <a:pt x="12236" y="15599"/>
                  <a:pt x="12837" y="15599"/>
                </a:cubicBezTo>
                <a:cubicBezTo>
                  <a:pt x="13968" y="15599"/>
                  <a:pt x="14865" y="14233"/>
                  <a:pt x="14865" y="12649"/>
                </a:cubicBezTo>
                <a:cubicBezTo>
                  <a:pt x="14865" y="10334"/>
                  <a:pt x="13011" y="8593"/>
                  <a:pt x="10800" y="8593"/>
                </a:cubicBezTo>
                <a:cubicBezTo>
                  <a:pt x="8589" y="8593"/>
                  <a:pt x="6918" y="10334"/>
                  <a:pt x="6918" y="12649"/>
                </a:cubicBezTo>
                <a:lnTo>
                  <a:pt x="8772" y="12649"/>
                </a:lnTo>
                <a:cubicBezTo>
                  <a:pt x="8772" y="11509"/>
                  <a:pt x="9695" y="10621"/>
                  <a:pt x="10800" y="10621"/>
                </a:cubicBezTo>
                <a:cubicBezTo>
                  <a:pt x="11905" y="10621"/>
                  <a:pt x="12837" y="11509"/>
                  <a:pt x="12837" y="12649"/>
                </a:cubicBezTo>
                <a:cubicBezTo>
                  <a:pt x="12837" y="13389"/>
                  <a:pt x="12367" y="14120"/>
                  <a:pt x="11905" y="14120"/>
                </a:cubicBezTo>
                <a:cubicBezTo>
                  <a:pt x="10800" y="14120"/>
                  <a:pt x="9695" y="15599"/>
                  <a:pt x="9695" y="17123"/>
                </a:cubicBezTo>
                <a:lnTo>
                  <a:pt x="9695" y="19081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9480" y="1219320"/>
            <a:ext cx="7925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Чтобы лучше передать портретное сходство, скульптор снял с лица царя гипсовый слепок и пользовался им в процессе работы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8458200" y="5867280"/>
            <a:ext cx="685800" cy="9907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90720"/>
              <a:gd name="textAreaBottom" fmla="*/ 946440 h 990720"/>
            </a:gdLst>
            <a:ahLst/>
            <a:rect l="textAreaLeft" t="textAreaTop" r="textAreaRight" b="textAreaBottom"/>
            <a:pathLst>
              <a:path w="21600" h="31199">
                <a:moveTo>
                  <a:pt x="0" y="0"/>
                </a:moveTo>
                <a:lnTo>
                  <a:pt x="21600" y="0"/>
                </a:lnTo>
                <a:lnTo>
                  <a:pt x="21600" y="31199"/>
                </a:lnTo>
                <a:lnTo>
                  <a:pt x="0" y="31199"/>
                </a:lnTo>
                <a:close/>
              </a:path>
              <a:path fill="lightenLess" w="21600" h="31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199">
                <a:moveTo>
                  <a:pt x="21600" y="0"/>
                </a:moveTo>
                <a:lnTo>
                  <a:pt x="21600" y="31199"/>
                </a:lnTo>
                <a:lnTo>
                  <a:pt x="20200" y="29799"/>
                </a:lnTo>
                <a:lnTo>
                  <a:pt x="20200" y="1400"/>
                </a:lnTo>
                <a:close/>
              </a:path>
              <a:path fill="darkenLess" w="21600" h="31199">
                <a:moveTo>
                  <a:pt x="21600" y="31199"/>
                </a:moveTo>
                <a:lnTo>
                  <a:pt x="0" y="31199"/>
                </a:lnTo>
                <a:lnTo>
                  <a:pt x="1400" y="29799"/>
                </a:lnTo>
                <a:lnTo>
                  <a:pt x="20200" y="29799"/>
                </a:lnTo>
                <a:close/>
              </a:path>
              <a:path fill="lighten" w="21600" h="31199">
                <a:moveTo>
                  <a:pt x="0" y="31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799"/>
                </a:lnTo>
                <a:close/>
              </a:path>
              <a:path fill="darken" w="21600" h="31199">
                <a:moveTo>
                  <a:pt x="10800" y="1960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1199">
                <a:moveTo>
                  <a:pt x="11905" y="19081"/>
                </a:moveTo>
                <a:lnTo>
                  <a:pt x="11905" y="17123"/>
                </a:lnTo>
                <a:cubicBezTo>
                  <a:pt x="11905" y="16296"/>
                  <a:pt x="12236" y="15599"/>
                  <a:pt x="12837" y="15599"/>
                </a:cubicBezTo>
                <a:cubicBezTo>
                  <a:pt x="13968" y="15599"/>
                  <a:pt x="14865" y="14233"/>
                  <a:pt x="14865" y="12649"/>
                </a:cubicBezTo>
                <a:cubicBezTo>
                  <a:pt x="14865" y="10334"/>
                  <a:pt x="13011" y="8593"/>
                  <a:pt x="10800" y="8593"/>
                </a:cubicBezTo>
                <a:cubicBezTo>
                  <a:pt x="8589" y="8593"/>
                  <a:pt x="6918" y="10334"/>
                  <a:pt x="6918" y="12649"/>
                </a:cubicBezTo>
                <a:lnTo>
                  <a:pt x="8772" y="12649"/>
                </a:lnTo>
                <a:cubicBezTo>
                  <a:pt x="8772" y="11509"/>
                  <a:pt x="9695" y="10621"/>
                  <a:pt x="10800" y="10621"/>
                </a:cubicBezTo>
                <a:cubicBezTo>
                  <a:pt x="11905" y="10621"/>
                  <a:pt x="12837" y="11509"/>
                  <a:pt x="12837" y="12649"/>
                </a:cubicBezTo>
                <a:cubicBezTo>
                  <a:pt x="12837" y="13389"/>
                  <a:pt x="12367" y="14120"/>
                  <a:pt x="11905" y="14120"/>
                </a:cubicBezTo>
                <a:cubicBezTo>
                  <a:pt x="10800" y="14120"/>
                  <a:pt x="9695" y="15599"/>
                  <a:pt x="9695" y="17123"/>
                </a:cubicBezTo>
                <a:lnTo>
                  <a:pt x="9695" y="19081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2952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Arial"/>
              </a:rPr>
              <a:t>На его постаменте скромная надпись: «Прадеду правнук. 1800»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8458200" y="5867280"/>
            <a:ext cx="685800" cy="9907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90720"/>
              <a:gd name="textAreaBottom" fmla="*/ 946440 h 990720"/>
            </a:gdLst>
            <a:ahLst/>
            <a:rect l="textAreaLeft" t="textAreaTop" r="textAreaRight" b="textAreaBottom"/>
            <a:pathLst>
              <a:path w="21600" h="31199">
                <a:moveTo>
                  <a:pt x="0" y="0"/>
                </a:moveTo>
                <a:lnTo>
                  <a:pt x="21600" y="0"/>
                </a:lnTo>
                <a:lnTo>
                  <a:pt x="21600" y="31199"/>
                </a:lnTo>
                <a:lnTo>
                  <a:pt x="0" y="31199"/>
                </a:lnTo>
                <a:close/>
              </a:path>
              <a:path fill="lightenLess" w="21600" h="31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199">
                <a:moveTo>
                  <a:pt x="21600" y="0"/>
                </a:moveTo>
                <a:lnTo>
                  <a:pt x="21600" y="31199"/>
                </a:lnTo>
                <a:lnTo>
                  <a:pt x="20200" y="29799"/>
                </a:lnTo>
                <a:lnTo>
                  <a:pt x="20200" y="1400"/>
                </a:lnTo>
                <a:close/>
              </a:path>
              <a:path fill="darkenLess" w="21600" h="31199">
                <a:moveTo>
                  <a:pt x="21600" y="31199"/>
                </a:moveTo>
                <a:lnTo>
                  <a:pt x="0" y="31199"/>
                </a:lnTo>
                <a:lnTo>
                  <a:pt x="1400" y="29799"/>
                </a:lnTo>
                <a:lnTo>
                  <a:pt x="20200" y="29799"/>
                </a:lnTo>
                <a:close/>
              </a:path>
              <a:path fill="lighten" w="21600" h="31199">
                <a:moveTo>
                  <a:pt x="0" y="31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799"/>
                </a:lnTo>
                <a:close/>
              </a:path>
              <a:path fill="darken" w="21600" h="31199">
                <a:moveTo>
                  <a:pt x="10800" y="1960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1199">
                <a:moveTo>
                  <a:pt x="11905" y="19081"/>
                </a:moveTo>
                <a:lnTo>
                  <a:pt x="11905" y="17123"/>
                </a:lnTo>
                <a:cubicBezTo>
                  <a:pt x="11905" y="16296"/>
                  <a:pt x="12236" y="15599"/>
                  <a:pt x="12837" y="15599"/>
                </a:cubicBezTo>
                <a:cubicBezTo>
                  <a:pt x="13968" y="15599"/>
                  <a:pt x="14865" y="14233"/>
                  <a:pt x="14865" y="12649"/>
                </a:cubicBezTo>
                <a:cubicBezTo>
                  <a:pt x="14865" y="10334"/>
                  <a:pt x="13011" y="8593"/>
                  <a:pt x="10800" y="8593"/>
                </a:cubicBezTo>
                <a:cubicBezTo>
                  <a:pt x="8589" y="8593"/>
                  <a:pt x="6918" y="10334"/>
                  <a:pt x="6918" y="12649"/>
                </a:cubicBezTo>
                <a:lnTo>
                  <a:pt x="8772" y="12649"/>
                </a:lnTo>
                <a:cubicBezTo>
                  <a:pt x="8772" y="11509"/>
                  <a:pt x="9695" y="10621"/>
                  <a:pt x="10800" y="10621"/>
                </a:cubicBezTo>
                <a:cubicBezTo>
                  <a:pt x="11905" y="10621"/>
                  <a:pt x="12837" y="11509"/>
                  <a:pt x="12837" y="12649"/>
                </a:cubicBezTo>
                <a:cubicBezTo>
                  <a:pt x="12837" y="13389"/>
                  <a:pt x="12367" y="14120"/>
                  <a:pt x="11905" y="14120"/>
                </a:cubicBezTo>
                <a:cubicBezTo>
                  <a:pt x="10800" y="14120"/>
                  <a:pt x="9695" y="15599"/>
                  <a:pt x="9695" y="17123"/>
                </a:cubicBezTo>
                <a:lnTo>
                  <a:pt x="9695" y="19081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09480" y="990720"/>
            <a:ext cx="8077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66"/>
                </a:solidFill>
                <a:latin typeface="Arial"/>
              </a:rPr>
              <a:t>Скульптуры на постаменте памятника имеют портретное сходство с женой и дочерьми император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8458200" y="5867280"/>
            <a:ext cx="685800" cy="9907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90720"/>
              <a:gd name="textAreaBottom" fmla="*/ 946440 h 990720"/>
            </a:gdLst>
            <a:ahLst/>
            <a:rect l="textAreaLeft" t="textAreaTop" r="textAreaRight" b="textAreaBottom"/>
            <a:pathLst>
              <a:path w="21600" h="31199">
                <a:moveTo>
                  <a:pt x="0" y="0"/>
                </a:moveTo>
                <a:lnTo>
                  <a:pt x="21600" y="0"/>
                </a:lnTo>
                <a:lnTo>
                  <a:pt x="21600" y="31199"/>
                </a:lnTo>
                <a:lnTo>
                  <a:pt x="0" y="31199"/>
                </a:lnTo>
                <a:close/>
              </a:path>
              <a:path fill="lightenLess" w="21600" h="31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199">
                <a:moveTo>
                  <a:pt x="21600" y="0"/>
                </a:moveTo>
                <a:lnTo>
                  <a:pt x="21600" y="31199"/>
                </a:lnTo>
                <a:lnTo>
                  <a:pt x="20200" y="29799"/>
                </a:lnTo>
                <a:lnTo>
                  <a:pt x="20200" y="1400"/>
                </a:lnTo>
                <a:close/>
              </a:path>
              <a:path fill="darkenLess" w="21600" h="31199">
                <a:moveTo>
                  <a:pt x="21600" y="31199"/>
                </a:moveTo>
                <a:lnTo>
                  <a:pt x="0" y="31199"/>
                </a:lnTo>
                <a:lnTo>
                  <a:pt x="1400" y="29799"/>
                </a:lnTo>
                <a:lnTo>
                  <a:pt x="20200" y="29799"/>
                </a:lnTo>
                <a:close/>
              </a:path>
              <a:path fill="lighten" w="21600" h="31199">
                <a:moveTo>
                  <a:pt x="0" y="31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799"/>
                </a:lnTo>
                <a:close/>
              </a:path>
              <a:path fill="darken" w="21600" h="31199">
                <a:moveTo>
                  <a:pt x="10800" y="1960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1199">
                <a:moveTo>
                  <a:pt x="11905" y="19081"/>
                </a:moveTo>
                <a:lnTo>
                  <a:pt x="11905" y="17123"/>
                </a:lnTo>
                <a:cubicBezTo>
                  <a:pt x="11905" y="16296"/>
                  <a:pt x="12236" y="15599"/>
                  <a:pt x="12837" y="15599"/>
                </a:cubicBezTo>
                <a:cubicBezTo>
                  <a:pt x="13968" y="15599"/>
                  <a:pt x="14865" y="14233"/>
                  <a:pt x="14865" y="12649"/>
                </a:cubicBezTo>
                <a:cubicBezTo>
                  <a:pt x="14865" y="10334"/>
                  <a:pt x="13011" y="8593"/>
                  <a:pt x="10800" y="8593"/>
                </a:cubicBezTo>
                <a:cubicBezTo>
                  <a:pt x="8589" y="8593"/>
                  <a:pt x="6918" y="10334"/>
                  <a:pt x="6918" y="12649"/>
                </a:cubicBezTo>
                <a:lnTo>
                  <a:pt x="8772" y="12649"/>
                </a:lnTo>
                <a:cubicBezTo>
                  <a:pt x="8772" y="11509"/>
                  <a:pt x="9695" y="10621"/>
                  <a:pt x="10800" y="10621"/>
                </a:cubicBezTo>
                <a:cubicBezTo>
                  <a:pt x="11905" y="10621"/>
                  <a:pt x="12837" y="11509"/>
                  <a:pt x="12837" y="12649"/>
                </a:cubicBezTo>
                <a:cubicBezTo>
                  <a:pt x="12837" y="13389"/>
                  <a:pt x="12367" y="14120"/>
                  <a:pt x="11905" y="14120"/>
                </a:cubicBezTo>
                <a:cubicBezTo>
                  <a:pt x="10800" y="14120"/>
                  <a:pt x="9695" y="15599"/>
                  <a:pt x="9695" y="17123"/>
                </a:cubicBezTo>
                <a:lnTo>
                  <a:pt x="9695" y="19081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92600" cy="4038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28422" t="0" r="30528" b="0"/>
          <a:stretch/>
        </p:blipFill>
        <p:spPr>
          <a:xfrm>
            <a:off x="1905120" y="1752480"/>
            <a:ext cx="2795400" cy="5105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rcRect l="22192" t="0" r="33422" b="0"/>
          <a:stretch/>
        </p:blipFill>
        <p:spPr>
          <a:xfrm>
            <a:off x="5680080" y="1752480"/>
            <a:ext cx="3463920" cy="5105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rcRect l="18691" t="0" r="17759" b="9409"/>
          <a:stretch/>
        </p:blipFill>
        <p:spPr>
          <a:xfrm>
            <a:off x="4038480" y="0"/>
            <a:ext cx="28450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04920" y="1371600"/>
            <a:ext cx="853416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Какой поэт и какому памятнику посвятил эти строч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О мощный властелин судьб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Не так ли ты над самой бездно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На высоте, уздой желез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Россию поднял на дыб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8458200" y="5867280"/>
            <a:ext cx="685800" cy="9907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90720"/>
              <a:gd name="textAreaBottom" fmla="*/ 946440 h 990720"/>
            </a:gdLst>
            <a:ahLst/>
            <a:rect l="textAreaLeft" t="textAreaTop" r="textAreaRight" b="textAreaBottom"/>
            <a:pathLst>
              <a:path w="21600" h="31199">
                <a:moveTo>
                  <a:pt x="0" y="0"/>
                </a:moveTo>
                <a:lnTo>
                  <a:pt x="21600" y="0"/>
                </a:lnTo>
                <a:lnTo>
                  <a:pt x="21600" y="31199"/>
                </a:lnTo>
                <a:lnTo>
                  <a:pt x="0" y="31199"/>
                </a:lnTo>
                <a:close/>
              </a:path>
              <a:path fill="lightenLess" w="21600" h="31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199">
                <a:moveTo>
                  <a:pt x="21600" y="0"/>
                </a:moveTo>
                <a:lnTo>
                  <a:pt x="21600" y="31199"/>
                </a:lnTo>
                <a:lnTo>
                  <a:pt x="20200" y="29799"/>
                </a:lnTo>
                <a:lnTo>
                  <a:pt x="20200" y="1400"/>
                </a:lnTo>
                <a:close/>
              </a:path>
              <a:path fill="darkenLess" w="21600" h="31199">
                <a:moveTo>
                  <a:pt x="21600" y="31199"/>
                </a:moveTo>
                <a:lnTo>
                  <a:pt x="0" y="31199"/>
                </a:lnTo>
                <a:lnTo>
                  <a:pt x="1400" y="29799"/>
                </a:lnTo>
                <a:lnTo>
                  <a:pt x="20200" y="29799"/>
                </a:lnTo>
                <a:close/>
              </a:path>
              <a:path fill="lighten" w="21600" h="31199">
                <a:moveTo>
                  <a:pt x="0" y="31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799"/>
                </a:lnTo>
                <a:close/>
              </a:path>
              <a:path fill="darken" w="21600" h="31199">
                <a:moveTo>
                  <a:pt x="10800" y="1960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1199">
                <a:moveTo>
                  <a:pt x="11905" y="19081"/>
                </a:moveTo>
                <a:lnTo>
                  <a:pt x="11905" y="17123"/>
                </a:lnTo>
                <a:cubicBezTo>
                  <a:pt x="11905" y="16296"/>
                  <a:pt x="12236" y="15599"/>
                  <a:pt x="12837" y="15599"/>
                </a:cubicBezTo>
                <a:cubicBezTo>
                  <a:pt x="13968" y="15599"/>
                  <a:pt x="14865" y="14233"/>
                  <a:pt x="14865" y="12649"/>
                </a:cubicBezTo>
                <a:cubicBezTo>
                  <a:pt x="14865" y="10334"/>
                  <a:pt x="13011" y="8593"/>
                  <a:pt x="10800" y="8593"/>
                </a:cubicBezTo>
                <a:cubicBezTo>
                  <a:pt x="8589" y="8593"/>
                  <a:pt x="6918" y="10334"/>
                  <a:pt x="6918" y="12649"/>
                </a:cubicBezTo>
                <a:lnTo>
                  <a:pt x="8772" y="12649"/>
                </a:lnTo>
                <a:cubicBezTo>
                  <a:pt x="8772" y="11509"/>
                  <a:pt x="9695" y="10621"/>
                  <a:pt x="10800" y="10621"/>
                </a:cubicBezTo>
                <a:cubicBezTo>
                  <a:pt x="11905" y="10621"/>
                  <a:pt x="12837" y="11509"/>
                  <a:pt x="12837" y="12649"/>
                </a:cubicBezTo>
                <a:cubicBezTo>
                  <a:pt x="12837" y="13389"/>
                  <a:pt x="12367" y="14120"/>
                  <a:pt x="11905" y="14120"/>
                </a:cubicBezTo>
                <a:cubicBezTo>
                  <a:pt x="10800" y="14120"/>
                  <a:pt x="9695" y="15599"/>
                  <a:pt x="9695" y="17123"/>
                </a:cubicBezTo>
                <a:lnTo>
                  <a:pt x="9695" y="19081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533520"/>
            <a:ext cx="792468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1a3c92"/>
                </a:solidFill>
                <a:latin typeface="Arial"/>
              </a:rPr>
              <a:t>Игра-виктор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1a3c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a3c92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1a3c92"/>
                </a:solidFill>
                <a:latin typeface="Arial"/>
              </a:rPr>
              <a:t>На игровом поле выберите любой ном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1a3c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a3c92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1a3c92"/>
                </a:solidFill>
                <a:latin typeface="Arial"/>
              </a:rPr>
              <a:t>За каждый правильный ответ – 1 бал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1a3c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a3c92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1a3c92"/>
                </a:solidFill>
                <a:latin typeface="Arial"/>
              </a:rPr>
              <a:t>Победит тот, кто наберет наибольшее количество бал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457200" y="304920"/>
          <a:ext cx="8305560" cy="6171840"/>
        </p:xfrm>
        <a:graphic>
          <a:graphicData uri="http://schemas.openxmlformats.org/drawingml/2006/table">
            <a:tbl>
              <a:tblPr/>
              <a:tblGrid>
                <a:gridCol w="2076480"/>
                <a:gridCol w="2076120"/>
                <a:gridCol w="2076480"/>
                <a:gridCol w="2076480"/>
              </a:tblGrid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2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3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4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5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6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685800" y="198108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89280" y="3618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83920" y="1556640"/>
            <a:ext cx="8436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Arial"/>
              </a:rPr>
              <a:t>Место для установк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Arial"/>
              </a:rPr>
              <a:t>памятни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Arial"/>
              </a:rPr>
              <a:t>выбрал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Arial"/>
              </a:rPr>
              <a:t>император Павел.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8458200" y="5867280"/>
            <a:ext cx="685800" cy="9907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90720"/>
              <a:gd name="textAreaBottom" fmla="*/ 946440 h 990720"/>
            </a:gdLst>
            <a:ahLst/>
            <a:rect l="textAreaLeft" t="textAreaTop" r="textAreaRight" b="textAreaBottom"/>
            <a:pathLst>
              <a:path w="21600" h="31199">
                <a:moveTo>
                  <a:pt x="0" y="0"/>
                </a:moveTo>
                <a:lnTo>
                  <a:pt x="21600" y="0"/>
                </a:lnTo>
                <a:lnTo>
                  <a:pt x="21600" y="31199"/>
                </a:lnTo>
                <a:lnTo>
                  <a:pt x="0" y="31199"/>
                </a:lnTo>
                <a:close/>
              </a:path>
              <a:path fill="lightenLess" w="21600" h="31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199">
                <a:moveTo>
                  <a:pt x="21600" y="0"/>
                </a:moveTo>
                <a:lnTo>
                  <a:pt x="21600" y="31199"/>
                </a:lnTo>
                <a:lnTo>
                  <a:pt x="20200" y="29799"/>
                </a:lnTo>
                <a:lnTo>
                  <a:pt x="20200" y="1400"/>
                </a:lnTo>
                <a:close/>
              </a:path>
              <a:path fill="darkenLess" w="21600" h="31199">
                <a:moveTo>
                  <a:pt x="21600" y="31199"/>
                </a:moveTo>
                <a:lnTo>
                  <a:pt x="0" y="31199"/>
                </a:lnTo>
                <a:lnTo>
                  <a:pt x="1400" y="29799"/>
                </a:lnTo>
                <a:lnTo>
                  <a:pt x="20200" y="29799"/>
                </a:lnTo>
                <a:close/>
              </a:path>
              <a:path fill="lighten" w="21600" h="31199">
                <a:moveTo>
                  <a:pt x="0" y="31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799"/>
                </a:lnTo>
                <a:close/>
              </a:path>
              <a:path fill="darken" w="21600" h="31199">
                <a:moveTo>
                  <a:pt x="10800" y="1960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1199">
                <a:moveTo>
                  <a:pt x="11905" y="19081"/>
                </a:moveTo>
                <a:lnTo>
                  <a:pt x="11905" y="17123"/>
                </a:lnTo>
                <a:cubicBezTo>
                  <a:pt x="11905" y="16296"/>
                  <a:pt x="12236" y="15599"/>
                  <a:pt x="12837" y="15599"/>
                </a:cubicBezTo>
                <a:cubicBezTo>
                  <a:pt x="13968" y="15599"/>
                  <a:pt x="14865" y="14233"/>
                  <a:pt x="14865" y="12649"/>
                </a:cubicBezTo>
                <a:cubicBezTo>
                  <a:pt x="14865" y="10334"/>
                  <a:pt x="13011" y="8593"/>
                  <a:pt x="10800" y="8593"/>
                </a:cubicBezTo>
                <a:cubicBezTo>
                  <a:pt x="8589" y="8593"/>
                  <a:pt x="6918" y="10334"/>
                  <a:pt x="6918" y="12649"/>
                </a:cubicBezTo>
                <a:lnTo>
                  <a:pt x="8772" y="12649"/>
                </a:lnTo>
                <a:cubicBezTo>
                  <a:pt x="8772" y="11509"/>
                  <a:pt x="9695" y="10621"/>
                  <a:pt x="10800" y="10621"/>
                </a:cubicBezTo>
                <a:cubicBezTo>
                  <a:pt x="11905" y="10621"/>
                  <a:pt x="12837" y="11509"/>
                  <a:pt x="12837" y="12649"/>
                </a:cubicBezTo>
                <a:cubicBezTo>
                  <a:pt x="12837" y="13389"/>
                  <a:pt x="12367" y="14120"/>
                  <a:pt x="11905" y="14120"/>
                </a:cubicBezTo>
                <a:cubicBezTo>
                  <a:pt x="10800" y="14120"/>
                  <a:pt x="9695" y="15599"/>
                  <a:pt x="9695" y="17123"/>
                </a:cubicBezTo>
                <a:lnTo>
                  <a:pt x="9695" y="19081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9480" y="1905840"/>
            <a:ext cx="784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Памятник установлен н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необычной площади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Частью ее являет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самый широкий мост горо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85345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  <a:path fill="darken" w="21600" h="29697">
                <a:moveTo>
                  <a:pt x="10800" y="1885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9697">
                <a:moveTo>
                  <a:pt x="11905" y="18330"/>
                </a:moveTo>
                <a:lnTo>
                  <a:pt x="11905" y="16372"/>
                </a:lnTo>
                <a:cubicBezTo>
                  <a:pt x="11905" y="15545"/>
                  <a:pt x="12236" y="14848"/>
                  <a:pt x="12837" y="14848"/>
                </a:cubicBezTo>
                <a:cubicBezTo>
                  <a:pt x="13968" y="14848"/>
                  <a:pt x="14865" y="13482"/>
                  <a:pt x="14865" y="11898"/>
                </a:cubicBezTo>
                <a:cubicBezTo>
                  <a:pt x="14865" y="9583"/>
                  <a:pt x="13011" y="7842"/>
                  <a:pt x="10800" y="7842"/>
                </a:cubicBezTo>
                <a:cubicBezTo>
                  <a:pt x="8589" y="7842"/>
                  <a:pt x="6918" y="9583"/>
                  <a:pt x="6918" y="11898"/>
                </a:cubicBezTo>
                <a:lnTo>
                  <a:pt x="8772" y="11898"/>
                </a:lnTo>
                <a:cubicBezTo>
                  <a:pt x="8772" y="10758"/>
                  <a:pt x="9695" y="9870"/>
                  <a:pt x="10800" y="9870"/>
                </a:cubicBezTo>
                <a:cubicBezTo>
                  <a:pt x="11905" y="9870"/>
                  <a:pt x="12837" y="10758"/>
                  <a:pt x="12837" y="11898"/>
                </a:cubicBezTo>
                <a:cubicBezTo>
                  <a:pt x="12837" y="12638"/>
                  <a:pt x="12367" y="13369"/>
                  <a:pt x="11905" y="13369"/>
                </a:cubicBezTo>
                <a:cubicBezTo>
                  <a:pt x="10800" y="13369"/>
                  <a:pt x="9695" y="14848"/>
                  <a:pt x="9695" y="16372"/>
                </a:cubicBezTo>
                <a:lnTo>
                  <a:pt x="9695" y="1833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" y="914040"/>
            <a:ext cx="8686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Медаль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«Дерзновению подобно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был отмечен труд всех петербуржцев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принимавших участие в доставк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и создании постамента этого памятник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85345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  <a:path fill="darken" w="21600" h="29697">
                <a:moveTo>
                  <a:pt x="10800" y="1885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9697">
                <a:moveTo>
                  <a:pt x="11905" y="18330"/>
                </a:moveTo>
                <a:lnTo>
                  <a:pt x="11905" y="16372"/>
                </a:lnTo>
                <a:cubicBezTo>
                  <a:pt x="11905" y="15545"/>
                  <a:pt x="12236" y="14848"/>
                  <a:pt x="12837" y="14848"/>
                </a:cubicBezTo>
                <a:cubicBezTo>
                  <a:pt x="13968" y="14848"/>
                  <a:pt x="14865" y="13482"/>
                  <a:pt x="14865" y="11898"/>
                </a:cubicBezTo>
                <a:cubicBezTo>
                  <a:pt x="14865" y="9583"/>
                  <a:pt x="13011" y="7842"/>
                  <a:pt x="10800" y="7842"/>
                </a:cubicBezTo>
                <a:cubicBezTo>
                  <a:pt x="8589" y="7842"/>
                  <a:pt x="6918" y="9583"/>
                  <a:pt x="6918" y="11898"/>
                </a:cubicBezTo>
                <a:lnTo>
                  <a:pt x="8772" y="11898"/>
                </a:lnTo>
                <a:cubicBezTo>
                  <a:pt x="8772" y="10758"/>
                  <a:pt x="9695" y="9870"/>
                  <a:pt x="10800" y="9870"/>
                </a:cubicBezTo>
                <a:cubicBezTo>
                  <a:pt x="11905" y="9870"/>
                  <a:pt x="12837" y="10758"/>
                  <a:pt x="12837" y="11898"/>
                </a:cubicBezTo>
                <a:cubicBezTo>
                  <a:pt x="12837" y="12638"/>
                  <a:pt x="12367" y="13369"/>
                  <a:pt x="11905" y="13369"/>
                </a:cubicBezTo>
                <a:cubicBezTo>
                  <a:pt x="10800" y="13369"/>
                  <a:pt x="9695" y="14848"/>
                  <a:pt x="9695" y="16372"/>
                </a:cubicBezTo>
                <a:lnTo>
                  <a:pt x="9695" y="1833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1400" y="3080520"/>
            <a:ext cx="870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Этот памятник – путешественни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8610480" y="6095880"/>
            <a:ext cx="533520" cy="7621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762120"/>
              <a:gd name="textAreaBottom" fmla="*/ 727560 h 762120"/>
            </a:gdLst>
            <a:ahLst/>
            <a:rect l="textAreaLeft" t="textAreaTop" r="textAreaRight" b="textAreaBottom"/>
            <a:pathLst>
              <a:path w="21600" h="30849">
                <a:moveTo>
                  <a:pt x="0" y="0"/>
                </a:moveTo>
                <a:lnTo>
                  <a:pt x="21600" y="0"/>
                </a:lnTo>
                <a:lnTo>
                  <a:pt x="21600" y="30849"/>
                </a:lnTo>
                <a:lnTo>
                  <a:pt x="0" y="30849"/>
                </a:lnTo>
                <a:close/>
              </a:path>
              <a:path fill="lightenLess" w="21600" h="308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849">
                <a:moveTo>
                  <a:pt x="21600" y="0"/>
                </a:moveTo>
                <a:lnTo>
                  <a:pt x="21600" y="30849"/>
                </a:lnTo>
                <a:lnTo>
                  <a:pt x="20200" y="29449"/>
                </a:lnTo>
                <a:lnTo>
                  <a:pt x="20200" y="1400"/>
                </a:lnTo>
                <a:close/>
              </a:path>
              <a:path fill="darkenLess" w="21600" h="30849">
                <a:moveTo>
                  <a:pt x="21600" y="30849"/>
                </a:moveTo>
                <a:lnTo>
                  <a:pt x="0" y="30849"/>
                </a:lnTo>
                <a:lnTo>
                  <a:pt x="1400" y="29449"/>
                </a:lnTo>
                <a:lnTo>
                  <a:pt x="20200" y="29449"/>
                </a:lnTo>
                <a:close/>
              </a:path>
              <a:path fill="lighten" w="21600" h="30849">
                <a:moveTo>
                  <a:pt x="0" y="308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449"/>
                </a:lnTo>
                <a:close/>
              </a:path>
              <a:path fill="darken" w="21600" h="30849">
                <a:moveTo>
                  <a:pt x="10800" y="1942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849">
                <a:moveTo>
                  <a:pt x="11905" y="18906"/>
                </a:moveTo>
                <a:lnTo>
                  <a:pt x="11905" y="16948"/>
                </a:lnTo>
                <a:cubicBezTo>
                  <a:pt x="11905" y="16121"/>
                  <a:pt x="12236" y="15424"/>
                  <a:pt x="12837" y="15424"/>
                </a:cubicBezTo>
                <a:cubicBezTo>
                  <a:pt x="13968" y="15424"/>
                  <a:pt x="14865" y="14058"/>
                  <a:pt x="14865" y="12474"/>
                </a:cubicBezTo>
                <a:cubicBezTo>
                  <a:pt x="14865" y="10159"/>
                  <a:pt x="13011" y="8418"/>
                  <a:pt x="10800" y="8418"/>
                </a:cubicBezTo>
                <a:cubicBezTo>
                  <a:pt x="8589" y="8418"/>
                  <a:pt x="6918" y="10159"/>
                  <a:pt x="6918" y="12474"/>
                </a:cubicBezTo>
                <a:lnTo>
                  <a:pt x="8772" y="12474"/>
                </a:lnTo>
                <a:cubicBezTo>
                  <a:pt x="8772" y="11334"/>
                  <a:pt x="9695" y="10446"/>
                  <a:pt x="10800" y="10446"/>
                </a:cubicBezTo>
                <a:cubicBezTo>
                  <a:pt x="11905" y="10446"/>
                  <a:pt x="12837" y="11334"/>
                  <a:pt x="12837" y="12474"/>
                </a:cubicBezTo>
                <a:cubicBezTo>
                  <a:pt x="12837" y="13214"/>
                  <a:pt x="12367" y="13945"/>
                  <a:pt x="11905" y="13945"/>
                </a:cubicBezTo>
                <a:cubicBezTo>
                  <a:pt x="10800" y="13945"/>
                  <a:pt x="9695" y="15424"/>
                  <a:pt x="9695" y="16948"/>
                </a:cubicBezTo>
                <a:lnTo>
                  <a:pt x="9695" y="189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38080" y="826920"/>
            <a:ext cx="7543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На постаменте этого памятника расположен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барельефы, рассказывающие 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знаменитых сражениях Северной войны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" action="ppaction://hlinkshowjump?jump=firstslide"/>
          </p:cNvPr>
          <p:cNvSpPr/>
          <p:nvPr/>
        </p:nvSpPr>
        <p:spPr>
          <a:xfrm>
            <a:off x="8458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  <a:path fill="darken" w="21600" h="26394">
                <a:moveTo>
                  <a:pt x="10800" y="1720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6394">
                <a:moveTo>
                  <a:pt x="11905" y="16678"/>
                </a:moveTo>
                <a:lnTo>
                  <a:pt x="11905" y="14720"/>
                </a:lnTo>
                <a:cubicBezTo>
                  <a:pt x="11905" y="13893"/>
                  <a:pt x="12236" y="13197"/>
                  <a:pt x="12837" y="13197"/>
                </a:cubicBezTo>
                <a:cubicBezTo>
                  <a:pt x="13968" y="13197"/>
                  <a:pt x="14865" y="11830"/>
                  <a:pt x="14865" y="10246"/>
                </a:cubicBezTo>
                <a:cubicBezTo>
                  <a:pt x="14865" y="7931"/>
                  <a:pt x="13011" y="6190"/>
                  <a:pt x="10800" y="6190"/>
                </a:cubicBezTo>
                <a:cubicBezTo>
                  <a:pt x="8589" y="6190"/>
                  <a:pt x="6918" y="7931"/>
                  <a:pt x="6918" y="10246"/>
                </a:cubicBezTo>
                <a:lnTo>
                  <a:pt x="8772" y="10246"/>
                </a:lnTo>
                <a:cubicBezTo>
                  <a:pt x="8772" y="9106"/>
                  <a:pt x="9695" y="8218"/>
                  <a:pt x="10800" y="8218"/>
                </a:cubicBezTo>
                <a:cubicBezTo>
                  <a:pt x="11905" y="8218"/>
                  <a:pt x="12837" y="9106"/>
                  <a:pt x="12837" y="10246"/>
                </a:cubicBezTo>
                <a:cubicBezTo>
                  <a:pt x="12837" y="10986"/>
                  <a:pt x="12367" y="11717"/>
                  <a:pt x="11905" y="11717"/>
                </a:cubicBezTo>
                <a:cubicBezTo>
                  <a:pt x="10800" y="11717"/>
                  <a:pt x="9695" y="13197"/>
                  <a:pt x="9695" y="14720"/>
                </a:cubicBezTo>
                <a:lnTo>
                  <a:pt x="9695" y="16678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6-22T08:24:2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