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B845-5EF8-4B2C-9438-678F7DD8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178C-ACCA-4233-80F2-1C1C734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40B-B844-46B4-83F8-2838356C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E5D-3BD6-499D-A622-AA0CB84B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E14F-41C1-410E-A8E1-7CE0E71D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CEAC-C988-4CB7-A414-68B3859D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C64F-2A10-49D5-8670-CFC9A1F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7DB-F262-4DFB-8A42-FF528586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32B4-2F59-4C03-9213-5F6DE077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FB1-A214-4D48-9A0C-924DB8D7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6FFA-1336-486E-9894-B32565C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60C-DF4A-4314-9702-76CC76ED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DBE-1787-4CC8-AFDA-E9B8DC1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41D8-7F2C-46E3-B91D-6E59BF4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F826-FF42-42C6-80BA-0F511991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793F-18AE-4CA7-B71E-FEB6C44C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E452-CD08-474B-AD63-6BB61E29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90A-A2E6-45D3-92B5-A8938D2D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883-08B9-483B-ADC6-9CDF0655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A96-C32A-4E67-908F-5ADE0C34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E4B-CEDD-419D-AFA1-65E3799A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837-2E40-4983-B24B-CB07037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9D3-8B4A-4D82-920C-3A74C7E0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87A-27A1-49F4-B4EF-4FB4894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B95A-6493-49E0-8C05-DA34D8DC81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14F8-D24C-4D27-86D5-7C8FD01957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5800" y="762120"/>
            <a:ext cx="70102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нны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амятники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тербурга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13694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Автор этого памятника – архитектор и скульпто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отец известного архитектора середины XVIII века, создателя Зимнего двор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2440" y="304992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Это первый памятник Ро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06776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а постаменте этого памятника расположе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барельефы, рассказывающие о правлении эт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импер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1295280"/>
            <a:ext cx="73152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Герой этого памятника предста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еред нами в вид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олководца-триумф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37160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Лошадь, на которой император изображен на памятнике, была названа  также,  как   дочь  и даже собака императо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762120"/>
            <a:ext cx="8076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Автор памятника – известный скульптор, создатель памятника И.А.Крылову в Летнем саду и колесницы богини Ники на Нарвских ворота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121932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Герой  памятника совсем не заслужил тех обидных слов, которые были посвящены его бронзовому изображен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1219320"/>
            <a:ext cx="79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Чтобы лучше передать портретное сходство, скульптор снял с лица царя гипсовый слепок и пользовался им в процессе работ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2952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На его постаменте скромная надпись: «Прадеду правнук. 1800»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99072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Скульптуры на постаменте памятника имеют портретное сходство с женой и дочерьми императо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260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28422" t="0" r="30528" b="0"/>
          <a:stretch/>
        </p:blipFill>
        <p:spPr>
          <a:xfrm>
            <a:off x="1905120" y="1752480"/>
            <a:ext cx="2795400" cy="5105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rcRect l="22192" t="0" r="33422" b="0"/>
          <a:stretch/>
        </p:blipFill>
        <p:spPr>
          <a:xfrm>
            <a:off x="5680080" y="1752480"/>
            <a:ext cx="3463920" cy="510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rcRect l="18691" t="0" r="17759" b="9409"/>
          <a:stretch/>
        </p:blipFill>
        <p:spPr>
          <a:xfrm>
            <a:off x="4038480" y="0"/>
            <a:ext cx="28450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920" y="1371600"/>
            <a:ext cx="8534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Какой поэт и какому памятнику посвятил эти строч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О мощный властелин судьб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Не так ли ты над самой бездно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На высоте, уздой желез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Россию поднял на дыб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79246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a3c92"/>
                </a:solidFill>
                <a:latin typeface="Arial"/>
              </a:rPr>
              <a:t>Игра-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На игровом поле выберите любой н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За каждый правильный ответ – 1 бал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1a3c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1a3c92"/>
                </a:solidFill>
                <a:latin typeface="Arial"/>
              </a:rPr>
              <a:t>Победит тот, кто наберет наибольшее количество бал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57200" y="304920"/>
          <a:ext cx="8305560" cy="6171840"/>
        </p:xfrm>
        <a:graphic>
          <a:graphicData uri="http://schemas.openxmlformats.org/drawingml/2006/table">
            <a:tbl>
              <a:tblPr/>
              <a:tblGrid>
                <a:gridCol w="2076480"/>
                <a:gridCol w="2076120"/>
                <a:gridCol w="2076480"/>
                <a:gridCol w="2076480"/>
              </a:tblGrid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0" spc="-1" strike="noStrike" u="sng">
                          <a:solidFill>
                            <a:srgbClr val="7e9ce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4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6</a:t>
                      </a:r>
                      <a:endParaRPr b="0" lang="en-US" sz="9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85800" y="198108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89280" y="361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83920" y="1556640"/>
            <a:ext cx="843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Место для установ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памятни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выбрал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Arial"/>
              </a:rPr>
              <a:t>император Павел.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8458200" y="5867280"/>
            <a:ext cx="685800" cy="9907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990720"/>
              <a:gd name="textAreaBottom" fmla="*/ 946440 h 990720"/>
            </a:gdLst>
            <a:ahLst/>
            <a:rect l="textAreaLeft" t="textAreaTop" r="textAreaRight" b="textAreaBottom"/>
            <a:pathLst>
              <a:path w="21600" h="31199">
                <a:moveTo>
                  <a:pt x="0" y="0"/>
                </a:moveTo>
                <a:lnTo>
                  <a:pt x="21600" y="0"/>
                </a:lnTo>
                <a:lnTo>
                  <a:pt x="21600" y="31199"/>
                </a:lnTo>
                <a:lnTo>
                  <a:pt x="0" y="31199"/>
                </a:lnTo>
                <a:close/>
              </a:path>
              <a:path fill="lightenLess" w="21600" h="31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199">
                <a:moveTo>
                  <a:pt x="21600" y="0"/>
                </a:moveTo>
                <a:lnTo>
                  <a:pt x="21600" y="31199"/>
                </a:lnTo>
                <a:lnTo>
                  <a:pt x="20200" y="29799"/>
                </a:lnTo>
                <a:lnTo>
                  <a:pt x="20200" y="1400"/>
                </a:lnTo>
                <a:close/>
              </a:path>
              <a:path fill="darkenLess" w="21600" h="31199">
                <a:moveTo>
                  <a:pt x="21600" y="31199"/>
                </a:moveTo>
                <a:lnTo>
                  <a:pt x="0" y="31199"/>
                </a:lnTo>
                <a:lnTo>
                  <a:pt x="1400" y="29799"/>
                </a:lnTo>
                <a:lnTo>
                  <a:pt x="20200" y="29799"/>
                </a:lnTo>
                <a:close/>
              </a:path>
              <a:path fill="lighten" w="21600" h="31199">
                <a:moveTo>
                  <a:pt x="0" y="31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799"/>
                </a:lnTo>
                <a:close/>
              </a:path>
              <a:path fill="darken" w="21600" h="31199">
                <a:moveTo>
                  <a:pt x="10800" y="1960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1199">
                <a:moveTo>
                  <a:pt x="11905" y="19081"/>
                </a:moveTo>
                <a:lnTo>
                  <a:pt x="11905" y="17123"/>
                </a:lnTo>
                <a:cubicBezTo>
                  <a:pt x="11905" y="16296"/>
                  <a:pt x="12236" y="15599"/>
                  <a:pt x="12837" y="15599"/>
                </a:cubicBezTo>
                <a:cubicBezTo>
                  <a:pt x="13968" y="15599"/>
                  <a:pt x="14865" y="14233"/>
                  <a:pt x="14865" y="12649"/>
                </a:cubicBezTo>
                <a:cubicBezTo>
                  <a:pt x="14865" y="10334"/>
                  <a:pt x="13011" y="8593"/>
                  <a:pt x="10800" y="8593"/>
                </a:cubicBezTo>
                <a:cubicBezTo>
                  <a:pt x="8589" y="8593"/>
                  <a:pt x="6918" y="10334"/>
                  <a:pt x="6918" y="12649"/>
                </a:cubicBezTo>
                <a:lnTo>
                  <a:pt x="8772" y="12649"/>
                </a:lnTo>
                <a:cubicBezTo>
                  <a:pt x="8772" y="11509"/>
                  <a:pt x="9695" y="10621"/>
                  <a:pt x="10800" y="10621"/>
                </a:cubicBezTo>
                <a:cubicBezTo>
                  <a:pt x="11905" y="10621"/>
                  <a:pt x="12837" y="11509"/>
                  <a:pt x="12837" y="12649"/>
                </a:cubicBezTo>
                <a:cubicBezTo>
                  <a:pt x="12837" y="13389"/>
                  <a:pt x="12367" y="14120"/>
                  <a:pt x="11905" y="14120"/>
                </a:cubicBezTo>
                <a:cubicBezTo>
                  <a:pt x="10800" y="14120"/>
                  <a:pt x="9695" y="15599"/>
                  <a:pt x="9695" y="17123"/>
                </a:cubicBezTo>
                <a:lnTo>
                  <a:pt x="9695" y="19081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1905840"/>
            <a:ext cx="78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Памятник установлен 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еобычной площади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Частью ее явля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самый широкий мост гор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1885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697">
                <a:moveTo>
                  <a:pt x="11905" y="18330"/>
                </a:moveTo>
                <a:lnTo>
                  <a:pt x="11905" y="16372"/>
                </a:lnTo>
                <a:cubicBezTo>
                  <a:pt x="11905" y="15545"/>
                  <a:pt x="12236" y="14848"/>
                  <a:pt x="12837" y="14848"/>
                </a:cubicBezTo>
                <a:cubicBezTo>
                  <a:pt x="13968" y="14848"/>
                  <a:pt x="14865" y="13482"/>
                  <a:pt x="14865" y="11898"/>
                </a:cubicBezTo>
                <a:cubicBezTo>
                  <a:pt x="14865" y="9583"/>
                  <a:pt x="13011" y="7842"/>
                  <a:pt x="10800" y="7842"/>
                </a:cubicBezTo>
                <a:cubicBezTo>
                  <a:pt x="8589" y="7842"/>
                  <a:pt x="6918" y="9583"/>
                  <a:pt x="6918" y="11898"/>
                </a:cubicBezTo>
                <a:lnTo>
                  <a:pt x="8772" y="11898"/>
                </a:lnTo>
                <a:cubicBezTo>
                  <a:pt x="8772" y="10758"/>
                  <a:pt x="9695" y="9870"/>
                  <a:pt x="10800" y="9870"/>
                </a:cubicBezTo>
                <a:cubicBezTo>
                  <a:pt x="11905" y="9870"/>
                  <a:pt x="12837" y="10758"/>
                  <a:pt x="12837" y="11898"/>
                </a:cubicBezTo>
                <a:cubicBezTo>
                  <a:pt x="12837" y="12638"/>
                  <a:pt x="12367" y="13369"/>
                  <a:pt x="11905" y="13369"/>
                </a:cubicBezTo>
                <a:cubicBezTo>
                  <a:pt x="10800" y="13369"/>
                  <a:pt x="9695" y="14848"/>
                  <a:pt x="9695" y="16372"/>
                </a:cubicBezTo>
                <a:lnTo>
                  <a:pt x="9695" y="1833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914040"/>
            <a:ext cx="8686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Медал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«Дерзновению подобн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был отмечен труд всех петербуржце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принимавших участие в достав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и создании постамента этого памятни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5345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  <a:path fill="darken" w="21600" h="29697">
                <a:moveTo>
                  <a:pt x="10800" y="1885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9697">
                <a:moveTo>
                  <a:pt x="11905" y="18330"/>
                </a:moveTo>
                <a:lnTo>
                  <a:pt x="11905" y="16372"/>
                </a:lnTo>
                <a:cubicBezTo>
                  <a:pt x="11905" y="15545"/>
                  <a:pt x="12236" y="14848"/>
                  <a:pt x="12837" y="14848"/>
                </a:cubicBezTo>
                <a:cubicBezTo>
                  <a:pt x="13968" y="14848"/>
                  <a:pt x="14865" y="13482"/>
                  <a:pt x="14865" y="11898"/>
                </a:cubicBezTo>
                <a:cubicBezTo>
                  <a:pt x="14865" y="9583"/>
                  <a:pt x="13011" y="7842"/>
                  <a:pt x="10800" y="7842"/>
                </a:cubicBezTo>
                <a:cubicBezTo>
                  <a:pt x="8589" y="7842"/>
                  <a:pt x="6918" y="9583"/>
                  <a:pt x="6918" y="11898"/>
                </a:cubicBezTo>
                <a:lnTo>
                  <a:pt x="8772" y="11898"/>
                </a:lnTo>
                <a:cubicBezTo>
                  <a:pt x="8772" y="10758"/>
                  <a:pt x="9695" y="9870"/>
                  <a:pt x="10800" y="9870"/>
                </a:cubicBezTo>
                <a:cubicBezTo>
                  <a:pt x="11905" y="9870"/>
                  <a:pt x="12837" y="10758"/>
                  <a:pt x="12837" y="11898"/>
                </a:cubicBezTo>
                <a:cubicBezTo>
                  <a:pt x="12837" y="12638"/>
                  <a:pt x="12367" y="13369"/>
                  <a:pt x="11905" y="13369"/>
                </a:cubicBezTo>
                <a:cubicBezTo>
                  <a:pt x="10800" y="13369"/>
                  <a:pt x="9695" y="14848"/>
                  <a:pt x="9695" y="16372"/>
                </a:cubicBezTo>
                <a:lnTo>
                  <a:pt x="9695" y="1833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1400" y="3080520"/>
            <a:ext cx="870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Этот памятник – путешественни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8610480" y="6095880"/>
            <a:ext cx="533520" cy="7621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2120"/>
              <a:gd name="textAreaBottom" fmla="*/ 727560 h 762120"/>
            </a:gdLst>
            <a:ahLst/>
            <a:rect l="textAreaLeft" t="textAreaTop" r="textAreaRight" b="textAreaBottom"/>
            <a:pathLst>
              <a:path w="21600" h="30849">
                <a:moveTo>
                  <a:pt x="0" y="0"/>
                </a:moveTo>
                <a:lnTo>
                  <a:pt x="21600" y="0"/>
                </a:lnTo>
                <a:lnTo>
                  <a:pt x="21600" y="30849"/>
                </a:lnTo>
                <a:lnTo>
                  <a:pt x="0" y="30849"/>
                </a:lnTo>
                <a:close/>
              </a:path>
              <a:path fill="lightenLess" w="21600" h="308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9">
                <a:moveTo>
                  <a:pt x="21600" y="0"/>
                </a:moveTo>
                <a:lnTo>
                  <a:pt x="21600" y="30849"/>
                </a:lnTo>
                <a:lnTo>
                  <a:pt x="20200" y="29449"/>
                </a:lnTo>
                <a:lnTo>
                  <a:pt x="20200" y="1400"/>
                </a:lnTo>
                <a:close/>
              </a:path>
              <a:path fill="darkenLess" w="21600" h="30849">
                <a:moveTo>
                  <a:pt x="21600" y="30849"/>
                </a:moveTo>
                <a:lnTo>
                  <a:pt x="0" y="30849"/>
                </a:lnTo>
                <a:lnTo>
                  <a:pt x="1400" y="29449"/>
                </a:lnTo>
                <a:lnTo>
                  <a:pt x="20200" y="29449"/>
                </a:lnTo>
                <a:close/>
              </a:path>
              <a:path fill="lighten" w="21600" h="30849">
                <a:moveTo>
                  <a:pt x="0" y="308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9"/>
                </a:lnTo>
                <a:close/>
              </a:path>
              <a:path fill="darken" w="21600" h="30849">
                <a:moveTo>
                  <a:pt x="10800" y="1942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0849">
                <a:moveTo>
                  <a:pt x="11905" y="18906"/>
                </a:moveTo>
                <a:lnTo>
                  <a:pt x="11905" y="16948"/>
                </a:lnTo>
                <a:cubicBezTo>
                  <a:pt x="11905" y="16121"/>
                  <a:pt x="12236" y="15424"/>
                  <a:pt x="12837" y="15424"/>
                </a:cubicBezTo>
                <a:cubicBezTo>
                  <a:pt x="13968" y="15424"/>
                  <a:pt x="14865" y="14058"/>
                  <a:pt x="14865" y="12474"/>
                </a:cubicBezTo>
                <a:cubicBezTo>
                  <a:pt x="14865" y="10159"/>
                  <a:pt x="13011" y="8418"/>
                  <a:pt x="10800" y="8418"/>
                </a:cubicBezTo>
                <a:cubicBezTo>
                  <a:pt x="8589" y="8418"/>
                  <a:pt x="6918" y="10159"/>
                  <a:pt x="6918" y="12474"/>
                </a:cubicBezTo>
                <a:lnTo>
                  <a:pt x="8772" y="12474"/>
                </a:lnTo>
                <a:cubicBezTo>
                  <a:pt x="8772" y="11334"/>
                  <a:pt x="9695" y="10446"/>
                  <a:pt x="10800" y="10446"/>
                </a:cubicBezTo>
                <a:cubicBezTo>
                  <a:pt x="11905" y="10446"/>
                  <a:pt x="12837" y="11334"/>
                  <a:pt x="12837" y="12474"/>
                </a:cubicBezTo>
                <a:cubicBezTo>
                  <a:pt x="12837" y="13214"/>
                  <a:pt x="12367" y="13945"/>
                  <a:pt x="11905" y="13945"/>
                </a:cubicBezTo>
                <a:cubicBezTo>
                  <a:pt x="10800" y="13945"/>
                  <a:pt x="9695" y="15424"/>
                  <a:pt x="9695" y="16948"/>
                </a:cubicBezTo>
                <a:lnTo>
                  <a:pt x="9695" y="189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080" y="826920"/>
            <a:ext cx="7543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На постаменте этого памятника расположен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барельефы, рассказывающие 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знаменитых сражениях Северной войны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8458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  <a:path fill="darken" w="21600" h="26394">
                <a:moveTo>
                  <a:pt x="10800" y="17201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394">
                <a:moveTo>
                  <a:pt x="11905" y="16678"/>
                </a:moveTo>
                <a:lnTo>
                  <a:pt x="11905" y="14720"/>
                </a:lnTo>
                <a:cubicBezTo>
                  <a:pt x="11905" y="13893"/>
                  <a:pt x="12236" y="13197"/>
                  <a:pt x="12837" y="13197"/>
                </a:cubicBezTo>
                <a:cubicBezTo>
                  <a:pt x="13968" y="13197"/>
                  <a:pt x="14865" y="11830"/>
                  <a:pt x="14865" y="10246"/>
                </a:cubicBezTo>
                <a:cubicBezTo>
                  <a:pt x="14865" y="7931"/>
                  <a:pt x="13011" y="6190"/>
                  <a:pt x="10800" y="6190"/>
                </a:cubicBezTo>
                <a:cubicBezTo>
                  <a:pt x="8589" y="6190"/>
                  <a:pt x="6918" y="7931"/>
                  <a:pt x="6918" y="10246"/>
                </a:cubicBezTo>
                <a:lnTo>
                  <a:pt x="8772" y="10246"/>
                </a:lnTo>
                <a:cubicBezTo>
                  <a:pt x="8772" y="9106"/>
                  <a:pt x="9695" y="8218"/>
                  <a:pt x="10800" y="8218"/>
                </a:cubicBezTo>
                <a:cubicBezTo>
                  <a:pt x="11905" y="8218"/>
                  <a:pt x="12837" y="9106"/>
                  <a:pt x="12837" y="10246"/>
                </a:cubicBezTo>
                <a:cubicBezTo>
                  <a:pt x="12837" y="10986"/>
                  <a:pt x="12367" y="11717"/>
                  <a:pt x="11905" y="11717"/>
                </a:cubicBezTo>
                <a:cubicBezTo>
                  <a:pt x="10800" y="11717"/>
                  <a:pt x="9695" y="13197"/>
                  <a:pt x="9695" y="14720"/>
                </a:cubicBezTo>
                <a:lnTo>
                  <a:pt x="9695" y="16678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2T08:24:2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