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04A-74B8-4F1B-961C-D0A64427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E32-3EFA-4892-A39C-79011943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C74-E9A2-4682-B7A3-BAAC6055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79D-928B-45C8-BE0D-DBB7F15D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179-2FCC-4F2C-959F-5F0F7370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0A7-E80A-4C4B-95A9-0F83655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1624-9A24-4A45-BE29-F0CEC62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E4D1-8113-42A1-9639-40E84346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8C90-E243-48B8-A618-680E490A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A17E-0B82-43A7-A1A9-3422C6AC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4B3-A238-4E16-B720-E21A9592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E76-6249-40BD-9083-7860B44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A2C3-773D-42B5-9E4B-ECCAEA9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4A35-1402-471A-AF4B-6DE5461F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41C5-1DA7-43AC-B5A5-6CCDC4BF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DE1-481D-4D76-BD6B-52205656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5BB2-6427-478E-8DA7-887E2171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93C-2402-4929-9147-E0EBD6F7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F74-BB38-4CCD-981C-3A951B22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CA1-3596-4B3D-9B26-B8CC0070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92D-B1CE-4CF4-8809-9EFAFC6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A82-0B45-4653-AEB8-339184C7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B05-E2B7-40CC-937A-C7A1E5EF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326-6E36-438E-A594-DA0C971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D26F-49A1-4DDE-9C38-33023E66D49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C5D-46B5-4E98-AE98-4F7B1BC03733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73080" y="2004840"/>
            <a:ext cx="9388440" cy="2189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19280" y="5516640"/>
            <a:ext cx="611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Хмельнова Анаста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ученица 2 «А» 878 школы Г. Моск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0"/>
            <a:ext cx="357192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8640" indent="-36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ждому из нас необходимо такое место, где тебя любят, где не надо притворяться, где тебя не обманут, где тебе спокойно и хорошо, где можно отдохнуть душой. И такое место - это  семья, д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Содержимое 4" descr="DSCN0618.JPG"/>
          <p:cNvPicPr/>
          <p:nvPr/>
        </p:nvPicPr>
        <p:blipFill>
          <a:blip r:embed="rId2"/>
          <a:stretch/>
        </p:blipFill>
        <p:spPr>
          <a:xfrm>
            <a:off x="3429000" y="785880"/>
            <a:ext cx="5715000" cy="45003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IMG_2113.JPG"/>
          <p:cNvPicPr/>
          <p:nvPr/>
        </p:nvPicPr>
        <p:blipFill>
          <a:blip r:embed="rId2"/>
          <a:stretch/>
        </p:blipFill>
        <p:spPr>
          <a:xfrm>
            <a:off x="0" y="928800"/>
            <a:ext cx="5929200" cy="4714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00480" y="356760"/>
            <a:ext cx="3143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ья – это самое главное в нашей жизн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емья – это люди, те, кого мы любим, с кого берём пример, о ком заботимся, кому желаем доб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3120" indent="-393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енно в семье мы учимся любви, ответственности, заботе и уважени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14480" y="189000"/>
            <a:ext cx="54291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моей  семье  есть две бабушки и два дедушки,   мамочка  и папочка, мой дядя Леша и конечно я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8" descr="DSCN5962.JPG"/>
          <p:cNvPicPr/>
          <p:nvPr/>
        </p:nvPicPr>
        <p:blipFill>
          <a:blip r:embed="rId2"/>
          <a:stretch/>
        </p:blipFill>
        <p:spPr>
          <a:xfrm>
            <a:off x="-252360" y="0"/>
            <a:ext cx="3657600" cy="45910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0" descr="DSC03993.JPG"/>
          <p:cNvPicPr/>
          <p:nvPr/>
        </p:nvPicPr>
        <p:blipFill>
          <a:blip r:embed="rId3"/>
          <a:stretch/>
        </p:blipFill>
        <p:spPr>
          <a:xfrm>
            <a:off x="0" y="3714840"/>
            <a:ext cx="4429080" cy="31431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DSC02040.JPG"/>
          <p:cNvPicPr/>
          <p:nvPr/>
        </p:nvPicPr>
        <p:blipFill>
          <a:blip r:embed="rId4"/>
          <a:stretch/>
        </p:blipFill>
        <p:spPr>
          <a:xfrm>
            <a:off x="3132000" y="2214720"/>
            <a:ext cx="6586560" cy="4643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142880" y="0"/>
            <a:ext cx="50007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У каждого в доме есть свои обязанности. Мама с бабушкой готовят нам вкусную еду. Убирают в квартире. Мужчины следят за тем, чтобы в доме все работало, а так же помогают по хозяйству, покупают продукты. А я помогаю вс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Содержимое 4" descr="P1010021.JPG"/>
          <p:cNvPicPr/>
          <p:nvPr/>
        </p:nvPicPr>
        <p:blipFill>
          <a:blip r:embed="rId2"/>
          <a:stretch/>
        </p:blipFill>
        <p:spPr>
          <a:xfrm>
            <a:off x="214200" y="285840"/>
            <a:ext cx="3857760" cy="56433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P1010021.JPG"/>
          <p:cNvPicPr/>
          <p:nvPr/>
        </p:nvPicPr>
        <p:blipFill>
          <a:blip r:embed="rId3"/>
          <a:stretch/>
        </p:blipFill>
        <p:spPr>
          <a:xfrm>
            <a:off x="4429080" y="3286080"/>
            <a:ext cx="4500720" cy="33861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4" descr="DSC00899.JPG"/>
          <p:cNvPicPr/>
          <p:nvPr/>
        </p:nvPicPr>
        <p:blipFill>
          <a:blip r:embed="rId2"/>
          <a:stretch/>
        </p:blipFill>
        <p:spPr>
          <a:xfrm>
            <a:off x="0" y="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14200" y="3071520"/>
            <a:ext cx="32860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Мы живем все вместе очень дружно. У нас есть свои семейные традиц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Летом мы ездим отдыхать на море, а потом мы едем на дачу. Бабушка у нас знатный садовод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9" descr="DSC01762.JPG"/>
          <p:cNvPicPr/>
          <p:nvPr/>
        </p:nvPicPr>
        <p:blipFill>
          <a:blip r:embed="rId3"/>
          <a:stretch/>
        </p:blipFill>
        <p:spPr>
          <a:xfrm>
            <a:off x="4071960" y="0"/>
            <a:ext cx="5072040" cy="33577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6" descr="DSC02038.JPG"/>
          <p:cNvPicPr/>
          <p:nvPr/>
        </p:nvPicPr>
        <p:blipFill>
          <a:blip r:embed="rId4"/>
          <a:stretch/>
        </p:blipFill>
        <p:spPr>
          <a:xfrm>
            <a:off x="3809880" y="3000240"/>
            <a:ext cx="53341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142560"/>
            <a:ext cx="46432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4840" indent="-384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каждой семье есть свои даты и события, воспоминания,  которыми мы очень дорожим! Нет ничего в жизни важнее и роднее, чем моя семья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4840" indent="-38484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840" indent="-384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Содержимое 4" descr="DSC00094.JPG"/>
          <p:cNvPicPr/>
          <p:nvPr/>
        </p:nvPicPr>
        <p:blipFill>
          <a:blip r:embed="rId2"/>
          <a:stretch/>
        </p:blipFill>
        <p:spPr>
          <a:xfrm>
            <a:off x="5000760" y="642960"/>
            <a:ext cx="3929040" cy="5238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1" descr="DSCN1474.JPG"/>
          <p:cNvPicPr/>
          <p:nvPr/>
        </p:nvPicPr>
        <p:blipFill>
          <a:blip r:embed="rId3"/>
          <a:stretch/>
        </p:blipFill>
        <p:spPr>
          <a:xfrm>
            <a:off x="142920" y="27860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мья – это то, что мы делим на все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сего понемножку: и слезы и смех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злёт и падение, радость, печаль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ружба и ссоры, молчанья печат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мья – это то, что с тобою всегд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усть мчатся секунды, недели, года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Но стены родные, любимый мой дом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Сердце навеки останется в нем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5:32:17Z</dcterms:created>
  <dc:creator>Admin</dc:creator>
  <dc:description/>
  <dc:language>en-US</dc:language>
  <cp:lastModifiedBy>878</cp:lastModifiedBy>
  <dcterms:modified xsi:type="dcterms:W3CDTF">2012-06-22T07:10:39Z</dcterms:modified>
  <cp:revision>42</cp:revision>
  <dc:subject/>
  <dc:title>Моя Семья</dc:title>
</cp:coreProperties>
</file>