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E04-DCE8-47E9-A02A-089C5EF1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85CC-14BE-4C38-98A8-D382EFE7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32DC-6206-4F9B-AE2C-4A3336AA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BA86-4EAB-4517-BC0A-BF4D482A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1462-D021-40EE-A59D-BEF23C47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359E-4AEB-44B3-A344-DF6ECAA0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FA2C-90D7-4A19-831C-8F812397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D3B6-4ECC-4015-8ECC-6E28E9A9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2ADF-6DC0-4E12-8DDC-4B2EDBDA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C4A3-DE10-4847-A43F-2981B7AB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CC54-F8F4-4E1A-8839-6C17607D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A68B-C522-4111-97B9-9E54DDC3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3372-107A-4E29-9C3C-7831A1DF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A3E0-5287-4345-9933-1126FAFB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20D2-68FA-4D1A-B1DC-49A0B822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9DB5-765B-46EA-8750-08ACDB2B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042E-ADC0-4F29-8870-109B6D8E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99E-4F05-4F72-912A-CED6BD25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6529-4133-48B0-ACAA-9BD8094E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970B-48BB-40FA-8DC2-05748C2D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B03E-89DF-4789-B3B6-F7D36612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C4D-8EDB-48E1-96A1-48A46814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C039-3939-420A-A9ED-421668F8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DD6-8B72-460F-BBC3-7F904902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0492-6FA7-434C-A176-649FC29E612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C339-4856-495F-90E6-0FB5D2F1B60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73080" y="2004840"/>
            <a:ext cx="9388440" cy="2189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19280" y="5516640"/>
            <a:ext cx="611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Хмельнова Анаста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ченица 2 «А» 878 школы Г. Моск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0"/>
            <a:ext cx="357192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8640" indent="-36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аждому из нас необходимо такое место, где тебя любят, где не надо притворяться, где тебя не обманут, где тебе спокойно и хорошо, где можно отдохнуть душой. И такое место - это  семья, д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Содержимое 4" descr="DSCN0618.JPG"/>
          <p:cNvPicPr/>
          <p:nvPr/>
        </p:nvPicPr>
        <p:blipFill>
          <a:blip r:embed="rId2"/>
          <a:stretch/>
        </p:blipFill>
        <p:spPr>
          <a:xfrm>
            <a:off x="3429000" y="785880"/>
            <a:ext cx="5715000" cy="45003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IMG_2113.JPG"/>
          <p:cNvPicPr/>
          <p:nvPr/>
        </p:nvPicPr>
        <p:blipFill>
          <a:blip r:embed="rId2"/>
          <a:stretch/>
        </p:blipFill>
        <p:spPr>
          <a:xfrm>
            <a:off x="0" y="928800"/>
            <a:ext cx="5929200" cy="4714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00480" y="356760"/>
            <a:ext cx="3143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3120" indent="-393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емья – это самое главное в нашей жизн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3120" indent="-393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емья – это люди, те, кого мы любим, с кого берём пример, о ком заботимся, кому желаем доб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3120" indent="-393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менно в семье мы учимся любви, ответственности, заботе и уважени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714480" y="189000"/>
            <a:ext cx="54291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9680" indent="-409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 моей  семье  есть две бабушки и два дедушки,   мамочка  и папочка, мой дядя Леша и конечно я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09680" indent="-409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Рисунок 8" descr="DSCN5962.JPG"/>
          <p:cNvPicPr/>
          <p:nvPr/>
        </p:nvPicPr>
        <p:blipFill>
          <a:blip r:embed="rId2"/>
          <a:stretch/>
        </p:blipFill>
        <p:spPr>
          <a:xfrm>
            <a:off x="-252360" y="0"/>
            <a:ext cx="3657600" cy="45910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0" descr="DSC03993.JPG"/>
          <p:cNvPicPr/>
          <p:nvPr/>
        </p:nvPicPr>
        <p:blipFill>
          <a:blip r:embed="rId3"/>
          <a:stretch/>
        </p:blipFill>
        <p:spPr>
          <a:xfrm>
            <a:off x="0" y="3714840"/>
            <a:ext cx="4429080" cy="314316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DSC02040.JPG"/>
          <p:cNvPicPr/>
          <p:nvPr/>
        </p:nvPicPr>
        <p:blipFill>
          <a:blip r:embed="rId4"/>
          <a:stretch/>
        </p:blipFill>
        <p:spPr>
          <a:xfrm>
            <a:off x="3132000" y="2214720"/>
            <a:ext cx="6586560" cy="46432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142880" y="0"/>
            <a:ext cx="50007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9680" indent="-409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У каждого в доме есть свои обязанности. Мама с бабушкой готовят нам вкусную еду. Убирают в квартире. Мужчины следят за тем, чтобы в доме все работало, а так же помогают по хозяйству, покупают продукты. А я помогаю все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09680" indent="-409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Содержимое 4" descr="P1010021.JPG"/>
          <p:cNvPicPr/>
          <p:nvPr/>
        </p:nvPicPr>
        <p:blipFill>
          <a:blip r:embed="rId2"/>
          <a:stretch/>
        </p:blipFill>
        <p:spPr>
          <a:xfrm>
            <a:off x="214200" y="285840"/>
            <a:ext cx="3857760" cy="564336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P1010021.JPG"/>
          <p:cNvPicPr/>
          <p:nvPr/>
        </p:nvPicPr>
        <p:blipFill>
          <a:blip r:embed="rId3"/>
          <a:stretch/>
        </p:blipFill>
        <p:spPr>
          <a:xfrm>
            <a:off x="4429080" y="3286080"/>
            <a:ext cx="4500720" cy="33861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4" descr="DSC00899.JPG"/>
          <p:cNvPicPr/>
          <p:nvPr/>
        </p:nvPicPr>
        <p:blipFill>
          <a:blip r:embed="rId2"/>
          <a:stretch/>
        </p:blipFill>
        <p:spPr>
          <a:xfrm>
            <a:off x="0" y="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14200" y="3071520"/>
            <a:ext cx="32860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Мы живем все вместе очень дружно. У нас есть свои семейные традици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Летом мы ездим отдыхать на море, а потом мы едем на дачу. Бабушка у нас знатный садовод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Рисунок 9" descr="DSC01762.JPG"/>
          <p:cNvPicPr/>
          <p:nvPr/>
        </p:nvPicPr>
        <p:blipFill>
          <a:blip r:embed="rId3"/>
          <a:stretch/>
        </p:blipFill>
        <p:spPr>
          <a:xfrm>
            <a:off x="4071960" y="0"/>
            <a:ext cx="5072040" cy="33577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DSC02038.JPG"/>
          <p:cNvPicPr/>
          <p:nvPr/>
        </p:nvPicPr>
        <p:blipFill>
          <a:blip r:embed="rId4"/>
          <a:stretch/>
        </p:blipFill>
        <p:spPr>
          <a:xfrm>
            <a:off x="3809880" y="3000240"/>
            <a:ext cx="5334120" cy="38577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142560"/>
            <a:ext cx="46432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4840" indent="-384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 каждой семье есть свои даты и события, воспоминания,  которыми мы очень дорожим! Нет ничего в жизни важнее и роднее, чем моя семья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840" indent="-384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840" indent="-384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Содержимое 4" descr="DSC00094.JPG"/>
          <p:cNvPicPr/>
          <p:nvPr/>
        </p:nvPicPr>
        <p:blipFill>
          <a:blip r:embed="rId2"/>
          <a:stretch/>
        </p:blipFill>
        <p:spPr>
          <a:xfrm>
            <a:off x="5000760" y="642960"/>
            <a:ext cx="3929040" cy="52387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1" descr="DSCN1474.JPG"/>
          <p:cNvPicPr/>
          <p:nvPr/>
        </p:nvPicPr>
        <p:blipFill>
          <a:blip r:embed="rId3"/>
          <a:stretch/>
        </p:blipFill>
        <p:spPr>
          <a:xfrm>
            <a:off x="142920" y="27860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емья – это то, что мы делим на всех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сего понемножку: и слезы и смех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злёт и падение, радость, печаль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Дружба и ссоры, молчанья печат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емья – это то, что с тобою всегд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усть мчатся секунды, недели, года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Но стены родные, любимый мой дом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ердце навеки останется в нем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05:32:17Z</dcterms:created>
  <dc:creator>Admin</dc:creator>
  <dc:description/>
  <dc:language>en-US</dc:language>
  <cp:lastModifiedBy>878</cp:lastModifiedBy>
  <dcterms:modified xsi:type="dcterms:W3CDTF">2012-06-22T07:10:39Z</dcterms:modified>
  <cp:revision>42</cp:revision>
  <dc:subject/>
  <dc:title>Моя Семья</dc:title>
</cp:coreProperties>
</file>