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1.wmf" ContentType="image/x-wmf"/>
  <Override PartName="/ppt/media/image4.gif" ContentType="image/gif"/>
  <Override PartName="/ppt/media/image8.png" ContentType="image/png"/>
  <Override PartName="/ppt/media/image5.gif" ContentType="image/gif"/>
  <Override PartName="/ppt/media/image7.gif" ContentType="image/gi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19A-E6E4-4060-8A45-779ED487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341-DA64-4D70-9F6D-AE336FC0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5BD-3B5B-42A7-8F0F-5CC97BD6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F24-7B71-456F-89A6-B453BA47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74B88-95EC-43C1-98BE-1EAE5880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6207B-3E86-46B8-A020-CB59D2DE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CCF6-71D2-464E-90A3-EF57DC3F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5B1FA-6E03-4D67-A375-C52A2F6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8F94B-193A-4766-A50B-CC59913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50DDA-817B-4CA2-8282-8575A9B1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B4947-F7E4-48AF-8D79-DE76DB3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426-7082-4DB8-A920-1E0E15D8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30B93-FF7F-4A2C-A62C-0495710A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0C165-E320-4B98-8E87-4E53EE6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5AF6-FACE-478C-A1AF-AECCD61A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88B43-DA63-468F-9564-C07A4654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BF0A3-0FA5-4E0E-8A31-DFCB6B89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463-082D-4260-90DD-45030BB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A31-147A-46C5-8C85-0E994E7C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E27-784D-43FF-92F1-A61149C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109-DC87-4A14-992D-B9072820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761-EAC6-4966-A760-EA48461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4CE-B188-4ED2-B91B-5DA90B7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711-944D-4001-8D6F-3BED571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5A8283-68E2-4587-9470-62D392E180E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23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D903A9-815D-409A-A547-B8D41A649C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950e"/>
                </a:solidFill>
                <a:latin typeface="Tahoma"/>
              </a:rPr>
              <a:t>Мы и взрослы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Как помочь гиперактивным детя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740720" y="31399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втор иде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едай Виктория Васильевн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оспитатель МБДОУ д/с №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2376720" cy="2189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20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ahoma"/>
              </a:rPr>
              <a:t>Цели исследования</a:t>
            </a: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Каково положительное и отрицательное воздействие взрослых на наше поведени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Как взрослые могут нам помоч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43280" y="4076640"/>
            <a:ext cx="259236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ahoma"/>
              </a:rPr>
              <a:t>Задачи</a:t>
            </a: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Выявить положительные и отрицательные воздействия взрослых на наше поведени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Составить список рекомендаций для взрослых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37636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9998762130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" dur="1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Я люблю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Мне нравиться бега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прыга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игра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Я очень сильно устаю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когда долго выполняю какое-либо задани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Мне нравитьс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когда воспитатель замечает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что я стараюс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100836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9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Я не люблю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Когда воспитатель говори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«Ты  сегодня плохо себя вел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» - мне кажется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что он меня не люби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считает меня плохим человеком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Я не люблю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когда мне что-то запрещаю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угрожаю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крича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Тогда я делаю это «назло»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Я очень сильно устаю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когда долго выполняю какое-либо задание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just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936720" cy="792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Я бы хотел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чтобы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Воспитатель всегда замечал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что я сделал что-то хороше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Помогал мн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если у меня что-то не получаетс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Не кричал на мен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Давал мне столько заданий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сколько я могу выполни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Позволял мне двигатьс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008360" cy="9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ff23"/>
                </a:solidFill>
                <a:latin typeface="Tahoma"/>
              </a:rPr>
              <a:t>Выводы</a:t>
            </a:r>
            <a:r>
              <a:rPr b="0" lang="en-US" sz="4400" spc="-1" strike="noStrike">
                <a:solidFill>
                  <a:srgbClr val="23ff23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eb613d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b613d"/>
                </a:solidFill>
                <a:latin typeface="Tahoma"/>
              </a:rPr>
              <a:t>При правильной организации нашей работы взрослые могут корректировать наше поведение и повышать эффективность нашей работы</a:t>
            </a:r>
            <a:r>
              <a:rPr b="0" lang="en-US" sz="2800" spc="-1" strike="noStrike">
                <a:solidFill>
                  <a:srgbClr val="eb613d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23040" y="1476360"/>
            <a:ext cx="2496960" cy="30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123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авайте поможе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руг другу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6167520" cy="39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спользуемая литератур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рекционная педагогика в начальном образовани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д ред. Г.Ф. Кумариной – М.: Академия, 2001 – 320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ласый И.П. Курс лекций по коррекционной педагогике. – М.: ВЛАДОС, 2002. – 352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23767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40:56Z</dcterms:created>
  <dc:creator>UI</dc:creator>
  <dc:description/>
  <dc:language>en-US</dc:language>
  <cp:lastModifiedBy>User</cp:lastModifiedBy>
  <dcterms:modified xsi:type="dcterms:W3CDTF">2012-01-25T11:22:06Z</dcterms:modified>
  <cp:revision>23</cp:revision>
  <dc:subject/>
  <dc:title>Мы и взрослые</dc:title>
</cp:coreProperties>
</file>