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11.wmf" ContentType="image/x-wmf"/>
  <Override PartName="/ppt/media/image4.gif" ContentType="image/gif"/>
  <Override PartName="/ppt/media/image8.png" ContentType="image/png"/>
  <Override PartName="/ppt/media/image5.gif" ContentType="image/gif"/>
  <Override PartName="/ppt/media/image7.gif" ContentType="image/gi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B40-7C98-41D7-AD6B-F55ADA84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F43-2CE3-4F82-A224-222BA2E3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291-0017-4A6E-90D9-C9A1B2CD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0D35-8089-453B-B910-9A9F1047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07DB3-F4EB-4E50-A7D7-8A69B80A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B6E5A-BA6D-4C06-8995-9777410E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6E97A-4CDD-48A7-B762-B01E5ED7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D336A-FA69-4E27-95EB-50368C46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69CE6-B24A-45AA-9B17-14024E25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FC049-0B3A-49D4-9868-E6694B09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6E33F-2EF9-49B7-87AD-FE6113D3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E57E-030D-4B79-AC22-E1C26002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CAC4E-763A-47E3-90D4-01DBC298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7DE0F-C778-4782-BD96-B8CE7F4A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116AC-D581-4059-AE28-40F96186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DA684-F0A3-481C-9FC0-35FB9017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D459F-7587-4DD0-9D41-2374C8BA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FB1-FC82-46EA-B7B7-3F57BF26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3A3-87FA-4476-8DAC-8115271F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F52-D71E-4BB5-94F4-506A4D7F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EAE-B66E-463E-8EB7-9A5D7B32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886-2241-41A6-A3A5-9D336943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F0BB-178B-46F7-A281-F575F985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586-0DE4-4460-B582-30DAB435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8ADA00-5658-45B4-AF17-9E5F58F5097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237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A808FC-4F7D-4B6C-A5C9-D7B12290B6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950e"/>
                </a:solidFill>
                <a:latin typeface="Tahoma"/>
              </a:rPr>
              <a:t>Мы и взрослые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Как помочь гиперактивным детя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400536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740720" y="313992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втор идеи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ледай Виктория Васильевн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оспитатель МБДОУ д/с №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2376720" cy="2189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20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Tahoma"/>
              </a:rPr>
              <a:t>Цели исследования</a:t>
            </a: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Каково положительное и отрицательное воздействие взрослых на наше поведение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Как взрослые могут нам помочь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843280" y="4076640"/>
            <a:ext cx="259236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Tahoma"/>
              </a:rPr>
              <a:t>Задачи</a:t>
            </a: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Выявить положительные и отрицательные воздействия взрослых на наше поведение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Составить список рекомендаций для взрослых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12000" y="4437000"/>
            <a:ext cx="237636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9998762130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" dur="12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Я люблю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Мне нравиться бегать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 прыгать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 играть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Я очень сильно устаю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когда долго выполняю какое-либо задание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Мне нравиться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 когда воспитатель замечает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 что я стараюсь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100836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9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Я не люблю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Когда воспитатель говорит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 «Ты  сегодня плохо себя вел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» - мне кажется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 что он меня не любит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 считает меня плохим человеком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Я не люблю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 когда мне что-то запрещают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 угрожают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 кричат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 Тогда я делаю это «назло»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Я очень сильно устаю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b84700"/>
                </a:solidFill>
                <a:latin typeface="Tahoma"/>
              </a:rPr>
              <a:t>когда долго выполняю какое-либо задание</a:t>
            </a:r>
            <a:r>
              <a:rPr b="0" lang="en-US" sz="2800" spc="-1" strike="noStrike">
                <a:solidFill>
                  <a:srgbClr val="b847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just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227640" y="620640"/>
            <a:ext cx="936720" cy="792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Я бы хотел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чтобы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Воспитатель всегда замечал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 что я сделал что-то хорошее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Помогал мне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 если у меня что-то не получается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Не кричал на меня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Давал мне столько заданий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сколько я могу выполнить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6633"/>
                </a:solidFill>
                <a:latin typeface="Tahoma"/>
              </a:rPr>
              <a:t>Позволял мне двигаться</a:t>
            </a:r>
            <a:r>
              <a:rPr b="0" lang="en-US" sz="3200" spc="-1" strike="noStrike">
                <a:solidFill>
                  <a:srgbClr val="cc6633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008360" cy="93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ff23"/>
                </a:solidFill>
                <a:latin typeface="Tahoma"/>
              </a:rPr>
              <a:t>Выводы</a:t>
            </a:r>
            <a:r>
              <a:rPr b="0" lang="en-US" sz="4400" spc="-1" strike="noStrike">
                <a:solidFill>
                  <a:srgbClr val="23ff23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eb613d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eb613d"/>
                </a:solidFill>
                <a:latin typeface="Tahoma"/>
              </a:rPr>
              <a:t>При правильной организации нашей работы взрослые могут корректировать наше поведение и повышать эффективность нашей работы</a:t>
            </a:r>
            <a:r>
              <a:rPr b="0" lang="en-US" sz="2800" spc="-1" strike="noStrike">
                <a:solidFill>
                  <a:srgbClr val="eb613d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23040" y="1476360"/>
            <a:ext cx="2496960" cy="302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-123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Давайте поможем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15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друг другу</a:t>
            </a:r>
            <a:r>
              <a:rPr b="0" lang="en-US" sz="6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92360" y="2565360"/>
            <a:ext cx="6167520" cy="39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спользуемая литератур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ррекционная педагогика в начальном образовани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Под ред. Г.Ф. Кумариной – М.: Академия, 2001 – 320 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ласый И.П. Курс лекций по коррекционной педагогике. – М.: ВЛАДОС, 2002. – 352 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588000" y="4437000"/>
            <a:ext cx="237672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3:40:56Z</dcterms:created>
  <dc:creator>UI</dc:creator>
  <dc:description/>
  <dc:language>en-US</dc:language>
  <cp:lastModifiedBy>User</cp:lastModifiedBy>
  <dcterms:modified xsi:type="dcterms:W3CDTF">2012-01-25T11:22:06Z</dcterms:modified>
  <cp:revision>23</cp:revision>
  <dc:subject/>
  <dc:title>Мы и взрослые</dc:title>
</cp:coreProperties>
</file>