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0DD-9766-432D-90A9-52F28307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8EC-752A-42CF-BFA1-57CC5C07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BE6-D049-4639-8B0F-54FC6083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915-7E9B-4ABD-8C12-10AD2889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284B-90C5-4A7F-BD85-6D1D1EC6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25A-505E-4D1E-A336-2116D710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6B57-976A-4A1B-9155-3866137A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64FC-6614-4DA8-9381-402AD695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5A9C-2047-4854-976E-80352515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7366-A811-47E3-ABF6-629B5F75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87EB-0D81-46A0-BA41-C16ACD37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902-768C-4494-A211-FAB0E426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C9EE-4910-4591-9248-4FFF920D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B18B-13DD-431B-9FF6-6976AACF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809D-C7A0-434A-A081-469D1AA4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5162-70A3-447B-9F56-D03F1DBA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0F3E-D2CD-402C-A290-F713A01C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9E6-F0F6-493A-ADB2-CD876809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109-DC66-4FE5-B5A1-F3DB2ABF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2FF-15CD-48E0-BD54-36A07D71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C58-AE6C-4259-9E11-6CB14C72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3C5-4910-4EC6-90F4-B091EFCA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E6C-6E73-4693-90F1-8E3AECA6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5BB-D3BE-4480-ADFF-7F16B57E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542C-D054-4493-894B-2EC6268DC790}" type="slidenum"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DE44-5D53-4DF6-A818-8A5C38695300}" type="slidenum">
              <a:rPr b="0" lang="ru-RU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2.jpeg"/><Relationship Id="rId4" Type="http://schemas.openxmlformats.org/officeDocument/2006/relationships/slide" Target="slide3.xml"/><Relationship Id="rId5" Type="http://schemas.openxmlformats.org/officeDocument/2006/relationships/image" Target="../media/image3.jpe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image" Target="../media/image4.jpeg"/><Relationship Id="rId16" Type="http://schemas.openxmlformats.org/officeDocument/2006/relationships/slide" Target="slide6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image" Target="../media/image5.jpeg"/><Relationship Id="rId20" Type="http://schemas.openxmlformats.org/officeDocument/2006/relationships/slide" Target="slide7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7.xml"/><Relationship Id="rId24" Type="http://schemas.openxmlformats.org/officeDocument/2006/relationships/slide" Target="slide7.xml"/><Relationship Id="rId25" Type="http://schemas.openxmlformats.org/officeDocument/2006/relationships/slide" Target="slide7.xml"/><Relationship Id="rId26" Type="http://schemas.openxmlformats.org/officeDocument/2006/relationships/slide" Target="slide7.xml"/><Relationship Id="rId27" Type="http://schemas.openxmlformats.org/officeDocument/2006/relationships/slide" Target="slide7.xml"/><Relationship Id="rId28" Type="http://schemas.openxmlformats.org/officeDocument/2006/relationships/slide" Target="slide9.xml"/><Relationship Id="rId29" Type="http://schemas.openxmlformats.org/officeDocument/2006/relationships/image" Target="../media/image6.jpeg"/><Relationship Id="rId30" Type="http://schemas.openxmlformats.org/officeDocument/2006/relationships/slide" Target="slide9.xml"/><Relationship Id="rId31" Type="http://schemas.openxmlformats.org/officeDocument/2006/relationships/slide" Target="slide9.xml"/><Relationship Id="rId32" Type="http://schemas.openxmlformats.org/officeDocument/2006/relationships/slide" Target="slide8.xml"/><Relationship Id="rId33" Type="http://schemas.openxmlformats.org/officeDocument/2006/relationships/slide" Target="slide8.xml"/><Relationship Id="rId34" Type="http://schemas.openxmlformats.org/officeDocument/2006/relationships/slide" Target="slide8.xml"/><Relationship Id="rId35" Type="http://schemas.openxmlformats.org/officeDocument/2006/relationships/slide" Target="slide8.xml"/><Relationship Id="rId36" Type="http://schemas.openxmlformats.org/officeDocument/2006/relationships/slide" Target="slide8.xml"/><Relationship Id="rId37" Type="http://schemas.openxmlformats.org/officeDocument/2006/relationships/slide" Target="slide8.xml"/><Relationship Id="rId38" Type="http://schemas.openxmlformats.org/officeDocument/2006/relationships/image" Target="../media/image7.png"/><Relationship Id="rId39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Выполнила работу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Ученица 82 гимназии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8 «Г»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Нестерова Валерия Андреевна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95241"/>
                </a:solidFill>
                <a:latin typeface="Times New Roman"/>
              </a:rPr>
              <a:t>КУБАНСКИЕ ЦЕРКВИ</a:t>
            </a:r>
            <a:br>
              <a:rPr sz="4000"/>
            </a:b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13607" t="7516" r="5670" b="1074"/>
          <a:stretch/>
        </p:blipFill>
        <p:spPr>
          <a:xfrm>
            <a:off x="304920" y="68580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81480" y="2514600"/>
            <a:ext cx="312444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30 ноября 1903 года при большом стечении народа состоялось торжественное освящение церкви в честь святого Георгия Победоносца. Интересно отметить, что эта церковь не закрывалась со дня постройки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Стоит - вот уже пошло второе столетие - красавица церковь в честь Георгия Победоносца, великолепный памятник церковной архитектуры, по-прежнему украшая цветущий Краснодар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51051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Так преподобные святые Онуфрий Великий и Петр Афонский стали небесными покровителями будущего храма, а день 12/25 июня — его храмовым праздником.</a:t>
            </a:r>
            <a:endParaRPr b="0" i="1" lang="en-US" sz="16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4027320" cy="4460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19720" y="380880"/>
            <a:ext cx="41907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В 1828 г., вскоре после взятия русскими войсками крепости Анапа, сюда был откомандирован из Фанагорийской крепости (в Тамани) священник Симеон Соколовский, стараниями которого устроено «для отправления службы небольшое отделение в турецкой мечети, в оном сделан иконостас и алтарь». В октябре 1830 г. по представлению главнокомандующего Отдельным Кавказским корпусом графа И.Ф.Паскевича было получено императорское повеление: «На устройство в крепости Анапе грекороссийской церкви с иконостасом и прочим отпустить из Государственного казначейства 25 тыс. рублей ассигнациями, и церковь именовать именем того святого, в чей праздник крепость Анапа сдалась нашим войскам»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95241"/>
                </a:solidFill>
                <a:latin typeface="Arial"/>
              </a:rPr>
              <a:t>Господи, </a:t>
            </a:r>
            <a:br>
              <a:rPr sz="5400"/>
            </a:br>
            <a:r>
              <a:rPr b="1" i="1" lang="ru-RU" sz="5400" spc="-1" strike="noStrike">
                <a:solidFill>
                  <a:srgbClr val="795241"/>
                </a:solidFill>
                <a:latin typeface="Arial"/>
              </a:rPr>
              <a:t>храни в мире </a:t>
            </a:r>
            <a:br>
              <a:rPr sz="5400"/>
            </a:br>
            <a:r>
              <a:rPr b="1" i="1" lang="ru-RU" sz="5400" spc="-1" strike="noStrike">
                <a:solidFill>
                  <a:srgbClr val="795241"/>
                </a:solidFill>
                <a:latin typeface="Arial"/>
              </a:rPr>
              <a:t>Землю Кубанскую, </a:t>
            </a:r>
            <a:br>
              <a:rPr sz="5400"/>
            </a:br>
            <a:r>
              <a:rPr b="1" i="1" lang="ru-RU" sz="5400" spc="-1" strike="noStrike">
                <a:solidFill>
                  <a:srgbClr val="795241"/>
                </a:solidFill>
                <a:latin typeface="Arial"/>
              </a:rPr>
              <a:t>Русь Святую.</a:t>
            </a:r>
            <a:r>
              <a:rPr b="1" i="1" lang="ru-RU" sz="4400" spc="-1" strike="noStrike">
                <a:solidFill>
                  <a:srgbClr val="795241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59520" y="4530600"/>
            <a:ext cx="2032200" cy="2251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95241"/>
                </a:solidFill>
                <a:latin typeface="Times New Roman"/>
              </a:rPr>
              <a:t>Православные храмы Кубани.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8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280" y="1447920"/>
            <a:ext cx="1913040" cy="2057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05120" y="1371600"/>
            <a:ext cx="3352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6" action="ppaction://hlinksldjump"/>
              </a:rPr>
              <a:t>1.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Свято-Екатерининский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 (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кафедральный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)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собор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94360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12" action="ppaction://hlinksldjump"/>
              </a:rPr>
              <a:t>3. 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Церковь во имя Святой Троицы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89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152280" y="3487680"/>
            <a:ext cx="3276720" cy="2027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480" y="5562720"/>
            <a:ext cx="37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16" action="ppaction://hlinksldjump"/>
              </a:rPr>
              <a:t>2. 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Покровская церковь в Тамани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91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3429000" y="2286000"/>
            <a:ext cx="1809720" cy="2540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124080" y="48006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20" action="ppaction://hlinksldjump"/>
              </a:rPr>
              <a:t>4.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Церковь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3" action="ppaction://hlinksldjump"/>
              </a:rPr>
              <a:t>Святого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4" action="ppaction://hlinksldjump"/>
              </a:rPr>
              <a:t>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5" action="ppaction://hlinksldjump"/>
              </a:rPr>
              <a:t>пророка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6" action="ppaction://hlinksldjump"/>
              </a:rPr>
              <a:t>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27" action="ppaction://hlinksldjump"/>
              </a:rPr>
              <a:t>Илии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93" name="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5181480" y="1371600"/>
            <a:ext cx="2497320" cy="2637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57800" y="3962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30" action="ppaction://hlinksldjump"/>
              </a:rPr>
              <a:t>5. 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1" action="ppaction://hlinksldjump"/>
              </a:rPr>
              <a:t>Церковь в честь Георгия Победоносца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60199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hlinkClick r:id="rId32" action="ppaction://hlinksldjump"/>
              </a:rPr>
              <a:t>6.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3" action="ppaction://hlinksldjump"/>
              </a:rPr>
              <a:t>Свято-Онуфриевский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4" action="ppaction://hlinksldjump"/>
              </a:rPr>
              <a:t> 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5" action="ppaction://hlinksldjump"/>
              </a:rPr>
              <a:t>храм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6" action="ppaction://hlinksldjump"/>
              </a:rPr>
              <a:t>.</a:t>
            </a:r>
            <a:r>
              <a:rPr b="0" lang="en-US" sz="20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  <a:hlinkClick r:id="rId37" action="ppaction://hlinksldjump"/>
              </a:rPr>
              <a:t>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8">
            <a:lum bright="70000" contrast="-70000"/>
          </a:blip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5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8242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вято-Екатерининский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кафедральный) собор</a:t>
            </a:r>
            <a:endParaRPr b="0" lang="en-US" sz="4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1447920"/>
            <a:ext cx="5029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 сентябре 1886 года Екатеринодар посетил император, Александр III. Вместе с ним были императрица, наследник Николай (будущий последний русский царь), великие князья Георгий и Михаил Александровичи, великие княжны Ксения и Ольга Александровны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озвращаясь из поездки по югу (из Ливадии в Крыму), августейшее семейство 17 октября 1888 года попало в железнодорожную катастрофу. Около станции Борки (вблизи Харькова) во время царского обеда, когда все были в одном вагоне, поезд сошел с рельсов и превратился в груду развалин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Однако царскую семью прикрыло крышей вагона. Огромная физическая сила Александра, поддерживавшего эту махину, позволила домочадцам выбраться из-под обломков. Никто из них не получил ни малейшего повреждения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943600"/>
            <a:ext cx="815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А вокруг был хаос, воздух оглашался стонами раненых. Современники сочли, что произошло чудо - спасение царя. В Борках впоследствии в честь знаменательного события был сооружен величественный храм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8381880" y="655308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25124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1295280"/>
            <a:ext cx="4267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озводили собор очень долго и трудно - не хватало средств. Жертвовали купцы, проходил сбор денег по подписным листам, в общественных местах устанавливали кружки для народных пятаков</a:t>
            </a:r>
            <a:r>
              <a:rPr b="0" lang="en-US" sz="2400" spc="-1" strike="noStrike">
                <a:solidFill>
                  <a:srgbClr val="366c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819520"/>
            <a:ext cx="41907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14 сентября 1911 года при большом стечении прихожан были подняты кресты и главы. И сразу город преобразился и похорошел. Внутри было закончено оборудование усыпальниц (с южной стороны), встал мраморный иконостас, сделана художественная роспись, выложен плитками пол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 конце 1912 года состоялось торжественное освящение нижней части храма, в марте 1914 года семипрестольный (кафедральный - главный) собор был закончен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14940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 первую годовщину сего избавления России от беды было решено и в Екатеринодаре соорудить храм по имя Святых Царствующей Семьи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ерковь во имя Святой Троицы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523880"/>
            <a:ext cx="8991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В 1793 году рядом с военным постом под станицей Елизаветинской появилась слобода, названная по имени кордоне Видной</a:t>
            </a:r>
            <a:r>
              <a:rPr b="0" lang="en-US" sz="2400" spc="-1" strike="noStrike">
                <a:solidFill>
                  <a:srgbClr val="560000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Населяли слободу холостые казаки, которые не имели особого желания обзаводиться в своих куренях хозяйством. Охота и рыбалка их вполне устраивали. Станица на месте бывшего кордона быстро разрасталась на восток в сторону города Екатеринодара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К началу XX века она занимала нынешнее пространство и имела население более 12 тысяч человек. Естественно возникла необходимость в постройке более солидного храма. По предложению жителей станицы было принято решение о строительстве новой, теперь уже каменной церкви во имя Святой Троицы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Заложили ее накануне Первой мировой войны в 1914 году, а закончили в 1917-м. Перед самой революцией храм освятили. Как и многие церкви на Кубани, эту строили на добровольные пожертвования станичников (золотыми деньгами), а возглавлял строительную артель народный умелец Кудря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По словам станичных старожилов, она была одним из лучших церковных творений Кубани. Интересно отметить, что смотреть замечательное пятиглавое чудо приезжали издалека, даже из-за рубежа: из Греции, Болгарии и других стран.</a:t>
            </a: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В  конце 30-х годов ЦЕРКОВЬ БЫЛА УНИЧТОЖЕНА. Примечательно, что зодчего-архитектора, который строил церковь, никто в станице уже не помнит, а вот председателя Дубодела, по приказанию которого была разобрана красавица Свято-Троицкая церковь, помнят все жители станицы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кровская церковь в Тамани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5410080" cy="3348000"/>
          </a:xfrm>
          <a:prstGeom prst="rect">
            <a:avLst/>
          </a:prstGeom>
          <a:ln w="57240">
            <a:solidFill>
              <a:srgbClr val="56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0" y="45655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Построена в 1794 г черноморскими казаками иждевением войскового судьи Антона Головатого. В 1890 г отремонтирована на общественные средства. В 1911 г. реставрирована И.К.Мальгербом. Исследователи полагают, что церковь была возведена на фундаменте древнего храма, построенного тмутараканским князем Мстиславом Удалым в 1022 г. Антон Головатый пожертвовал церкви серебряные блюдо, кадило и ценную дарохранительницу работы полкового есаула К.Чижевского. В XIX - начале XX вв. в церкви хранились памятники древности, найденные на Тамани, а также старинные книги - Библия и Литургион 1691 г., принадлежавшие первому священику Покровской церкви Павлу Демешко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ерковь Святого пророка Илии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3201840" cy="4496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581280" y="1482840"/>
            <a:ext cx="36576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В 1892 году Кубанская область была охвачена эпидемией холеры, вплотную подступившей к городу Екатерниодару. Особенно богатую дань она собирала на его окраинах: Дубинке и Покровке. Но дальше этих окраин эпидемия не пошла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Народ в честь благополучного избавления от холеры решил поставить храм, молитвенный дом и братский колодец в честь святого пророка Илии. По народным представлениям, святой Илья-пророк, покровитель земледелия, олицетворял собою праведный суд и справедливость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5562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В период с 1892 по 1898 год шел сбор пожертвований</a:t>
            </a:r>
            <a:r>
              <a:rPr b="1" lang="ru-RU" sz="1600" spc="-1" strike="noStrike">
                <a:solidFill>
                  <a:srgbClr val="560000"/>
                </a:solidFill>
                <a:latin typeface="Times New Roman"/>
              </a:rPr>
              <a:t>. Проект сделал бесплатно известный архитектор Николай Георгиевич Петин, коренной екатеринодарец, автор общественных зданий, до сих пор украшающих кубанскую столицу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724640" cy="3463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9144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Церковь строилась с 1903 по 1907 год. Освящение ее состоялось 25 февраля 1907 года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3568680" cy="4724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191120" y="5029200"/>
            <a:ext cx="3504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Над входом была укреплена мемориальная доска, сообщающая, что: "Церковь в честь пророка Илии воздвигнута исключительно на народные пожертвования в знак избавления города от холеры"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0600" y="228600"/>
            <a:ext cx="702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вято-Онуфриевский храм</a:t>
            </a:r>
            <a:r>
              <a:rPr b="1" i="1" lang="ru-RU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ерковь в честь Георгия Победоносца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1600200"/>
            <a:ext cx="3886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Георгий Победоносец как повествует житейская апокрифическая литература был уроженцем Малой Азии. Он был военачальником знатного происхождения жившим во времена римского императора Диоклетиана. В период гонения на христиан его под страшными пытками принудили отречься от веры и в конце концов непреклонному приверженцу христианской веры отрубили голову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На некоторых иконах Георгия Великомученика так и изображают стоящим на молитве с собственной головой в руках. Образ этого человека овеян многочисленными легендами. Вот почему церковь была названа в честь святого Георгия Победоносца. Он проповедовал христианскую веру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600200"/>
            <a:ext cx="487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000"/>
                </a:solidFill>
                <a:latin typeface="Times New Roman"/>
              </a:rPr>
              <a:t>1895 году 18 июня состоялась торжественная закладка храма Во имя святые живоначальные Троицы с часовней в честь святого великомученика Георгия Победоносца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52280" y="2895480"/>
            <a:ext cx="4648320" cy="3033720"/>
          </a:xfrm>
          <a:prstGeom prst="rect">
            <a:avLst/>
          </a:prstGeom>
          <a:ln w="0">
            <a:noFill/>
          </a:ln>
        </p:spPr>
      </p:pic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8381880" y="654696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10800"/>
                </a:moveTo>
                <a:lnTo>
                  <a:pt x="20522" y="3794"/>
                </a:lnTo>
                <a:lnTo>
                  <a:pt x="20522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54696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8610480" y="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7493"/>
                </a:moveTo>
                <a:lnTo>
                  <a:pt x="11625" y="7493"/>
                </a:lnTo>
                <a:lnTo>
                  <a:pt x="11625" y="12828"/>
                </a:lnTo>
                <a:cubicBezTo>
                  <a:pt x="11625" y="13751"/>
                  <a:pt x="12426" y="14482"/>
                  <a:pt x="13462" y="14482"/>
                </a:cubicBezTo>
                <a:lnTo>
                  <a:pt x="15124" y="14482"/>
                </a:lnTo>
                <a:cubicBezTo>
                  <a:pt x="16160" y="14482"/>
                  <a:pt x="16961" y="13751"/>
                  <a:pt x="16961" y="12828"/>
                </a:cubicBezTo>
                <a:lnTo>
                  <a:pt x="16961" y="7493"/>
                </a:lnTo>
                <a:lnTo>
                  <a:pt x="15124" y="7493"/>
                </a:lnTo>
                <a:lnTo>
                  <a:pt x="18632" y="3985"/>
                </a:lnTo>
                <a:lnTo>
                  <a:pt x="22305" y="7493"/>
                </a:lnTo>
                <a:lnTo>
                  <a:pt x="20468" y="7493"/>
                </a:lnTo>
                <a:lnTo>
                  <a:pt x="20468" y="12828"/>
                </a:lnTo>
                <a:cubicBezTo>
                  <a:pt x="20468" y="15596"/>
                  <a:pt x="17892" y="18155"/>
                  <a:pt x="15124" y="18155"/>
                </a:cubicBezTo>
                <a:lnTo>
                  <a:pt x="13462" y="18155"/>
                </a:lnTo>
                <a:cubicBezTo>
                  <a:pt x="10694" y="18155"/>
                  <a:pt x="8118" y="15596"/>
                  <a:pt x="8118" y="12828"/>
                </a:cubicBezTo>
                <a:close/>
              </a:path>
            </a:pathLst>
          </a:custGeom>
          <a:solidFill>
            <a:srgbClr val="f9dbd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03:30:29Z</dcterms:created>
  <dc:creator>Администратор</dc:creator>
  <dc:description/>
  <dc:language>en-US</dc:language>
  <cp:lastModifiedBy>Admin</cp:lastModifiedBy>
  <dcterms:modified xsi:type="dcterms:W3CDTF">2010-03-18T19:30:19Z</dcterms:modified>
  <cp:revision>78</cp:revision>
  <dc:subject/>
  <dc:title>Презентация PowerPoint</dc:title>
</cp:coreProperties>
</file>