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0.jpeg" ContentType="image/jpeg"/>
  <Override PartName="/ppt/media/image29.jpeg" ContentType="image/jpeg"/>
  <Override PartName="/ppt/media/image3.jpeg" ContentType="image/jpeg"/>
  <Override PartName="/ppt/media/image14.jpeg" ContentType="image/jpeg"/>
  <Override PartName="/ppt/media/image8.png" ContentType="image/png"/>
  <Override PartName="/ppt/media/image6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9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png" ContentType="image/png"/>
  <Override PartName="/ppt/media/image2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B30-32E3-4BF8-B5B3-C1D75E90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924-2618-494B-ACFD-1AE67443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E2B-29D6-43BD-A6A3-62FF88ED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D90-A695-4D8A-BF1B-8917E992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7CE-07F1-4004-ABD8-62EC2AB2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A43-CC0C-446E-AC19-D51C2663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436-D0DB-4717-88D0-E820B940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0D9-E5B1-481C-8814-DBAB1A5E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96E-8099-42E1-BEE9-815CDBA1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C03-93F0-4079-A6C8-9BD8BE72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684-3484-4691-B4AC-018884A7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6A2-89F5-4FF6-835F-69CDC4E2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A6B2-D83F-4200-BCC9-C0ADE25A4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ОРЕШНИКОВАЯ</a:t>
            </a:r>
            <a:br>
              <a:rPr sz="6000"/>
            </a:b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СОН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ОЧЕНЬ РЕДКИЙ ЗВЕР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513396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2163000">
            <a:off x="2123640" y="407664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4614000">
            <a:off x="3779640" y="3644640"/>
            <a:ext cx="1584360" cy="981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2265600">
            <a:off x="5435280" y="2938320"/>
            <a:ext cx="1584360" cy="98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1454400">
            <a:off x="6516360" y="1773360"/>
            <a:ext cx="158436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236000" y="189000"/>
            <a:ext cx="1584000" cy="98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3280" y="5734080"/>
            <a:ext cx="54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атаев Ян – ученик 2 класса «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колы № 878 ЮАО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9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1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920" y="820800"/>
            <a:ext cx="9010800" cy="5992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06200" y="836640"/>
            <a:ext cx="8929800" cy="5962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ВОТ ТАКАЯ СО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907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МАЛЕНЬ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50920" y="1506600"/>
            <a:ext cx="4103640" cy="2930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08720" y="981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ЛЁГ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427640" y="1555920"/>
            <a:ext cx="4645080" cy="4537080"/>
            <a:chOff x="4427640" y="1555920"/>
            <a:chExt cx="4645080" cy="4537080"/>
          </a:xfrm>
        </p:grpSpPr>
        <p:grpSp>
          <p:nvGrpSpPr>
            <p:cNvPr id="57" name=""/>
            <p:cNvGrpSpPr/>
            <p:nvPr/>
          </p:nvGrpSpPr>
          <p:grpSpPr>
            <a:xfrm>
              <a:off x="4572000" y="1555920"/>
              <a:ext cx="4500720" cy="4238640"/>
              <a:chOff x="4572000" y="1555920"/>
              <a:chExt cx="4500720" cy="4238640"/>
            </a:xfrm>
          </p:grpSpPr>
          <p:pic>
            <p:nvPicPr>
              <p:cNvPr id="5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572000" y="1555920"/>
                <a:ext cx="4356000" cy="423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96360" y="4364280"/>
                <a:ext cx="1476360" cy="8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0" name="" descr=""/>
            <p:cNvPicPr/>
            <p:nvPr/>
          </p:nvPicPr>
          <p:blipFill>
            <a:blip r:embed="rId7"/>
            <a:srcRect l="6387" t="2678" r="3477" b="2678"/>
            <a:stretch/>
          </p:blipFill>
          <p:spPr>
            <a:xfrm>
              <a:off x="4427640" y="3572280"/>
              <a:ext cx="2016000" cy="25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 rot="5400000">
            <a:off x="1397880" y="4000680"/>
            <a:ext cx="2219400" cy="3406680"/>
          </a:xfrm>
          <a:custGeom>
            <a:avLst/>
            <a:gdLst>
              <a:gd name="textAreaLeft" fmla="*/ 320400 w 2219400"/>
              <a:gd name="textAreaRight" fmla="*/ 2062440 w 2219400"/>
              <a:gd name="textAreaTop" fmla="*/ 1040400 h 3406680"/>
              <a:gd name="textAreaBottom" fmla="*/ 3165480 h 3406680"/>
            </a:gdLst>
            <a:ahLst/>
            <a:rect l="textAreaLeft" t="textAreaTop" r="textAreaRight" b="textAreaBottom"/>
            <a:pathLst>
              <a:path w="21600" h="21600">
                <a:moveTo>
                  <a:pt x="0" y="13334"/>
                </a:moveTo>
                <a:lnTo>
                  <a:pt x="3118" y="5067"/>
                </a:lnTo>
                <a:lnTo>
                  <a:pt x="3118" y="6597"/>
                </a:lnTo>
                <a:lnTo>
                  <a:pt x="6597" y="6597"/>
                </a:lnTo>
                <a:lnTo>
                  <a:pt x="6597" y="3118"/>
                </a:lnTo>
                <a:lnTo>
                  <a:pt x="5067" y="3118"/>
                </a:lnTo>
                <a:lnTo>
                  <a:pt x="13334" y="0"/>
                </a:lnTo>
                <a:lnTo>
                  <a:pt x="21600" y="3118"/>
                </a:lnTo>
                <a:lnTo>
                  <a:pt x="20070" y="3118"/>
                </a:lnTo>
                <a:lnTo>
                  <a:pt x="20070" y="20070"/>
                </a:lnTo>
                <a:lnTo>
                  <a:pt x="3118" y="20070"/>
                </a:lnTo>
                <a:lnTo>
                  <a:pt x="3118" y="21600"/>
                </a:lnTo>
                <a:close/>
              </a:path>
            </a:pathLst>
          </a:custGeom>
          <a:blipFill rotWithShape="0">
            <a:blip r:embed="rId8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Рост 7-9 с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Вес 27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2060640"/>
            <a:ext cx="6912000" cy="20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весёлая!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xit" presetID="35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500"/>
                            </p:stCondLst>
                            <p:childTnLst>
                              <p:par>
                                <p:cTn id="64" nodeType="afterEffect" fill="hold" presetClass="exit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20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20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48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4500"/>
                            </p:stCondLst>
                            <p:childTnLst>
                              <p:par>
                                <p:cTn id="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500"/>
                            </p:stCondLst>
                            <p:childTnLst>
                              <p:par>
                                <p:cTn id="92" nodeType="afterEffect" fill="hold" presetClass="exit" presetID="3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75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ГДЕ ЖИВЁТ СОН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853920"/>
            <a:ext cx="7777080" cy="583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00720" y="824040"/>
            <a:ext cx="4419360" cy="5844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50920" y="2997360"/>
            <a:ext cx="4110120" cy="3082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155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В Москве соню можно встрет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rcRect l="5052" t="2149" r="4220" b="2573"/>
          <a:stretch/>
        </p:blipFill>
        <p:spPr>
          <a:xfrm>
            <a:off x="7020000" y="1916280"/>
            <a:ext cx="920520" cy="115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rcRect l="5052" t="2149" r="4220" b="2573"/>
          <a:stretch/>
        </p:blipFill>
        <p:spPr>
          <a:xfrm>
            <a:off x="7667640" y="2708280"/>
            <a:ext cx="920880" cy="1150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rcRect l="5052" t="2149" r="4220" b="2573"/>
          <a:stretch/>
        </p:blipFill>
        <p:spPr>
          <a:xfrm>
            <a:off x="5940360" y="4581360"/>
            <a:ext cx="92088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2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6500"/>
                            </p:stCondLst>
                            <p:childTnLst>
                              <p:par>
                                <p:cTn id="1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4360" y="765000"/>
            <a:ext cx="8820360" cy="609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КАК ЖИВЁТ СОН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70200" y="3284640"/>
            <a:ext cx="36734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9903"/>
                <a:gd name="adj2" fmla="val -1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ня много спи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2920" y="4437000"/>
            <a:ext cx="2449440" cy="183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96000" y="1125360"/>
            <a:ext cx="2449440" cy="1837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11280" y="981000"/>
            <a:ext cx="2232000" cy="2129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580000" y="4292640"/>
            <a:ext cx="2448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rcRect l="0" t="14172" r="0" b="14298"/>
          <a:stretch/>
        </p:blipFill>
        <p:spPr>
          <a:xfrm>
            <a:off x="196920" y="600120"/>
            <a:ext cx="8748720" cy="6257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18120" y="4873680"/>
            <a:ext cx="2586240" cy="1940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500720" y="3429000"/>
            <a:ext cx="2520720" cy="1746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ЧТО ЕСТ СОН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rcRect l="15377" t="20129" r="10232" b="10626"/>
          <a:stretch/>
        </p:blipFill>
        <p:spPr>
          <a:xfrm>
            <a:off x="3995640" y="2133720"/>
            <a:ext cx="1728720" cy="1609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4788000" y="2924280"/>
            <a:ext cx="2592360" cy="1747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2195640" y="2276640"/>
            <a:ext cx="2376360" cy="17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rcRect l="0" t="25817" r="0" b="16072"/>
          <a:stretch/>
        </p:blipFill>
        <p:spPr>
          <a:xfrm>
            <a:off x="3193920" y="2629080"/>
            <a:ext cx="275436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2700360" y="342900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0" y="692280"/>
            <a:ext cx="1908000" cy="1249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КТО ЕСТ СОН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1"/>
          <a:stretch/>
        </p:blipFill>
        <p:spPr>
          <a:xfrm>
            <a:off x="611280" y="3573360"/>
            <a:ext cx="2089080" cy="156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2"/>
          <a:stretch/>
        </p:blipFill>
        <p:spPr>
          <a:xfrm>
            <a:off x="7236000" y="2708280"/>
            <a:ext cx="1533240" cy="2305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250920" y="5113440"/>
            <a:ext cx="1396800" cy="1484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2414520" y="5010120"/>
            <a:ext cx="1870200" cy="184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3706920" y="4586400"/>
            <a:ext cx="172872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000"/>
                            </p:stCondLst>
                            <p:childTnLst>
                              <p:par>
                                <p:cTn id="2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xit" presetID="1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2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0382 -0.02151 L -0.00382 -0.25231 E">
                                      <p:cBhvr>
                                        <p:cTn id="261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4.72222E-006 3.82979E-006 L 0.09444 -0.43271 E">
                                      <p:cBhvr>
                                        <p:cTn id="263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3.61111E-006 4.14431E-006 L 0.18907 -0.21185 E">
                                      <p:cBhvr>
                                        <p:cTn id="265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22222E-006 -1.48936E-006 L 0.19705 -0.33696 E">
                                      <p:cBhvr>
                                        <p:cTn id="267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4" nodeType="afterEffect" fill="remove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05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07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5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10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4500"/>
                            </p:stCondLst>
                            <p:childTnLst>
                              <p:par>
                                <p:cTn id="313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6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5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500"/>
                            </p:stCondLst>
                            <p:childTnLst>
                              <p:par>
                                <p:cTn id="319" nodeType="after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5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СОНЮ НАДО БЕРЕЧ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6600" y="1557360"/>
            <a:ext cx="79261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38507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192720" cy="4330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330200" y="4365720"/>
            <a:ext cx="6842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4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6:10:09Z</dcterms:created>
  <dc:creator>VAV</dc:creator>
  <dc:description/>
  <dc:language>en-US</dc:language>
  <cp:lastModifiedBy>878</cp:lastModifiedBy>
  <dcterms:modified xsi:type="dcterms:W3CDTF">2012-06-22T06:57:38Z</dcterms:modified>
  <cp:revision>7</cp:revision>
  <dc:subject/>
  <dc:title>ОРЕШНИКОВАЯ СОНЯ</dc:title>
</cp:coreProperties>
</file>