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0.jpeg" ContentType="image/jpeg"/>
  <Override PartName="/ppt/media/image29.jpeg" ContentType="image/jpeg"/>
  <Override PartName="/ppt/media/image3.jpeg" ContentType="image/jpeg"/>
  <Override PartName="/ppt/media/image14.jpeg" ContentType="image/jpeg"/>
  <Override PartName="/ppt/media/image8.png" ContentType="image/png"/>
  <Override PartName="/ppt/media/image6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9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E66-20CD-459E-947C-82F1DB08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E06-6BF1-4AD8-9F90-1A351465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37F-972F-4F23-993F-4E389F6D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FC3-FC7A-4993-9E8D-3C30E5AF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EB7-9E83-4EBC-8F9F-F919BD40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0DE-131F-4463-B0FD-5E72975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700-CAE7-4002-A001-648B3977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196-6162-45AA-AEF7-9FB5CF50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EF7-74B6-4340-A681-B1E2E8C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4CC-A46A-45AF-8E05-9CE80784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523-58E4-4146-B150-9328FB0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226-AA32-43FE-A66D-2E11B972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5781-EC7F-4C39-8280-C4EED1E6A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ОРЕШНИКОВАЯ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СО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ЧЕНЬ РЕДКИЙ ЗВЕР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513396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163000">
            <a:off x="2123640" y="407664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4614000">
            <a:off x="3779640" y="3644640"/>
            <a:ext cx="1584360" cy="981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265600">
            <a:off x="5435280" y="2938320"/>
            <a:ext cx="1584360" cy="98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1454400">
            <a:off x="6516360" y="177336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236000" y="189000"/>
            <a:ext cx="1584000" cy="98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3280" y="5734080"/>
            <a:ext cx="54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атаев Ян – ученик 2 класса «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колы № 878 ЮАО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9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1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920" y="820800"/>
            <a:ext cx="9010800" cy="5992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06200" y="836640"/>
            <a:ext cx="8929800" cy="5962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ВОТ ТАКАЯ СО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907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МАЛЕНЬ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50920" y="1506600"/>
            <a:ext cx="4103640" cy="293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72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ЛЁГ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427640" y="1555920"/>
            <a:ext cx="4645080" cy="4537080"/>
            <a:chOff x="4427640" y="1555920"/>
            <a:chExt cx="4645080" cy="4537080"/>
          </a:xfrm>
        </p:grpSpPr>
        <p:grpSp>
          <p:nvGrpSpPr>
            <p:cNvPr id="57" name=""/>
            <p:cNvGrpSpPr/>
            <p:nvPr/>
          </p:nvGrpSpPr>
          <p:grpSpPr>
            <a:xfrm>
              <a:off x="4572000" y="1555920"/>
              <a:ext cx="4500720" cy="4238640"/>
              <a:chOff x="4572000" y="1555920"/>
              <a:chExt cx="4500720" cy="4238640"/>
            </a:xfrm>
          </p:grpSpPr>
          <p:pic>
            <p:nvPicPr>
              <p:cNvPr id="5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72000" y="1555920"/>
                <a:ext cx="4356000" cy="423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96360" y="4364280"/>
                <a:ext cx="1476360" cy="8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" descr=""/>
            <p:cNvPicPr/>
            <p:nvPr/>
          </p:nvPicPr>
          <p:blipFill>
            <a:blip r:embed="rId7"/>
            <a:srcRect l="6387" t="2678" r="3477" b="2678"/>
            <a:stretch/>
          </p:blipFill>
          <p:spPr>
            <a:xfrm>
              <a:off x="4427640" y="3572280"/>
              <a:ext cx="2016000" cy="25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 rot="5400000">
            <a:off x="1397880" y="4000680"/>
            <a:ext cx="2219400" cy="3406680"/>
          </a:xfrm>
          <a:custGeom>
            <a:avLst/>
            <a:gdLst>
              <a:gd name="textAreaLeft" fmla="*/ 320400 w 2219400"/>
              <a:gd name="textAreaRight" fmla="*/ 2062440 w 2219400"/>
              <a:gd name="textAreaTop" fmla="*/ 1040400 h 3406680"/>
              <a:gd name="textAreaBottom" fmla="*/ 3165480 h 3406680"/>
            </a:gdLst>
            <a:ahLst/>
            <a:rect l="textAreaLeft" t="textAreaTop" r="textAreaRight" b="textAreaBottom"/>
            <a:pathLst>
              <a:path w="21600" h="21600">
                <a:moveTo>
                  <a:pt x="0" y="13334"/>
                </a:moveTo>
                <a:lnTo>
                  <a:pt x="3118" y="5067"/>
                </a:lnTo>
                <a:lnTo>
                  <a:pt x="3118" y="6597"/>
                </a:lnTo>
                <a:lnTo>
                  <a:pt x="6597" y="6597"/>
                </a:lnTo>
                <a:lnTo>
                  <a:pt x="6597" y="3118"/>
                </a:lnTo>
                <a:lnTo>
                  <a:pt x="5067" y="3118"/>
                </a:lnTo>
                <a:lnTo>
                  <a:pt x="13334" y="0"/>
                </a:lnTo>
                <a:lnTo>
                  <a:pt x="21600" y="3118"/>
                </a:lnTo>
                <a:lnTo>
                  <a:pt x="20070" y="3118"/>
                </a:lnTo>
                <a:lnTo>
                  <a:pt x="20070" y="20070"/>
                </a:lnTo>
                <a:lnTo>
                  <a:pt x="3118" y="20070"/>
                </a:lnTo>
                <a:lnTo>
                  <a:pt x="3118" y="21600"/>
                </a:lnTo>
                <a:close/>
              </a:path>
            </a:pathLst>
          </a:custGeom>
          <a:blipFill rotWithShape="0">
            <a:blip r:embed="rId8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Рост 7-9 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Вес 27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2060640"/>
            <a:ext cx="6912000" cy="20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весёлая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35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" nodeType="afterEffect" fill="hold" presetClass="exit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20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20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48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4500"/>
                            </p:stCondLst>
                            <p:childTnLst>
                              <p:par>
                                <p:cTn id="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500"/>
                            </p:stCondLst>
                            <p:childTnLst>
                              <p:par>
                                <p:cTn id="92" nodeType="after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75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ГДЕ ЖИВЁТ СО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853920"/>
            <a:ext cx="7777080" cy="583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00720" y="824040"/>
            <a:ext cx="4419360" cy="5844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4110120" cy="308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155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В Москве соню можно встрет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rcRect l="5052" t="2149" r="4220" b="2573"/>
          <a:stretch/>
        </p:blipFill>
        <p:spPr>
          <a:xfrm>
            <a:off x="7020000" y="1916280"/>
            <a:ext cx="92052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rcRect l="5052" t="2149" r="4220" b="2573"/>
          <a:stretch/>
        </p:blipFill>
        <p:spPr>
          <a:xfrm>
            <a:off x="7667640" y="2708280"/>
            <a:ext cx="920880" cy="115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rcRect l="5052" t="2149" r="4220" b="2573"/>
          <a:stretch/>
        </p:blipFill>
        <p:spPr>
          <a:xfrm>
            <a:off x="5940360" y="4581360"/>
            <a:ext cx="92088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2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4360" y="765000"/>
            <a:ext cx="8820360" cy="609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КАК ЖИВЁТ СО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70200" y="3284640"/>
            <a:ext cx="36734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903"/>
                <a:gd name="adj2" fmla="val -1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ня много спи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96000" y="1125360"/>
            <a:ext cx="2449440" cy="1837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11280" y="981000"/>
            <a:ext cx="2232000" cy="2129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580000" y="4292640"/>
            <a:ext cx="2448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0" t="14172" r="0" b="14298"/>
          <a:stretch/>
        </p:blipFill>
        <p:spPr>
          <a:xfrm>
            <a:off x="196920" y="600120"/>
            <a:ext cx="8748720" cy="6257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18120" y="4873680"/>
            <a:ext cx="2586240" cy="1940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500720" y="3429000"/>
            <a:ext cx="2520720" cy="1746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ЧТО ЕСТ СО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rcRect l="15377" t="20129" r="10232" b="10626"/>
          <a:stretch/>
        </p:blipFill>
        <p:spPr>
          <a:xfrm>
            <a:off x="3995640" y="2133720"/>
            <a:ext cx="1728720" cy="1609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788000" y="2924280"/>
            <a:ext cx="2592360" cy="1747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2195640" y="2276640"/>
            <a:ext cx="2376360" cy="17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rcRect l="0" t="25817" r="0" b="16072"/>
          <a:stretch/>
        </p:blipFill>
        <p:spPr>
          <a:xfrm>
            <a:off x="3193920" y="2629080"/>
            <a:ext cx="275436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2700360" y="342900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0" y="692280"/>
            <a:ext cx="1908000" cy="1249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КТО ЕСТ СОН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611280" y="3573360"/>
            <a:ext cx="2089080" cy="156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7236000" y="2708280"/>
            <a:ext cx="153324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250920" y="5113440"/>
            <a:ext cx="1396800" cy="1484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2414520" y="5010120"/>
            <a:ext cx="1870200" cy="184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3706920" y="4586400"/>
            <a:ext cx="17287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2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382 -0.02151 L -0.00382 -0.25231 E">
                                      <p:cBhvr>
                                        <p:cTn id="261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72222E-006 3.82979E-006 L 0.09444 -0.43271 E">
                                      <p:cBhvr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3.61111E-006 4.14431E-006 L 0.18907 -0.21185 E">
                                      <p:cBhvr>
                                        <p:cTn id="265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-1.48936E-006 L 0.19705 -0.33696 E">
                                      <p:cBhvr>
                                        <p:cTn id="267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4" nodeType="afterEffect" fill="remove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07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5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10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4500"/>
                            </p:stCondLst>
                            <p:childTnLst>
                              <p:par>
                                <p:cTn id="313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6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5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500"/>
                            </p:stCondLst>
                            <p:childTnLst>
                              <p:par>
                                <p:cTn id="319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СОНЮ НАДО БЕРЕЧ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6600" y="1557360"/>
            <a:ext cx="79261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38507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192720" cy="4330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330200" y="4365720"/>
            <a:ext cx="6842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4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6:10:09Z</dcterms:created>
  <dc:creator>VAV</dc:creator>
  <dc:description/>
  <dc:language>en-US</dc:language>
  <cp:lastModifiedBy>878</cp:lastModifiedBy>
  <dcterms:modified xsi:type="dcterms:W3CDTF">2012-06-22T06:57:38Z</dcterms:modified>
  <cp:revision>7</cp:revision>
  <dc:subject/>
  <dc:title>ОРЕШНИКОВАЯ СОНЯ</dc:title>
</cp:coreProperties>
</file>