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23E-D6F1-4FF3-9408-1685050D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9F2-CC08-4528-9C79-3F952A9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7A8-FFFF-4BBE-9124-66FD0B01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3EA-DD7C-4B99-AB8B-B94A6ABB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3F7-29F1-4F07-9F82-5CA92B4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651-42F3-4E95-9311-92DE34F6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6B8-3CDB-40FC-AB3D-F15F3A63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040-E44D-4343-A4BB-727FE2B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265-F677-4D00-B8E9-2933E0C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495-672C-4F02-9036-132B41F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07F-94EA-4AE5-B5C4-46D3E9B3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D9B-5D40-40C8-9D56-B9C10CE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6F0-7008-4BD1-9E55-197B5FF9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187280" y="1773360"/>
            <a:ext cx="673596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. Атмосферные явления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935520"/>
            <a:ext cx="435780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21020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" descr="Картинка 3 из 125778"/>
          <p:cNvPicPr/>
          <p:nvPr/>
        </p:nvPicPr>
        <p:blipFill>
          <a:blip r:embed="rId3"/>
          <a:stretch/>
        </p:blipFill>
        <p:spPr>
          <a:xfrm>
            <a:off x="4713120" y="44280"/>
            <a:ext cx="43228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" descr="Картинка 14 из 125778"/>
          <p:cNvPicPr/>
          <p:nvPr/>
        </p:nvPicPr>
        <p:blipFill>
          <a:blip r:embed="rId4"/>
          <a:stretch/>
        </p:blipFill>
        <p:spPr>
          <a:xfrm>
            <a:off x="98280" y="115920"/>
            <a:ext cx="397692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3203640" y="189000"/>
            <a:ext cx="22827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060640"/>
            <a:ext cx="691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́лния — гигантский электрический искр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ряд в атмосфере, обычно происх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время гроз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является яркой вспышкой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опровождающим её гром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27 из 70634"/>
          <p:cNvPicPr/>
          <p:nvPr/>
        </p:nvPicPr>
        <p:blipFill>
          <a:blip r:embed="rId1"/>
          <a:stretch/>
        </p:blipFill>
        <p:spPr>
          <a:xfrm>
            <a:off x="4500720" y="44280"/>
            <a:ext cx="4643280" cy="2997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5400" y="115920"/>
            <a:ext cx="41893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Картинка 9 из 70634"/>
          <p:cNvPicPr/>
          <p:nvPr/>
        </p:nvPicPr>
        <p:blipFill>
          <a:blip r:embed="rId3"/>
          <a:stretch/>
        </p:blipFill>
        <p:spPr>
          <a:xfrm>
            <a:off x="92160" y="3933720"/>
            <a:ext cx="440856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Картинка 39 из 70634"/>
          <p:cNvPicPr/>
          <p:nvPr/>
        </p:nvPicPr>
        <p:blipFill>
          <a:blip r:embed="rId4"/>
          <a:stretch/>
        </p:blipFill>
        <p:spPr>
          <a:xfrm>
            <a:off x="4572000" y="3935520"/>
            <a:ext cx="44845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>
            <a:off x="3132000" y="189000"/>
            <a:ext cx="1751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987560"/>
            <a:ext cx="648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раж  — оптическое явление в атмосф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отражение света границей между ре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ными по плотности слоями возду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" y="979560"/>
            <a:ext cx="5833800" cy="583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27680" y="3241800"/>
            <a:ext cx="2381400" cy="3571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1692360" y="18900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55736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остояние 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ый момент време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ом 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31510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479736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древняя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 пог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 из 893"/>
          <p:cNvPicPr/>
          <p:nvPr/>
        </p:nvPicPr>
        <p:blipFill>
          <a:blip r:embed="rId1"/>
          <a:stretch/>
        </p:blipFill>
        <p:spPr>
          <a:xfrm>
            <a:off x="108000" y="115920"/>
            <a:ext cx="213048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" descr="Картинка 11 из 893"/>
          <p:cNvPicPr/>
          <p:nvPr/>
        </p:nvPicPr>
        <p:blipFill>
          <a:blip r:embed="rId2"/>
          <a:stretch/>
        </p:blipFill>
        <p:spPr>
          <a:xfrm>
            <a:off x="4751280" y="3525840"/>
            <a:ext cx="43149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4" name="" descr="Картинка 20 из 893"/>
          <p:cNvPicPr/>
          <p:nvPr/>
        </p:nvPicPr>
        <p:blipFill>
          <a:blip r:embed="rId3"/>
          <a:stretch/>
        </p:blipFill>
        <p:spPr>
          <a:xfrm>
            <a:off x="6300720" y="115920"/>
            <a:ext cx="242244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" descr="Картинка 52 из 893"/>
          <p:cNvPicPr/>
          <p:nvPr/>
        </p:nvPicPr>
        <p:blipFill>
          <a:blip r:embed="rId4"/>
          <a:stretch/>
        </p:blipFill>
        <p:spPr>
          <a:xfrm>
            <a:off x="108000" y="3575160"/>
            <a:ext cx="32385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187280" y="189000"/>
            <a:ext cx="582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ческие ст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Картинка 6 из 893"/>
          <p:cNvPicPr/>
          <p:nvPr/>
        </p:nvPicPr>
        <p:blipFill>
          <a:blip r:embed="rId5"/>
          <a:stretch/>
        </p:blipFill>
        <p:spPr>
          <a:xfrm>
            <a:off x="2843280" y="3087720"/>
            <a:ext cx="284796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1979640" y="1484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авляют прогноз пог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слушаем прогн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годы,но...сбывается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всег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 из 364"/>
          <p:cNvPicPr/>
          <p:nvPr/>
        </p:nvPicPr>
        <p:blipFill>
          <a:blip r:embed="rId1"/>
          <a:stretch/>
        </p:blipFill>
        <p:spPr>
          <a:xfrm>
            <a:off x="6732720" y="3003480"/>
            <a:ext cx="2257200" cy="3810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Картинка 6 из 364"/>
          <p:cNvPicPr/>
          <p:nvPr/>
        </p:nvPicPr>
        <p:blipFill>
          <a:blip r:embed="rId2"/>
          <a:stretch/>
        </p:blipFill>
        <p:spPr>
          <a:xfrm>
            <a:off x="114480" y="3003480"/>
            <a:ext cx="3809880" cy="3810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1" name="" descr="Картинка 11 из 364"/>
          <p:cNvPicPr/>
          <p:nvPr/>
        </p:nvPicPr>
        <p:blipFill>
          <a:blip r:embed="rId3"/>
          <a:stretch/>
        </p:blipFill>
        <p:spPr>
          <a:xfrm>
            <a:off x="108000" y="115920"/>
            <a:ext cx="3743280" cy="269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2" name="" descr="Картинка 2 из 364"/>
          <p:cNvPicPr/>
          <p:nvPr/>
        </p:nvPicPr>
        <p:blipFill>
          <a:blip r:embed="rId4"/>
          <a:stretch/>
        </p:blipFill>
        <p:spPr>
          <a:xfrm>
            <a:off x="3780000" y="4221000"/>
            <a:ext cx="304776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780000" y="119376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путники  несут на борту 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 помощью которых наблюдают за температурой поверхности Земли и облачным, снеговым и ледовым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00720" y="-27000"/>
            <a:ext cx="312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 из 364"/>
          <p:cNvPicPr/>
          <p:nvPr/>
        </p:nvPicPr>
        <p:blipFill>
          <a:blip r:embed="rId1"/>
          <a:stretch/>
        </p:blipFill>
        <p:spPr>
          <a:xfrm>
            <a:off x="5867280" y="4653000"/>
            <a:ext cx="3025800" cy="2014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Картинка 40 из 364"/>
          <p:cNvPicPr/>
          <p:nvPr/>
        </p:nvPicPr>
        <p:blipFill>
          <a:blip r:embed="rId2"/>
          <a:stretch/>
        </p:blipFill>
        <p:spPr>
          <a:xfrm>
            <a:off x="108000" y="4672080"/>
            <a:ext cx="3672000" cy="207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вый российский метеоспутник нового поколения «Метеор-М», а также микроспутник «БЛИЦ» выведены на орб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путник предназначен для оперативного получения прогнозов погоды, контроля и прогноза радиационной обстановки, контроля озонового слоя, а также для мониторинга морской поверхности, включая ледовую обстановку, для обеспечения судоходства в полярных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4653000"/>
            <a:ext cx="1492200" cy="2011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10 из 185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Картинка 27 из 6443"/>
          <p:cNvPicPr/>
          <p:nvPr/>
        </p:nvPicPr>
        <p:blipFill>
          <a:blip r:embed="rId2"/>
          <a:stretch/>
        </p:blipFill>
        <p:spPr>
          <a:xfrm>
            <a:off x="181080" y="2943360"/>
            <a:ext cx="6767280" cy="37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1547640" y="18900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557360"/>
            <a:ext cx="4646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часть воздуш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еана, состоящая из газ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зы воздуха бесцвет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3360"/>
            <a:ext cx="3240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месь азота и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еобходима для дыхания. Чистый кислород вызывает от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большое количество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углекислого газ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задерживает тепло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одяные пары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регулируют климат на Земле. Они охлаждаются и выпадают на землю в виде оса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5113440" cy="561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4000" y="11592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59280" y="189000"/>
          <a:ext cx="4249800" cy="6642000"/>
        </p:xfrm>
        <a:graphic>
          <a:graphicData uri="http://schemas.openxmlformats.org/drawingml/2006/table">
            <a:tbl>
              <a:tblPr/>
              <a:tblGrid>
                <a:gridCol w="2125800"/>
                <a:gridCol w="212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18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ные явления, с высотой 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копление озона, 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ше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44280"/>
            <a:ext cx="4484520" cy="674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67400" y="44280"/>
            <a:ext cx="4441680" cy="6742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2484360" y="189000"/>
            <a:ext cx="3927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ярное сия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7280" y="1700280"/>
            <a:ext cx="662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вечение верхних слоё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ы при их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заряженными частиц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612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8000" y="3502080"/>
            <a:ext cx="435780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440" y="117360"/>
            <a:ext cx="4318200" cy="324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Картинка 40 из 72333"/>
          <p:cNvPicPr/>
          <p:nvPr/>
        </p:nvPicPr>
        <p:blipFill>
          <a:blip r:embed="rId4"/>
          <a:stretch/>
        </p:blipFill>
        <p:spPr>
          <a:xfrm>
            <a:off x="4716360" y="3500280"/>
            <a:ext cx="43149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3203640" y="260280"/>
            <a:ext cx="216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ду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6000" y="220500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дуга возникает из-за то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солнечный свет испытыва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ломление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пельк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31:34Z</dcterms:modified>
  <cp:revision>18</cp:revision>
  <dc:subject/>
  <dc:title>Погода и климат</dc:title>
</cp:coreProperties>
</file>