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BD2-E396-4256-B8EB-77A41A0D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D40F-A191-464E-9279-CE2FE02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C823-790E-4257-9813-C2D51208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F8D-A6BD-4F66-A732-E69C7F86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1E2-8241-46CD-8D75-3BDC45492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C02-B13A-4109-965C-698C4D26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657C-0AB9-4789-A157-7C24AAFD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2A8-DAC0-454B-8FED-4199959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64E-5007-4427-A129-B0EE42E0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84A-5079-43C2-9A40-B339148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C4E-DE7F-46C6-ABA3-0C0644D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ADEB-35F4-4E27-97B6-DDC0C9A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BB31-ABDD-4E9B-8764-C3822454B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187280" y="1773360"/>
            <a:ext cx="673596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. Атмосферные явления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3935520"/>
            <a:ext cx="435780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21020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9" name="" descr="Картинка 3 из 125778"/>
          <p:cNvPicPr/>
          <p:nvPr/>
        </p:nvPicPr>
        <p:blipFill>
          <a:blip r:embed="rId3"/>
          <a:stretch/>
        </p:blipFill>
        <p:spPr>
          <a:xfrm>
            <a:off x="4713120" y="44280"/>
            <a:ext cx="43228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0" name="" descr="Картинка 14 из 125778"/>
          <p:cNvPicPr/>
          <p:nvPr/>
        </p:nvPicPr>
        <p:blipFill>
          <a:blip r:embed="rId4"/>
          <a:stretch/>
        </p:blipFill>
        <p:spPr>
          <a:xfrm>
            <a:off x="98280" y="115920"/>
            <a:ext cx="397692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1" name=""/>
          <p:cNvSpPr txBox="1"/>
          <p:nvPr/>
        </p:nvSpPr>
        <p:spPr>
          <a:xfrm>
            <a:off x="3203640" y="189000"/>
            <a:ext cx="22827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71640" y="2060640"/>
            <a:ext cx="691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́лния — гигантский электрический искров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азряд в атмосфере, обычно происхо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о время гроз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является яркой вспышкой св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 сопровождающим её гром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Картинка 27 из 70634"/>
          <p:cNvPicPr/>
          <p:nvPr/>
        </p:nvPicPr>
        <p:blipFill>
          <a:blip r:embed="rId1"/>
          <a:stretch/>
        </p:blipFill>
        <p:spPr>
          <a:xfrm>
            <a:off x="4500720" y="44280"/>
            <a:ext cx="4643280" cy="2997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5400" y="115920"/>
            <a:ext cx="41893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Картинка 9 из 70634"/>
          <p:cNvPicPr/>
          <p:nvPr/>
        </p:nvPicPr>
        <p:blipFill>
          <a:blip r:embed="rId3"/>
          <a:stretch/>
        </p:blipFill>
        <p:spPr>
          <a:xfrm>
            <a:off x="92160" y="3933720"/>
            <a:ext cx="440856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Картинка 39 из 70634"/>
          <p:cNvPicPr/>
          <p:nvPr/>
        </p:nvPicPr>
        <p:blipFill>
          <a:blip r:embed="rId4"/>
          <a:stretch/>
        </p:blipFill>
        <p:spPr>
          <a:xfrm>
            <a:off x="4572000" y="3935520"/>
            <a:ext cx="44845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7" name=""/>
          <p:cNvSpPr txBox="1"/>
          <p:nvPr/>
        </p:nvSpPr>
        <p:spPr>
          <a:xfrm>
            <a:off x="3132000" y="189000"/>
            <a:ext cx="17510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аж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6000" y="1987560"/>
            <a:ext cx="648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ираж  — оптическое явление в атмосфер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то отражение света границей между ре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ными по плотности слоями возду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480" y="979560"/>
            <a:ext cx="5833800" cy="583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27680" y="3241800"/>
            <a:ext cx="2381400" cy="3571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1692360" y="189000"/>
            <a:ext cx="1485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557360"/>
            <a:ext cx="4897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остояние атмосф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ый момент време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 данном мес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31510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4797360"/>
            <a:ext cx="338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древняя нау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 пог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5 из 893"/>
          <p:cNvPicPr/>
          <p:nvPr/>
        </p:nvPicPr>
        <p:blipFill>
          <a:blip r:embed="rId1"/>
          <a:stretch/>
        </p:blipFill>
        <p:spPr>
          <a:xfrm>
            <a:off x="108000" y="115920"/>
            <a:ext cx="213048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3" name="" descr="Картинка 11 из 893"/>
          <p:cNvPicPr/>
          <p:nvPr/>
        </p:nvPicPr>
        <p:blipFill>
          <a:blip r:embed="rId2"/>
          <a:stretch/>
        </p:blipFill>
        <p:spPr>
          <a:xfrm>
            <a:off x="4751280" y="3525840"/>
            <a:ext cx="43149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4" name="" descr="Картинка 20 из 893"/>
          <p:cNvPicPr/>
          <p:nvPr/>
        </p:nvPicPr>
        <p:blipFill>
          <a:blip r:embed="rId3"/>
          <a:stretch/>
        </p:blipFill>
        <p:spPr>
          <a:xfrm>
            <a:off x="6300720" y="115920"/>
            <a:ext cx="242244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" descr="Картинка 52 из 893"/>
          <p:cNvPicPr/>
          <p:nvPr/>
        </p:nvPicPr>
        <p:blipFill>
          <a:blip r:embed="rId4"/>
          <a:stretch/>
        </p:blipFill>
        <p:spPr>
          <a:xfrm>
            <a:off x="108000" y="3575160"/>
            <a:ext cx="32385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187280" y="189000"/>
            <a:ext cx="582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ологические станц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" descr="Картинка 6 из 893"/>
          <p:cNvPicPr/>
          <p:nvPr/>
        </p:nvPicPr>
        <p:blipFill>
          <a:blip r:embed="rId5"/>
          <a:stretch/>
        </p:blipFill>
        <p:spPr>
          <a:xfrm>
            <a:off x="2843280" y="3087720"/>
            <a:ext cx="284796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"/>
          <p:cNvSpPr txBox="1"/>
          <p:nvPr/>
        </p:nvSpPr>
        <p:spPr>
          <a:xfrm>
            <a:off x="1979640" y="1484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авляют прогноз погод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ы слушаем прогн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годы,но...сбывается 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 всег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Картинка 1 из 364"/>
          <p:cNvPicPr/>
          <p:nvPr/>
        </p:nvPicPr>
        <p:blipFill>
          <a:blip r:embed="rId1"/>
          <a:stretch/>
        </p:blipFill>
        <p:spPr>
          <a:xfrm>
            <a:off x="6732720" y="3003480"/>
            <a:ext cx="2257200" cy="3810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0" name="" descr="Картинка 6 из 364"/>
          <p:cNvPicPr/>
          <p:nvPr/>
        </p:nvPicPr>
        <p:blipFill>
          <a:blip r:embed="rId2"/>
          <a:stretch/>
        </p:blipFill>
        <p:spPr>
          <a:xfrm>
            <a:off x="114480" y="3003480"/>
            <a:ext cx="3809880" cy="3810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1" name="" descr="Картинка 11 из 364"/>
          <p:cNvPicPr/>
          <p:nvPr/>
        </p:nvPicPr>
        <p:blipFill>
          <a:blip r:embed="rId3"/>
          <a:stretch/>
        </p:blipFill>
        <p:spPr>
          <a:xfrm>
            <a:off x="108000" y="115920"/>
            <a:ext cx="3743280" cy="269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2" name="" descr="Картинка 2 из 364"/>
          <p:cNvPicPr/>
          <p:nvPr/>
        </p:nvPicPr>
        <p:blipFill>
          <a:blip r:embed="rId4"/>
          <a:stretch/>
        </p:blipFill>
        <p:spPr>
          <a:xfrm>
            <a:off x="3780000" y="4221000"/>
            <a:ext cx="3047760" cy="2286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780000" y="119376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путники  несут на борту прибо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с помощью которых наблюдают за температурой поверхности Земли и облачным, снеговым и ледовым покр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00720" y="-27000"/>
            <a:ext cx="3124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спутн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Картинка 4 из 364"/>
          <p:cNvPicPr/>
          <p:nvPr/>
        </p:nvPicPr>
        <p:blipFill>
          <a:blip r:embed="rId1"/>
          <a:stretch/>
        </p:blipFill>
        <p:spPr>
          <a:xfrm>
            <a:off x="5867280" y="4653000"/>
            <a:ext cx="3025800" cy="2014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6" name="" descr="Картинка 40 из 364"/>
          <p:cNvPicPr/>
          <p:nvPr/>
        </p:nvPicPr>
        <p:blipFill>
          <a:blip r:embed="rId2"/>
          <a:stretch/>
        </p:blipFill>
        <p:spPr>
          <a:xfrm>
            <a:off x="108000" y="4672080"/>
            <a:ext cx="3672000" cy="207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вый российский метеоспутник нового поколения «Метеор-М», а также микроспутник «БЛИЦ» выведены на орби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путник предназначен для оперативного получения прогнозов погоды, контроля и прогноза радиационной обстановки, контроля озонового слоя, а также для мониторинга морской поверхности, включая ледовую обстановку, для обеспечения судоходства в полярных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067280" y="4653000"/>
            <a:ext cx="1492200" cy="2011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Картинка 10 из 1858"/>
          <p:cNvPicPr/>
          <p:nvPr/>
        </p:nvPicPr>
        <p:blipFill>
          <a:blip r:embed="rId1"/>
          <a:stretch/>
        </p:blipFill>
        <p:spPr>
          <a:xfrm>
            <a:off x="142920" y="115920"/>
            <a:ext cx="8893080" cy="6673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0" name="" descr="Картинка 27 из 6443"/>
          <p:cNvPicPr/>
          <p:nvPr/>
        </p:nvPicPr>
        <p:blipFill>
          <a:blip r:embed="rId2"/>
          <a:stretch/>
        </p:blipFill>
        <p:spPr>
          <a:xfrm>
            <a:off x="181080" y="2943360"/>
            <a:ext cx="6767280" cy="37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" name=""/>
          <p:cNvSpPr txBox="1"/>
          <p:nvPr/>
        </p:nvSpPr>
        <p:spPr>
          <a:xfrm>
            <a:off x="1547640" y="18900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557360"/>
            <a:ext cx="46465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часть воздуш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кеана, состоящая из газ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зы воздуха бесцветн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333360"/>
            <a:ext cx="324036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Смесь азота и кислород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необходима для дыхания. Чистый кислород вызывает от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Небольшое количество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углекислого газ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задерживает тепло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Водяные пары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регулируют климат на Земле. Они охлаждаются и выпадают на землю в виде оса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1197000"/>
            <a:ext cx="5113440" cy="5616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24000" y="115920"/>
            <a:ext cx="4390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роение атмосфе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59280" y="189000"/>
          <a:ext cx="4249800" cy="6642000"/>
        </p:xfrm>
        <a:graphic>
          <a:graphicData uri="http://schemas.openxmlformats.org/drawingml/2006/table">
            <a:tbl>
              <a:tblPr/>
              <a:tblGrid>
                <a:gridCol w="2125800"/>
                <a:gridCol w="212400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18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ные явления, с высотой 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5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копление озона, 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ниж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ше 80 к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вышение темпера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44280"/>
            <a:ext cx="4484520" cy="67438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67400" y="44280"/>
            <a:ext cx="4441680" cy="6742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9" name=""/>
          <p:cNvSpPr txBox="1"/>
          <p:nvPr/>
        </p:nvSpPr>
        <p:spPr>
          <a:xfrm>
            <a:off x="2484360" y="189000"/>
            <a:ext cx="39276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лярное сия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7280" y="1700280"/>
            <a:ext cx="6624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свечение верхних слоё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тмосферы при их взаимодейств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заряженными частиц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лнечного вет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16360" y="115920"/>
            <a:ext cx="432612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8000" y="3502080"/>
            <a:ext cx="4357800" cy="324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9440" y="117360"/>
            <a:ext cx="4318200" cy="324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Картинка 40 из 72333"/>
          <p:cNvPicPr/>
          <p:nvPr/>
        </p:nvPicPr>
        <p:blipFill>
          <a:blip r:embed="rId4"/>
          <a:stretch/>
        </p:blipFill>
        <p:spPr>
          <a:xfrm>
            <a:off x="4716360" y="3500280"/>
            <a:ext cx="4314960" cy="3238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3203640" y="260280"/>
            <a:ext cx="216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дуг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16000" y="220500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дуга возникает из-за тог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то солнечный свет испытыва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ломление 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пельках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31:34Z</dcterms:modified>
  <cp:revision>18</cp:revision>
  <dc:subject/>
  <dc:title>Погода и климат</dc:title>
</cp:coreProperties>
</file>