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E86-4389-4875-A9A4-D4C57ABE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A0C-3732-44C7-9233-705ADAFB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3C1-2A81-4863-99CA-0A8260D8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ECF-CA9D-4CF4-BA60-E52D752B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7E6-586D-4B0D-B385-1404F8C8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4D2-A623-4903-B24D-1F286F4C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EC4-1A7D-41CF-8576-8EF7BA10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38D-FC46-4C08-B2D0-D95DB420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BDA-F46E-4580-A1D7-BD7B0F51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562-183D-4BF9-9B56-BB012B5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755-6845-4323-9A2C-70B8509D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00C-3B75-4B48-AD46-DB2821EB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7CFF-ADAD-46E6-BE0C-7739ED910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otoforum.ru/f/photo/000/038/38639_3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900000" y="1268280"/>
            <a:ext cx="755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и климат.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ое давление. Температура.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рязнение атмосферы.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04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08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971640" y="33336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414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908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944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65300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58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4291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005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414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42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270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26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4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284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25653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18446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110808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87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4000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19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47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6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92360" y="3429000"/>
            <a:ext cx="7189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411280" y="1989000"/>
            <a:ext cx="7207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32000" y="476280"/>
            <a:ext cx="71928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549360"/>
            <a:ext cx="720720" cy="21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708280"/>
            <a:ext cx="72072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9236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342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198900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206064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549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70828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7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3429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0" y="115920"/>
            <a:ext cx="4392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Изменение темпера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оздуха в течение су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1268280"/>
            <a:ext cx="2952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Суточная амплитуда температуры воздух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разница между самой высокой и самой низкой температурой воздуха в течение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Среднесуточная темпер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среднее арифметическое температур в течение одних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ебания температуры воздуха зависят от угла падения солнечных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5213520"/>
            <a:ext cx="3114720" cy="1600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161928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1763640" y="-27000"/>
            <a:ext cx="4829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ое давл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нижнем слое атмосферы сосредоточено 9/10 масс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оздух лёгкий, однако он оказывает на все тела значительное д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авление воздуха на человека составляет 15 тонн, но мы его не чувствуем, потому что давление внутри тела его уравновеш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тмосферное давление впервые было измерено прибором – ртутным баро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ормальным принято считать атмосферное давление, которое поднимает ртуть на высоту 760 мм на уровне моря на параллели 45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при температуре 0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Атмосферное давление изменяется с высотой и зависит от температур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0 из 465998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70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665360"/>
            <a:ext cx="4138560" cy="431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35640" y="333360"/>
            <a:ext cx="4357440" cy="431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250920" y="404640"/>
            <a:ext cx="4000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тутный баром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16360" y="5445000"/>
            <a:ext cx="404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арометр анерои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48 из 465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4280"/>
            <a:ext cx="8893080" cy="6775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79280" y="260280"/>
            <a:ext cx="8784360" cy="6337080"/>
            <a:chOff x="179280" y="260280"/>
            <a:chExt cx="8784360" cy="6337080"/>
          </a:xfrm>
        </p:grpSpPr>
        <p:cxnSp>
          <p:nvCxnSpPr>
            <p:cNvPr id="55" name="_s15406"/>
            <p:cNvCxnSpPr>
              <a:stCxn id="56" idx="0"/>
              <a:endCxn id="57" idx="2"/>
            </p:cNvCxnSpPr>
            <p:nvPr/>
          </p:nvCxnSpPr>
          <p:spPr>
            <a:xfrm flipV="1">
              <a:off x="6940440" y="5643720"/>
              <a:ext cx="4680" cy="321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5404"/>
            <p:cNvCxnSpPr>
              <a:stCxn id="59" idx="0"/>
              <a:endCxn id="60" idx="2"/>
            </p:cNvCxnSpPr>
            <p:nvPr/>
          </p:nvCxnSpPr>
          <p:spPr>
            <a:xfrm flipV="1">
              <a:off x="2210400" y="564804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5402"/>
            <p:cNvCxnSpPr>
              <a:stCxn id="57" idx="0"/>
              <a:endCxn id="62" idx="2"/>
            </p:cNvCxnSpPr>
            <p:nvPr/>
          </p:nvCxnSpPr>
          <p:spPr>
            <a:xfrm flipV="1">
              <a:off x="694044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5400"/>
            <p:cNvCxnSpPr>
              <a:stCxn id="60" idx="0"/>
              <a:endCxn id="64" idx="2"/>
            </p:cNvCxnSpPr>
            <p:nvPr/>
          </p:nvCxnSpPr>
          <p:spPr>
            <a:xfrm flipV="1">
              <a:off x="221040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5398"/>
            <p:cNvCxnSpPr>
              <a:stCxn id="62" idx="0"/>
              <a:endCxn id="66" idx="2"/>
            </p:cNvCxnSpPr>
            <p:nvPr/>
          </p:nvCxnSpPr>
          <p:spPr>
            <a:xfrm flipV="1">
              <a:off x="694044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5396"/>
            <p:cNvCxnSpPr>
              <a:stCxn id="64" idx="0"/>
              <a:endCxn id="68" idx="2"/>
            </p:cNvCxnSpPr>
            <p:nvPr/>
          </p:nvCxnSpPr>
          <p:spPr>
            <a:xfrm flipV="1">
              <a:off x="221040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5394"/>
            <p:cNvCxnSpPr>
              <a:stCxn id="68" idx="0"/>
              <a:endCxn id="70" idx="2"/>
            </p:cNvCxnSpPr>
            <p:nvPr/>
          </p:nvCxnSpPr>
          <p:spPr>
            <a:xfrm flipV="1">
              <a:off x="221040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5392"/>
            <p:cNvCxnSpPr>
              <a:stCxn id="66" idx="0"/>
              <a:endCxn id="72" idx="2"/>
            </p:cNvCxnSpPr>
            <p:nvPr/>
          </p:nvCxnSpPr>
          <p:spPr>
            <a:xfrm flipV="1">
              <a:off x="694044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5387"/>
            <p:cNvCxnSpPr>
              <a:stCxn id="70" idx="0"/>
              <a:endCxn id="74" idx="2"/>
            </p:cNvCxnSpPr>
            <p:nvPr/>
          </p:nvCxnSpPr>
          <p:spPr>
            <a:xfrm flipV="1" rot="16200000">
              <a:off x="205056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5382"/>
            <p:cNvCxnSpPr>
              <a:stCxn id="72" idx="0"/>
              <a:endCxn id="76" idx="2"/>
            </p:cNvCxnSpPr>
            <p:nvPr/>
          </p:nvCxnSpPr>
          <p:spPr>
            <a:xfrm flipV="1" rot="16200000">
              <a:off x="678060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5372"/>
            <p:cNvCxnSpPr>
              <a:stCxn id="76" idx="0"/>
              <a:endCxn id="78" idx="2"/>
            </p:cNvCxnSpPr>
            <p:nvPr/>
          </p:nvCxnSpPr>
          <p:spPr>
            <a:xfrm flipV="1" rot="16200000">
              <a:off x="5592600" y="-130680"/>
              <a:ext cx="321840" cy="236628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5370"/>
            <p:cNvCxnSpPr>
              <a:stCxn id="74" idx="0"/>
              <a:endCxn id="78" idx="2"/>
            </p:cNvCxnSpPr>
            <p:nvPr/>
          </p:nvCxnSpPr>
          <p:spPr>
            <a:xfrm flipH="1" flipV="1" rot="5400000">
              <a:off x="3227760" y="-129960"/>
              <a:ext cx="321840" cy="236520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5366"/>
            <p:cNvSpPr/>
            <p:nvPr/>
          </p:nvSpPr>
          <p:spPr>
            <a:xfrm>
              <a:off x="2543760" y="26028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Источни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загрязнения атмосфе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67"/>
            <p:cNvSpPr/>
            <p:nvPr/>
          </p:nvSpPr>
          <p:spPr>
            <a:xfrm>
              <a:off x="17928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Естест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69"/>
            <p:cNvSpPr/>
            <p:nvPr/>
          </p:nvSpPr>
          <p:spPr>
            <a:xfrm>
              <a:off x="490932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Искусстве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(антропогенные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1"/>
            <p:cNvSpPr/>
            <p:nvPr/>
          </p:nvSpPr>
          <p:spPr>
            <a:xfrm>
              <a:off x="49136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ромышленные пред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(фабрики и завод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5"/>
            <p:cNvSpPr/>
            <p:nvPr/>
          </p:nvSpPr>
          <p:spPr>
            <a:xfrm>
              <a:off x="1832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ыльные бу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5390"/>
            <p:cNvSpPr/>
            <p:nvPr/>
          </p:nvSpPr>
          <p:spPr>
            <a:xfrm>
              <a:off x="49136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ранспо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93"/>
            <p:cNvSpPr/>
            <p:nvPr/>
          </p:nvSpPr>
          <p:spPr>
            <a:xfrm>
              <a:off x="1832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улк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5395"/>
            <p:cNvSpPr/>
            <p:nvPr/>
          </p:nvSpPr>
          <p:spPr>
            <a:xfrm>
              <a:off x="1832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Лесные пожа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5397"/>
            <p:cNvSpPr/>
            <p:nvPr/>
          </p:nvSpPr>
          <p:spPr>
            <a:xfrm>
              <a:off x="49136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еплоэнерге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5399"/>
            <p:cNvSpPr/>
            <p:nvPr/>
          </p:nvSpPr>
          <p:spPr>
            <a:xfrm>
              <a:off x="183240" y="501444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ыветр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5401"/>
            <p:cNvSpPr/>
            <p:nvPr/>
          </p:nvSpPr>
          <p:spPr>
            <a:xfrm>
              <a:off x="4913640" y="501444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Космические корабли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самолё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5403"/>
            <p:cNvSpPr/>
            <p:nvPr/>
          </p:nvSpPr>
          <p:spPr>
            <a:xfrm>
              <a:off x="1832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Разло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умерших организм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5405"/>
            <p:cNvSpPr/>
            <p:nvPr/>
          </p:nvSpPr>
          <p:spPr>
            <a:xfrm>
              <a:off x="49136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Отопление жили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8764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35400" y="115920"/>
            <a:ext cx="38293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8000" y="3865680"/>
            <a:ext cx="3806640" cy="2876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3" name="" descr="Картинка 4 из 1569"/>
          <p:cNvPicPr/>
          <p:nvPr/>
        </p:nvPicPr>
        <p:blipFill>
          <a:blip r:embed="rId4"/>
          <a:stretch/>
        </p:blipFill>
        <p:spPr>
          <a:xfrm>
            <a:off x="5219640" y="3863880"/>
            <a:ext cx="384660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" descr="Z000-0940"/>
          <p:cNvPicPr/>
          <p:nvPr/>
        </p:nvPicPr>
        <p:blipFill>
          <a:blip r:embed="rId5"/>
          <a:stretch/>
        </p:blipFill>
        <p:spPr>
          <a:xfrm>
            <a:off x="2556000" y="2276640"/>
            <a:ext cx="3876480" cy="287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2124000" y="44280"/>
            <a:ext cx="4464000" cy="9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теств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06864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ыльные б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Лесные пож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1672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Вулк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Выветр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53006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Разложение умерши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6028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234936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0436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9640" y="260280"/>
            <a:ext cx="28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1636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48360" y="44280"/>
            <a:ext cx="388764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8000" y="3863880"/>
            <a:ext cx="383688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219640" y="3863880"/>
            <a:ext cx="381636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843280" y="1916280"/>
            <a:ext cx="3587760" cy="287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9" name=""/>
          <p:cNvSpPr txBox="1"/>
          <p:nvPr/>
        </p:nvSpPr>
        <p:spPr>
          <a:xfrm>
            <a:off x="2484360" y="189000"/>
            <a:ext cx="4438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ропог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997360"/>
            <a:ext cx="277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Фабрики, за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Теплоэнерг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299736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Самолё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4941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Отопление жил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38172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1989000"/>
            <a:ext cx="2872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604360" y="6308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272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Картинка 8 из 101434"/>
          <p:cNvPicPr/>
          <p:nvPr/>
        </p:nvPicPr>
        <p:blipFill>
          <a:blip r:embed="rId1"/>
          <a:stretch/>
        </p:blipFill>
        <p:spPr>
          <a:xfrm>
            <a:off x="108000" y="3862440"/>
            <a:ext cx="417672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03760" y="3863880"/>
            <a:ext cx="426096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0" name="" descr="Картинка 4 из 101434"/>
          <p:cNvPicPr/>
          <p:nvPr/>
        </p:nvPicPr>
        <p:blipFill>
          <a:blip r:embed="rId3"/>
          <a:stretch/>
        </p:blipFill>
        <p:spPr>
          <a:xfrm>
            <a:off x="108000" y="117360"/>
            <a:ext cx="4103640" cy="2917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1" name="" descr="Картинка 6 из 101434"/>
          <p:cNvPicPr/>
          <p:nvPr/>
        </p:nvPicPr>
        <p:blipFill>
          <a:blip r:embed="rId4"/>
          <a:stretch/>
        </p:blipFill>
        <p:spPr>
          <a:xfrm>
            <a:off x="4653000" y="189000"/>
            <a:ext cx="43117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3276720" y="44280"/>
            <a:ext cx="1942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мо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6920" y="1989000"/>
            <a:ext cx="44658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ядовитый туман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оящий из дыма, пы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паров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257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5" name="" descr="Картинка 7 из 4818"/>
          <p:cNvPicPr/>
          <p:nvPr/>
        </p:nvPicPr>
        <p:blipFill>
          <a:blip r:embed="rId2"/>
          <a:stretch/>
        </p:blipFill>
        <p:spPr>
          <a:xfrm>
            <a:off x="108000" y="3933720"/>
            <a:ext cx="403236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433224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7" name="" descr="Картинка 28 из 4818"/>
          <p:cNvPicPr/>
          <p:nvPr/>
        </p:nvPicPr>
        <p:blipFill>
          <a:blip r:embed="rId4"/>
          <a:stretch/>
        </p:blipFill>
        <p:spPr>
          <a:xfrm>
            <a:off x="5199120" y="44280"/>
            <a:ext cx="383688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18" name=""/>
          <p:cNvSpPr txBox="1"/>
          <p:nvPr/>
        </p:nvSpPr>
        <p:spPr>
          <a:xfrm>
            <a:off x="2050920" y="189000"/>
            <a:ext cx="50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логический контро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63640" y="1916280"/>
            <a:ext cx="4896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новными задача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кологического контрол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являются наблюдение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стоянием окружающ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родной среды и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м под влия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хозяйственной 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5394240" cy="360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621240" y="3214800"/>
            <a:ext cx="5487840" cy="3598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олнечная радиация нагревает земную поверхность, т. е. поверхность воды и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Условия нагревания воды и суши весьма разли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Теплоемкость воды в два раза больше теплоемкости пород, слагающих с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Это значит, что при одинаковом количестве тепла суша нагревается вдвое сильнее воды, при охлаждении соотношение обра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роме того, вода при нагревании испаряется, на что затрачивается немалое количество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суше тепло сосредоточивается только в верхнем слое, лишь небольшая его часть передается в глуб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воде же лучи пронизывают и нагревают сразу значительную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еще большую глубину тепло передается вертикальным перемешиванием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результате вода накапливает тепла гораздо больше, чем суша, удерживает его дольше и расходует равномер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на медленнее нагревается и охлажд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340000" y="44280"/>
            <a:ext cx="42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08:02Z</dcterms:created>
  <dc:creator>Бочкова И.А.</dc:creator>
  <dc:description/>
  <dc:language>en-US</dc:language>
  <cp:lastModifiedBy>User</cp:lastModifiedBy>
  <dcterms:modified xsi:type="dcterms:W3CDTF">2012-06-21T17:46:31Z</dcterms:modified>
  <cp:revision>20</cp:revision>
  <dc:subject/>
  <dc:title>Погода и климат</dc:title>
</cp:coreProperties>
</file>