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7D0-1203-44CF-8D9A-C5B733F4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F56-0D0A-4E59-B94D-B45E2B8A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5ED-8C09-4C8B-9EA0-EC3266C8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09D-C291-425A-9323-0E6AFE90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C9F-88DF-4011-B9AF-68E7CEB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C73-D673-43C5-BE8C-62C3F859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7B96-94B4-40E9-BB89-15F4E12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B87-DE8D-408B-AE06-2BBB2E2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B3D-9913-4115-BA6A-E770DDC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51B-4A30-451B-ADC0-1027CC8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B67-EFEB-4116-BD45-542E2DC8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53D-22B2-4694-B322-13C7B47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B1A-03E0-4A02-B77E-3F637DE7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hotoforum.ru/f/photo/000/038/38639_3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1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900000" y="1268280"/>
            <a:ext cx="755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года и климат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. Температура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грязнение атмосферы.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04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Ленинградская область, Волховский район,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МОБУ «Сясьстройская СОШ №2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08640"/>
            <a:ext cx="338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Соста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учитель биологии и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Бочкова И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971640" y="33336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414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908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89440" y="4005360"/>
            <a:ext cx="2872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4005360"/>
            <a:ext cx="2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65300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58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4291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0053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414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26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49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2846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25653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18446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110808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87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9640" y="3357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19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47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92360" y="3429000"/>
            <a:ext cx="7189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411280" y="1989000"/>
            <a:ext cx="72072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32000" y="476280"/>
            <a:ext cx="719280" cy="15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549360"/>
            <a:ext cx="720720" cy="215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708280"/>
            <a:ext cx="720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92360" y="429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87280" y="1989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32000" y="2060640"/>
            <a:ext cx="0" cy="18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54936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70828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781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3429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350028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0" y="115920"/>
            <a:ext cx="4392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Изменение температу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воздуха в течение сут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1268280"/>
            <a:ext cx="2952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Суточная амплитуда температуры воздух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разница между самой высокой и самой низкой температурой воздуха в течение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Среднесуточная темпера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реднее арифметическое температур в течение одних с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ебания температуры воздуха зависят от угла падения солнечных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56000" y="5213520"/>
            <a:ext cx="3114720" cy="1600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161928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1763640" y="-27000"/>
            <a:ext cx="4829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мосферное давл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нижнем слое атмосферы сосредоточено 9/10 масс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здух лёгкий, однако он оказывает на все тела значительное д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авление воздуха на человека составляет 15 тонн, но мы его не чувствуем, потому что давление внутри тела его уравновеш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тмосферное давление впервые было измерено прибором – ртутным баро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ормальным принято считать атмосферное давление, которое поднимает ртуть на высоту 760 мм на уровне моря на параллели 45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 при температуре 0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тмосферное давление изменяется с высотой и зависит от температуры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Картинка 0 из 465998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70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665360"/>
            <a:ext cx="413856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35640" y="333360"/>
            <a:ext cx="4357440" cy="431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1" name=""/>
          <p:cNvSpPr txBox="1"/>
          <p:nvPr/>
        </p:nvSpPr>
        <p:spPr>
          <a:xfrm>
            <a:off x="250920" y="404640"/>
            <a:ext cx="40003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тутный баромет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16360" y="5445000"/>
            <a:ext cx="4048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арометр анеро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Картинка 48 из 465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4280"/>
            <a:ext cx="8893080" cy="6775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79280" y="260280"/>
            <a:ext cx="8784360" cy="6337080"/>
            <a:chOff x="179280" y="260280"/>
            <a:chExt cx="8784360" cy="6337080"/>
          </a:xfrm>
        </p:grpSpPr>
        <p:cxnSp>
          <p:nvCxnSpPr>
            <p:cNvPr id="55" name="_s15406"/>
            <p:cNvCxnSpPr>
              <a:stCxn id="56" idx="0"/>
              <a:endCxn id="57" idx="2"/>
            </p:cNvCxnSpPr>
            <p:nvPr/>
          </p:nvCxnSpPr>
          <p:spPr>
            <a:xfrm flipV="1">
              <a:off x="6940440" y="5643720"/>
              <a:ext cx="4680" cy="321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5404"/>
            <p:cNvCxnSpPr>
              <a:stCxn id="59" idx="0"/>
              <a:endCxn id="60" idx="2"/>
            </p:cNvCxnSpPr>
            <p:nvPr/>
          </p:nvCxnSpPr>
          <p:spPr>
            <a:xfrm flipV="1">
              <a:off x="2210400" y="564804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5402"/>
            <p:cNvCxnSpPr>
              <a:stCxn id="57" idx="0"/>
              <a:endCxn id="62" idx="2"/>
            </p:cNvCxnSpPr>
            <p:nvPr/>
          </p:nvCxnSpPr>
          <p:spPr>
            <a:xfrm flipV="1">
              <a:off x="694044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5400"/>
            <p:cNvCxnSpPr>
              <a:stCxn id="60" idx="0"/>
              <a:endCxn id="64" idx="2"/>
            </p:cNvCxnSpPr>
            <p:nvPr/>
          </p:nvCxnSpPr>
          <p:spPr>
            <a:xfrm flipV="1">
              <a:off x="2210400" y="4697280"/>
              <a:ext cx="4680" cy="31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5398"/>
            <p:cNvCxnSpPr>
              <a:stCxn id="62" idx="0"/>
              <a:endCxn id="66" idx="2"/>
            </p:cNvCxnSpPr>
            <p:nvPr/>
          </p:nvCxnSpPr>
          <p:spPr>
            <a:xfrm flipV="1">
              <a:off x="694044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5396"/>
            <p:cNvCxnSpPr>
              <a:stCxn id="64" idx="0"/>
              <a:endCxn id="68" idx="2"/>
            </p:cNvCxnSpPr>
            <p:nvPr/>
          </p:nvCxnSpPr>
          <p:spPr>
            <a:xfrm flipV="1">
              <a:off x="2210400" y="3748320"/>
              <a:ext cx="4680" cy="31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5394"/>
            <p:cNvCxnSpPr>
              <a:stCxn id="68" idx="0"/>
              <a:endCxn id="70" idx="2"/>
            </p:cNvCxnSpPr>
            <p:nvPr/>
          </p:nvCxnSpPr>
          <p:spPr>
            <a:xfrm flipV="1">
              <a:off x="221040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5392"/>
            <p:cNvCxnSpPr>
              <a:stCxn id="66" idx="0"/>
              <a:endCxn id="72" idx="2"/>
            </p:cNvCxnSpPr>
            <p:nvPr/>
          </p:nvCxnSpPr>
          <p:spPr>
            <a:xfrm flipV="1">
              <a:off x="6940440" y="2795400"/>
              <a:ext cx="4680" cy="31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5387"/>
            <p:cNvCxnSpPr>
              <a:stCxn id="70" idx="0"/>
              <a:endCxn id="74" idx="2"/>
            </p:cNvCxnSpPr>
            <p:nvPr/>
          </p:nvCxnSpPr>
          <p:spPr>
            <a:xfrm flipV="1" rot="16200000">
              <a:off x="205056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5382"/>
            <p:cNvCxnSpPr>
              <a:stCxn id="72" idx="0"/>
              <a:endCxn id="76" idx="2"/>
            </p:cNvCxnSpPr>
            <p:nvPr/>
          </p:nvCxnSpPr>
          <p:spPr>
            <a:xfrm flipV="1" rot="16200000">
              <a:off x="6780600" y="1999800"/>
              <a:ext cx="315360" cy="4680"/>
            </a:xfrm>
            <a:prstGeom prst="bentConnector3">
              <a:avLst>
                <a:gd name="adj1" fmla="val 49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5372"/>
            <p:cNvCxnSpPr>
              <a:stCxn id="76" idx="0"/>
              <a:endCxn id="78" idx="2"/>
            </p:cNvCxnSpPr>
            <p:nvPr/>
          </p:nvCxnSpPr>
          <p:spPr>
            <a:xfrm flipV="1" rot="16200000">
              <a:off x="5592600" y="-130680"/>
              <a:ext cx="321840" cy="236628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5370"/>
            <p:cNvCxnSpPr>
              <a:stCxn id="74" idx="0"/>
              <a:endCxn id="78" idx="2"/>
            </p:cNvCxnSpPr>
            <p:nvPr/>
          </p:nvCxnSpPr>
          <p:spPr>
            <a:xfrm flipH="1" flipV="1" rot="5400000">
              <a:off x="3227760" y="-129960"/>
              <a:ext cx="321840" cy="2365200"/>
            </a:xfrm>
            <a:prstGeom prst="bentConnector3">
              <a:avLst>
                <a:gd name="adj1" fmla="val 493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5366"/>
            <p:cNvSpPr/>
            <p:nvPr/>
          </p:nvSpPr>
          <p:spPr>
            <a:xfrm>
              <a:off x="2543760" y="26028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Источни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9900"/>
                  </a:solidFill>
                  <a:latin typeface="Arial"/>
                </a:rPr>
                <a:t>загрязнения атмосф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67"/>
            <p:cNvSpPr/>
            <p:nvPr/>
          </p:nvSpPr>
          <p:spPr>
            <a:xfrm>
              <a:off x="17928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Естестве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69"/>
            <p:cNvSpPr/>
            <p:nvPr/>
          </p:nvSpPr>
          <p:spPr>
            <a:xfrm>
              <a:off x="4909320" y="1211040"/>
              <a:ext cx="405432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Искусстве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(антропогенные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1"/>
            <p:cNvSpPr/>
            <p:nvPr/>
          </p:nvSpPr>
          <p:spPr>
            <a:xfrm>
              <a:off x="49136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ромышленные предприят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(фабрики и заводы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5"/>
            <p:cNvSpPr/>
            <p:nvPr/>
          </p:nvSpPr>
          <p:spPr>
            <a:xfrm>
              <a:off x="183240" y="216180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Пыльные бу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5390"/>
            <p:cNvSpPr/>
            <p:nvPr/>
          </p:nvSpPr>
          <p:spPr>
            <a:xfrm>
              <a:off x="49136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ранспор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93"/>
            <p:cNvSpPr/>
            <p:nvPr/>
          </p:nvSpPr>
          <p:spPr>
            <a:xfrm>
              <a:off x="183240" y="311292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улк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5395"/>
            <p:cNvSpPr/>
            <p:nvPr/>
          </p:nvSpPr>
          <p:spPr>
            <a:xfrm>
              <a:off x="1832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Лесные пожа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5397"/>
            <p:cNvSpPr/>
            <p:nvPr/>
          </p:nvSpPr>
          <p:spPr>
            <a:xfrm>
              <a:off x="4913640" y="406368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Теплоэнерге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5399"/>
            <p:cNvSpPr/>
            <p:nvPr/>
          </p:nvSpPr>
          <p:spPr>
            <a:xfrm>
              <a:off x="183240" y="5014440"/>
              <a:ext cx="4050000" cy="633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Выветр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5401"/>
            <p:cNvSpPr/>
            <p:nvPr/>
          </p:nvSpPr>
          <p:spPr>
            <a:xfrm>
              <a:off x="4913640" y="501444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Космические корабли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самолё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5403"/>
            <p:cNvSpPr/>
            <p:nvPr/>
          </p:nvSpPr>
          <p:spPr>
            <a:xfrm>
              <a:off x="1832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Разлож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умерших организм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5405"/>
            <p:cNvSpPr/>
            <p:nvPr/>
          </p:nvSpPr>
          <p:spPr>
            <a:xfrm>
              <a:off x="4913640" y="5965560"/>
              <a:ext cx="4050000" cy="631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cc"/>
                  </a:solidFill>
                  <a:latin typeface="Arial"/>
                </a:rPr>
                <a:t>Отопление жили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387648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135400" y="115920"/>
            <a:ext cx="38293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08000" y="3865680"/>
            <a:ext cx="3806640" cy="28764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3" name="" descr="Картинка 4 из 1569"/>
          <p:cNvPicPr/>
          <p:nvPr/>
        </p:nvPicPr>
        <p:blipFill>
          <a:blip r:embed="rId4"/>
          <a:stretch/>
        </p:blipFill>
        <p:spPr>
          <a:xfrm>
            <a:off x="5219640" y="3863880"/>
            <a:ext cx="384660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4" name="" descr="Z000-0940"/>
          <p:cNvPicPr/>
          <p:nvPr/>
        </p:nvPicPr>
        <p:blipFill>
          <a:blip r:embed="rId5"/>
          <a:stretch/>
        </p:blipFill>
        <p:spPr>
          <a:xfrm>
            <a:off x="2556000" y="2276640"/>
            <a:ext cx="3876480" cy="287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5" name=""/>
          <p:cNvSpPr txBox="1"/>
          <p:nvPr/>
        </p:nvSpPr>
        <p:spPr>
          <a:xfrm>
            <a:off x="2124000" y="44280"/>
            <a:ext cx="4464000" cy="9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еств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068640"/>
            <a:ext cx="23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ыльные бу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Лесные пож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1672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Вулка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Выветр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530064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Разложение умерши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028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34936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04360" y="6308640"/>
            <a:ext cx="287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459640" y="260280"/>
            <a:ext cx="287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1636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148360" y="44280"/>
            <a:ext cx="3887640" cy="2881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08000" y="3863880"/>
            <a:ext cx="383688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19640" y="3863880"/>
            <a:ext cx="381636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843280" y="1916280"/>
            <a:ext cx="3587760" cy="2877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99" name=""/>
          <p:cNvSpPr txBox="1"/>
          <p:nvPr/>
        </p:nvSpPr>
        <p:spPr>
          <a:xfrm>
            <a:off x="2484360" y="189000"/>
            <a:ext cx="44388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нтропогенные загрязнени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97360"/>
            <a:ext cx="2771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Фабрики, за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. Теплоэнерг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2997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4. Самолё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4941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. Отопление жили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38172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989000"/>
            <a:ext cx="28728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604360" y="6308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32720" y="18900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Картинка 8 из 101434"/>
          <p:cNvPicPr/>
          <p:nvPr/>
        </p:nvPicPr>
        <p:blipFill>
          <a:blip r:embed="rId1"/>
          <a:stretch/>
        </p:blipFill>
        <p:spPr>
          <a:xfrm>
            <a:off x="108000" y="3862440"/>
            <a:ext cx="4176720" cy="2879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03760" y="3863880"/>
            <a:ext cx="426096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0" name="" descr="Картинка 4 из 101434"/>
          <p:cNvPicPr/>
          <p:nvPr/>
        </p:nvPicPr>
        <p:blipFill>
          <a:blip r:embed="rId3"/>
          <a:stretch/>
        </p:blipFill>
        <p:spPr>
          <a:xfrm>
            <a:off x="108000" y="117360"/>
            <a:ext cx="4103640" cy="2917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1" name="" descr="Картинка 6 из 101434"/>
          <p:cNvPicPr/>
          <p:nvPr/>
        </p:nvPicPr>
        <p:blipFill>
          <a:blip r:embed="rId4"/>
          <a:stretch/>
        </p:blipFill>
        <p:spPr>
          <a:xfrm>
            <a:off x="4653000" y="189000"/>
            <a:ext cx="43117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3276720" y="44280"/>
            <a:ext cx="1942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мо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6920" y="1989000"/>
            <a:ext cx="44658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- это ядовитый туман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стоящий из дыма, пы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 паров в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382572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5" name="" descr="Картинка 7 из 4818"/>
          <p:cNvPicPr/>
          <p:nvPr/>
        </p:nvPicPr>
        <p:blipFill>
          <a:blip r:embed="rId2"/>
          <a:stretch/>
        </p:blipFill>
        <p:spPr>
          <a:xfrm>
            <a:off x="108000" y="3933720"/>
            <a:ext cx="403236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4332240" cy="2878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17" name="" descr="Картинка 28 из 4818"/>
          <p:cNvPicPr/>
          <p:nvPr/>
        </p:nvPicPr>
        <p:blipFill>
          <a:blip r:embed="rId4"/>
          <a:stretch/>
        </p:blipFill>
        <p:spPr>
          <a:xfrm>
            <a:off x="5199120" y="44280"/>
            <a:ext cx="3836880" cy="28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18" name=""/>
          <p:cNvSpPr txBox="1"/>
          <p:nvPr/>
        </p:nvSpPr>
        <p:spPr>
          <a:xfrm>
            <a:off x="2050920" y="189000"/>
            <a:ext cx="5058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ологический контро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63640" y="1916280"/>
            <a:ext cx="4896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Основными задачам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ого контрол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являются наблюдение з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стоянием окружающ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родной среды и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м под влияни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хозяйственной деятельн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5394240" cy="360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21240" y="3214800"/>
            <a:ext cx="5487840" cy="3598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олнечная радиация нагревает земную поверхность, т. е. поверхность воды и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Условия нагревания воды и суши весьма разли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Теплоемкость воды в два раза больше теплоемкости пород, слагающих с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Это значит, что при одинаковом количестве тепла суша нагревается вдвое сильнее воды, при охлаждении соотношение обра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Кроме того, вода при нагревании испаряется, на что затрачивается немалое количество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суше тепло сосредоточивается только в верхнем слое, лишь небольшая его часть передается в глуб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воде же лучи пронизывают и нагревают сразу значительную тол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На еще большую глубину тепло передается вертикальным перемешиванием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В результате вода накапливает тепла гораздо больше, чем суша, удерживает его дольше и расходует равномер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Она медленнее нагревается и охлаж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340000" y="44280"/>
            <a:ext cx="4295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пература воздух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чкова И.А.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3:08:02Z</dcterms:created>
  <dc:creator>Бочкова И.А.</dc:creator>
  <dc:description/>
  <dc:language>en-US</dc:language>
  <cp:lastModifiedBy>User</cp:lastModifiedBy>
  <dcterms:modified xsi:type="dcterms:W3CDTF">2012-06-21T17:46:31Z</dcterms:modified>
  <cp:revision>20</cp:revision>
  <dc:subject/>
  <dc:title>Погода и климат</dc:title>
</cp:coreProperties>
</file>