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E553-2D0C-46DE-9762-80B3C30C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E63-91AC-4201-8050-2CB729D8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27F-1695-4A9D-B052-206B7AAB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9BDC-0618-48E2-A560-5728A417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0E99-F052-49AE-A141-71B4E22C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1FD-C725-4716-9D8B-AC53B92B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7B6-6408-4004-BE1B-CA1C7118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606F-486C-4C80-AC8C-84E4F642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9F2-F848-466F-A8C2-45CFF9E9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CEB-96D0-4AC0-80AF-0C79DC89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738-F3AF-48B5-813C-0A4733BF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A638-3FD3-4028-B73E-18825A84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FA24-E141-451B-841C-28AC9DF3E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foto.nedoma.ru/data/500/15266copy-med.jpg" TargetMode="External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hyperlink" Target="http://10f.ru/data/images/5aa64c18c46a218267928b1cc5ed890b51407_standart.jpg" TargetMode="External"/><Relationship Id="rId5" Type="http://schemas.openxmlformats.org/officeDocument/2006/relationships/image" Target="../media/image40.jpeg"/><Relationship Id="rId6" Type="http://schemas.openxmlformats.org/officeDocument/2006/relationships/hyperlink" Target="http://static.diary.ru/userdir/1/7/3/5/173510/35906713.jpg" TargetMode="Externa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1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1187280" y="2276640"/>
            <a:ext cx="680724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года и климат.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тер. Влажность воздуха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40464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508640"/>
            <a:ext cx="33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Бочкова И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Картинка 59 из 817"/>
          <p:cNvPicPr/>
          <p:nvPr/>
        </p:nvPicPr>
        <p:blipFill>
          <a:blip r:embed="rId1"/>
          <a:stretch/>
        </p:blipFill>
        <p:spPr>
          <a:xfrm>
            <a:off x="108000" y="3429000"/>
            <a:ext cx="4535280" cy="3335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7" name="" descr="Картинка 67 из 817"/>
          <p:cNvPicPr/>
          <p:nvPr/>
        </p:nvPicPr>
        <p:blipFill>
          <a:blip r:embed="rId2"/>
          <a:stretch/>
        </p:blipFill>
        <p:spPr>
          <a:xfrm>
            <a:off x="4643280" y="3429000"/>
            <a:ext cx="4448160" cy="3335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8" name="" descr="Картинка 102 из 817"/>
          <p:cNvPicPr/>
          <p:nvPr/>
        </p:nvPicPr>
        <p:blipFill>
          <a:blip r:embed="rId3"/>
          <a:stretch/>
        </p:blipFill>
        <p:spPr>
          <a:xfrm>
            <a:off x="115920" y="115920"/>
            <a:ext cx="4527360" cy="3336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9" name="" descr="Картинка 123 из 817"/>
          <p:cNvPicPr/>
          <p:nvPr/>
        </p:nvPicPr>
        <p:blipFill>
          <a:blip r:embed="rId4"/>
          <a:stretch/>
        </p:blipFill>
        <p:spPr>
          <a:xfrm>
            <a:off x="4643280" y="115920"/>
            <a:ext cx="4427640" cy="3335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0" name=""/>
          <p:cNvSpPr txBox="1"/>
          <p:nvPr/>
        </p:nvSpPr>
        <p:spPr>
          <a:xfrm>
            <a:off x="2268360" y="2492280"/>
            <a:ext cx="447048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учевые облака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носят ливн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сад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Картинка 10 из 261"/>
          <p:cNvPicPr/>
          <p:nvPr/>
        </p:nvPicPr>
        <p:blipFill>
          <a:blip r:embed="rId1"/>
          <a:stretch/>
        </p:blipFill>
        <p:spPr>
          <a:xfrm>
            <a:off x="3995640" y="73080"/>
            <a:ext cx="5077080" cy="328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2" name="" descr="Картинка 138 из 261"/>
          <p:cNvPicPr/>
          <p:nvPr/>
        </p:nvPicPr>
        <p:blipFill>
          <a:blip r:embed="rId2"/>
          <a:stretch/>
        </p:blipFill>
        <p:spPr>
          <a:xfrm>
            <a:off x="103320" y="73080"/>
            <a:ext cx="4324320" cy="328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3" name="" descr="Картинка 94 из 261"/>
          <p:cNvPicPr/>
          <p:nvPr/>
        </p:nvPicPr>
        <p:blipFill>
          <a:blip r:embed="rId3"/>
          <a:stretch/>
        </p:blipFill>
        <p:spPr>
          <a:xfrm>
            <a:off x="108000" y="3357720"/>
            <a:ext cx="4608360" cy="3409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4" name="" descr="Картинка 84 из 261"/>
          <p:cNvPicPr/>
          <p:nvPr/>
        </p:nvPicPr>
        <p:blipFill>
          <a:blip r:embed="rId4"/>
          <a:stretch/>
        </p:blipFill>
        <p:spPr>
          <a:xfrm>
            <a:off x="4356000" y="3357720"/>
            <a:ext cx="4700520" cy="3408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5" name=""/>
          <p:cNvSpPr txBox="1"/>
          <p:nvPr/>
        </p:nvSpPr>
        <p:spPr>
          <a:xfrm>
            <a:off x="1619280" y="2492280"/>
            <a:ext cx="582444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лоистые облака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носят долговремен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садки (морось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Картинка 5 из 321715"/>
          <p:cNvPicPr/>
          <p:nvPr/>
        </p:nvPicPr>
        <p:blipFill>
          <a:blip r:embed="rId1"/>
          <a:stretch/>
        </p:blipFill>
        <p:spPr>
          <a:xfrm>
            <a:off x="108000" y="3357720"/>
            <a:ext cx="5103720" cy="3409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67320" y="3429000"/>
            <a:ext cx="4541760" cy="3357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5240" y="115920"/>
            <a:ext cx="4533840" cy="3408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08000" y="92160"/>
            <a:ext cx="4545000" cy="3408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5183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 понижением температуры водяной пар превращается в туман или обл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апельки и кристаллы облаков при определенных условиях укрупняются и достигают такой величины, что могут преодолеть восходящие токи и сопротивление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таком случае выпадают атмосферные осадки, главным образом дождь и снег, иногда морось, крупа, гр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Дождь состоит из капель диаметром 0,5 мм и 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Морось имеет мелкие капли, диаметром не более 0,5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нег — твердые осадки в виде ледяных кристаллов различной формы. Он образуется при низких температурах. Падая, особенно в теплую (около 0 °С) погоду, снежинки соединяются в хлопья. Снегопады приводят к возникновению снежного пок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рупа выпадает преимущественно весной и осенью при температурах, близких к нулю. Она имеет вид округлых ядрышек, или мягких (снежная крупа), или твердых с белым ядром (ледяная круп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95640" y="-100080"/>
            <a:ext cx="4438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тмосферные осад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се погодные явления взаимосвяз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зменчивость погоды на Земле завис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т количества солнечного теп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т рельефа: горы, море, равн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т движения воздушных масс: циклонов и антицикл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лимат – многолетний режим по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Главные компоненты, определяющие климат – температура воздуха и атмосферное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о этим характеристикам земной шар разделён на крупные климатические з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41760" y="44280"/>
            <a:ext cx="17938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има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Картинка 13 из 1568081"/>
          <p:cNvPicPr/>
          <p:nvPr/>
        </p:nvPicPr>
        <p:blipFill>
          <a:blip r:embed="rId1"/>
          <a:stretch/>
        </p:blipFill>
        <p:spPr>
          <a:xfrm>
            <a:off x="108000" y="92160"/>
            <a:ext cx="4541760" cy="3408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5" name="" descr="Картинка 16 из 389759"/>
          <p:cNvPicPr/>
          <p:nvPr/>
        </p:nvPicPr>
        <p:blipFill>
          <a:blip r:embed="rId2"/>
          <a:stretch/>
        </p:blipFill>
        <p:spPr>
          <a:xfrm>
            <a:off x="108000" y="3357720"/>
            <a:ext cx="4552920" cy="3408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6" name="" descr="Картинка 16 из 964401"/>
          <p:cNvPicPr/>
          <p:nvPr/>
        </p:nvPicPr>
        <p:blipFill>
          <a:blip r:embed="rId3"/>
          <a:stretch/>
        </p:blipFill>
        <p:spPr>
          <a:xfrm>
            <a:off x="4494240" y="71280"/>
            <a:ext cx="4541760" cy="3357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7" name="" descr="Картинка 27 из 528421"/>
          <p:cNvPicPr/>
          <p:nvPr/>
        </p:nvPicPr>
        <p:blipFill>
          <a:blip r:embed="rId4"/>
          <a:stretch/>
        </p:blipFill>
        <p:spPr>
          <a:xfrm>
            <a:off x="4500720" y="3333600"/>
            <a:ext cx="4535280" cy="3408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92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Западная часть Ленинградской области находится под сильным влиянием Атлантического оке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осточные районы удалены от моря на значительное рас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аш климат – атлантико-континент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Тип погоды в области определяют ве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огодные условия и климат позволяют нам видеть все четыре времени года: лето, осень, зиму и вес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Картинка 12 из 2559"/>
          <p:cNvPicPr/>
          <p:nvPr/>
        </p:nvPicPr>
        <p:blipFill>
          <a:blip r:embed="rId1"/>
          <a:stretch/>
        </p:blipFill>
        <p:spPr>
          <a:xfrm>
            <a:off x="34920" y="3935520"/>
            <a:ext cx="417672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0" name="" descr="Картинка 7 из 46226"/>
          <p:cNvPicPr/>
          <p:nvPr/>
        </p:nvPicPr>
        <p:blipFill>
          <a:blip r:embed="rId2"/>
          <a:stretch/>
        </p:blipFill>
        <p:spPr>
          <a:xfrm>
            <a:off x="4797360" y="44280"/>
            <a:ext cx="4311720" cy="28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1" name="" descr="Картинка 16 из 46226"/>
          <p:cNvPicPr/>
          <p:nvPr/>
        </p:nvPicPr>
        <p:blipFill>
          <a:blip r:embed="rId3"/>
          <a:stretch/>
        </p:blipFill>
        <p:spPr>
          <a:xfrm>
            <a:off x="34920" y="44280"/>
            <a:ext cx="4105440" cy="28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2" name="" descr="Картинка 54 из 46226"/>
          <p:cNvPicPr/>
          <p:nvPr/>
        </p:nvPicPr>
        <p:blipFill>
          <a:blip r:embed="rId4"/>
          <a:stretch/>
        </p:blipFill>
        <p:spPr>
          <a:xfrm>
            <a:off x="4859280" y="3933720"/>
            <a:ext cx="4249800" cy="28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03" name=""/>
          <p:cNvSpPr txBox="1"/>
          <p:nvPr/>
        </p:nvSpPr>
        <p:spPr>
          <a:xfrm>
            <a:off x="250920" y="1484280"/>
            <a:ext cx="8415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нашей области наблюдает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нтереснейшее явление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елые ноч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ни возможны в тех широтах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де полуденная высота солн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д горизонт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еньше 18 граду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Картинка 39 из 392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916280"/>
            <a:ext cx="3673440" cy="4897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219640" y="44280"/>
            <a:ext cx="3816360" cy="2864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6" name="" descr="Картинка 145 из 1705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9280" y="3013200"/>
            <a:ext cx="5076720" cy="3800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07" name=""/>
          <p:cNvSpPr txBox="1"/>
          <p:nvPr/>
        </p:nvSpPr>
        <p:spPr>
          <a:xfrm>
            <a:off x="179280" y="115920"/>
            <a:ext cx="5122800" cy="23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22 июня - самый длинный день в год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Солнце занимает сам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высокое положение - д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летнего солнцестоян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22 декабря - самый короткий день в год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Солнце занимает самое низкое положе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pic>
        <p:nvPicPr>
          <p:cNvPr id="108" name="" descr="Картинка 170 из 3927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2565360"/>
            <a:ext cx="3048120" cy="2286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72720" cy="6813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Горизонтальное перемещение воздуха называется вет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Оно обусловлено неодинаковым атмосферным давлением в разных точках земн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оздух остается в покое до тех пор, пока давление на данном участке атмосферы распределяется более или менее равном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о стоит давлению на каком-либо участке увеличиться или уменьшиться, как воздух потечет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т места большего давления в сторону меньш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Устойчивого равновесия в атмосфере почти никогда не существует, поэтому ветры наблюдаются постоя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Равновесие атмосферы нарушается по различным причинам, главной из них является неодинаковое нагревание земной поверхности и различие температур на разных участ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03640" y="-100080"/>
            <a:ext cx="1800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те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Картинка 2 из 43"/>
          <p:cNvPicPr/>
          <p:nvPr/>
        </p:nvPicPr>
        <p:blipFill>
          <a:blip r:embed="rId1"/>
          <a:stretch/>
        </p:blipFill>
        <p:spPr>
          <a:xfrm>
            <a:off x="539640" y="1557360"/>
            <a:ext cx="8136000" cy="479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132000" y="189000"/>
            <a:ext cx="554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емещение воздушных мас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д земной поверхность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773440" y="4295880"/>
            <a:ext cx="3274920" cy="2517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012000" y="4278240"/>
            <a:ext cx="3073320" cy="2517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3080" y="4292640"/>
            <a:ext cx="3203640" cy="2519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407664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оздух нагревается над су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Тёплый воздух расширяется, его давление уменьшается, он становится лёгким и поднимается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Его место занимает более холодный и тяжёлый воздух со стороны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тмосферный фронт – столкновение тёплых и холодных воздушных м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84240" y="85680"/>
            <a:ext cx="2832120" cy="1614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5859360" cy="3322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25800" y="3494160"/>
            <a:ext cx="6010200" cy="3319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7" name=""/>
          <p:cNvSpPr txBox="1"/>
          <p:nvPr/>
        </p:nvSpPr>
        <p:spPr>
          <a:xfrm>
            <a:off x="4427640" y="476280"/>
            <a:ext cx="43783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невной бри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ует с озера на суш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3429000"/>
            <a:ext cx="439236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очной бри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ует с суши на озе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8000" y="3398760"/>
            <a:ext cx="4464000" cy="3343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8000" y="60480"/>
            <a:ext cx="4392720" cy="3274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292720" y="0"/>
            <a:ext cx="178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икло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00720" y="1341000"/>
            <a:ext cx="4572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Вихревое движение воздух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С пониженным давлением в цент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Приближение циклона к пасмурной пог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796000" y="44280"/>
            <a:ext cx="2428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нтицикло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500720" cy="336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5 из 1257"/>
          <p:cNvPicPr/>
          <p:nvPr/>
        </p:nvPicPr>
        <p:blipFill>
          <a:blip r:embed="rId2"/>
          <a:stretch/>
        </p:blipFill>
        <p:spPr>
          <a:xfrm>
            <a:off x="71280" y="3435480"/>
            <a:ext cx="4500720" cy="3378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859280" y="1413000"/>
            <a:ext cx="410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Вихревое движение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С повышенным давлением в цент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Повышение давления к хорошей пог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19280" y="1341000"/>
            <a:ext cx="5724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оздух нижних частей атмосферы всегда содержит некоторое количество влаги в виде водяного п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лажность воздуха — это содержание в нем водяного п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При достаточном поступлении влаги в атмосферу влажность зависит от температуры возд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Чем выше температура воздуха, тем больше водяного пара он может вмест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Так, 1 куб.м воздуха при температуре 30 °С может содержать 30 г водяного пара, при 20 °С—17,3 г; при 10 °С — 9,4; при 0 °С — 4,8; при -10 °С — 2,3; при —20 °С — 1,1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Поэтому ход влажности параллелен ходу темп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Обычно она больше днем, чем ноч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 течение года максимум влажности приходится на летние месяцы, минимум — на зим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 низких широтах влажность больше, чем в средних и высо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лажность воздуха измеряется приборами гигрометрами и психромет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С понижением температуры водяной пар превращается в туман или обл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Картинка 1 из 7494"/>
          <p:cNvPicPr/>
          <p:nvPr/>
        </p:nvPicPr>
        <p:blipFill>
          <a:blip r:embed="rId1"/>
          <a:stretch/>
        </p:blipFill>
        <p:spPr>
          <a:xfrm>
            <a:off x="96840" y="123840"/>
            <a:ext cx="2819520" cy="3809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9" name="" descr="Картинка 37 из 7494"/>
          <p:cNvPicPr/>
          <p:nvPr/>
        </p:nvPicPr>
        <p:blipFill>
          <a:blip r:embed="rId2"/>
          <a:stretch/>
        </p:blipFill>
        <p:spPr>
          <a:xfrm>
            <a:off x="108000" y="4033800"/>
            <a:ext cx="2808360" cy="2779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140360" y="44280"/>
            <a:ext cx="394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лажность воздух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4920" y="115920"/>
            <a:ext cx="5051520" cy="6669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2" name=""/>
          <p:cNvSpPr txBox="1"/>
          <p:nvPr/>
        </p:nvSpPr>
        <p:spPr>
          <a:xfrm>
            <a:off x="5867280" y="189000"/>
            <a:ext cx="187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ла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148000" y="1341000"/>
            <a:ext cx="38163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Облака располагаются на разной выс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Имеют разную фор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По ним можно предсказать по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Картинка 131 из 1068"/>
          <p:cNvPicPr/>
          <p:nvPr/>
        </p:nvPicPr>
        <p:blipFill>
          <a:blip r:embed="rId1"/>
          <a:stretch/>
        </p:blipFill>
        <p:spPr>
          <a:xfrm>
            <a:off x="142920" y="115920"/>
            <a:ext cx="8893080" cy="6673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5" name=""/>
          <p:cNvSpPr txBox="1"/>
          <p:nvPr/>
        </p:nvSpPr>
        <p:spPr>
          <a:xfrm>
            <a:off x="2033640" y="2133720"/>
            <a:ext cx="5346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из кристалликов льда)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являются за сут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о выпадения осад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3:08:02Z</dcterms:created>
  <dc:creator>Бочкова И.А.</dc:creator>
  <dc:description/>
  <dc:language>en-US</dc:language>
  <cp:lastModifiedBy>User</cp:lastModifiedBy>
  <dcterms:modified xsi:type="dcterms:W3CDTF">2012-06-21T17:44:28Z</dcterms:modified>
  <cp:revision>19</cp:revision>
  <dc:subject/>
  <dc:title>Погода и климат</dc:title>
</cp:coreProperties>
</file>