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gif" ContentType="image/gif"/>
  <Override PartName="/ppt/media/image24.png" ContentType="image/png"/>
  <Override PartName="/ppt/media/image11.jpeg" ContentType="image/jpeg"/>
  <Override PartName="/ppt/media/image25.png" ContentType="image/png"/>
  <Override PartName="/ppt/media/image19.jpeg" ContentType="image/jpeg"/>
  <Override PartName="/ppt/media/image3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985-A04C-47CC-8FBE-77637099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600-0A20-4646-B114-7027BDA3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D93-9485-417D-8939-264C7A18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75D-7B92-434B-9418-E6FDE0A2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1ABC-9D51-4750-B3CF-9FDB4488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F306-2C1A-4410-86D3-BCBC0D85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DE54-9B65-4B7D-9DDA-85B00084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104B-E2BB-40A8-B7C5-9D20FF2D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3CED-B132-4E49-AC15-7473EC96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3E5A-398E-4E87-8438-314AD5C6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7C3F-C5B6-46C7-A799-8E5CA62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3D2-83C3-4C53-98AF-3BB79E13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B0B2-1D6F-4684-AEAE-4DA8A1D2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6035-6A66-4443-A1EB-AF6116FF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8A36-652A-4475-A2F9-B8904ABF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256D-69EB-4D36-9AD2-D34CBA7A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C556-105F-4694-BA9B-5441FBC7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348-3424-4DE8-8C83-F97C649B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58C-42C7-48E8-A671-3FFEF6DC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D57-2DA0-4759-9AF3-519B1A0F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0CC-C551-4893-ACED-6A0F1C92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B37-0D37-4AA4-8BCF-4F9B0DDC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304-8863-4E65-B2C7-BC2F98BA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057-B59E-4369-9E63-B4C93A6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D230-F92B-4C83-930E-3BF38E2064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B9ED-9F11-45A2-9198-B366103EAB2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1979640" y="1268280"/>
            <a:ext cx="626436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А  ЧЕЛОВЕК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14" descr="rightscollage"/>
          <p:cNvPicPr/>
          <p:nvPr/>
        </p:nvPicPr>
        <p:blipFill>
          <a:blip r:embed="rId1"/>
          <a:stretch/>
        </p:blipFill>
        <p:spPr>
          <a:xfrm>
            <a:off x="1619280" y="3141720"/>
            <a:ext cx="3311640" cy="287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biglogo"/>
          <p:cNvPicPr/>
          <p:nvPr/>
        </p:nvPicPr>
        <p:blipFill>
          <a:blip r:embed="rId2"/>
          <a:stretch/>
        </p:blipFill>
        <p:spPr>
          <a:xfrm>
            <a:off x="179280" y="0"/>
            <a:ext cx="1764000" cy="1492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9"/>
          <p:cNvSpPr/>
          <p:nvPr/>
        </p:nvSpPr>
        <p:spPr>
          <a:xfrm>
            <a:off x="5435640" y="3284640"/>
            <a:ext cx="3492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Человек, его права и свободы являются высшей ценностью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Признание, соблюдение и защита прав и свобод человека и гражданина - обязанность государства» 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ст. 2 Конституции РФ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2357280" y="62150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10 декабря, 2008 год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Verdana"/>
              </a:rPr>
              <a:t>Нарушения 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Verdana"/>
              </a:rPr>
              <a:t>прав человека</a:t>
            </a:r>
            <a:endParaRPr b="0" lang="en-US" sz="2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47280" y="1844280"/>
            <a:ext cx="759636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В основе классификации нарушения прав человека и политического насилия  могут быть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ерьезность нарушений (какие права нарушены?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частота нарушений (как часто?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асштаб нарушений (сколько человек страдает?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5" descr="0"/>
          <p:cNvPicPr/>
          <p:nvPr/>
        </p:nvPicPr>
        <p:blipFill>
          <a:blip r:embed="rId1"/>
          <a:stretch/>
        </p:blipFill>
        <p:spPr>
          <a:xfrm>
            <a:off x="971640" y="4724280"/>
            <a:ext cx="253980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1(191)"/>
          <p:cNvPicPr/>
          <p:nvPr/>
        </p:nvPicPr>
        <p:blipFill>
          <a:blip r:embed="rId2"/>
          <a:stretch/>
        </p:blipFill>
        <p:spPr>
          <a:xfrm>
            <a:off x="7236000" y="4724280"/>
            <a:ext cx="1736640" cy="1944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prezumpcia_ru"/>
          <p:cNvPicPr/>
          <p:nvPr/>
        </p:nvPicPr>
        <p:blipFill>
          <a:blip r:embed="rId3"/>
          <a:stretch/>
        </p:blipFill>
        <p:spPr>
          <a:xfrm>
            <a:off x="755640" y="0"/>
            <a:ext cx="2627280" cy="148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christm01"/>
          <p:cNvPicPr/>
          <p:nvPr/>
        </p:nvPicPr>
        <p:blipFill>
          <a:blip r:embed="rId4"/>
          <a:stretch/>
        </p:blipFill>
        <p:spPr>
          <a:xfrm>
            <a:off x="7763040" y="0"/>
            <a:ext cx="1236600" cy="14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185px-Du"/>
          <p:cNvPicPr/>
          <p:nvPr/>
        </p:nvPicPr>
        <p:blipFill>
          <a:blip r:embed="rId5"/>
          <a:stretch/>
        </p:blipFill>
        <p:spPr>
          <a:xfrm>
            <a:off x="3851280" y="4724280"/>
            <a:ext cx="1141560" cy="1944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jud"/>
          <p:cNvPicPr/>
          <p:nvPr/>
        </p:nvPicPr>
        <p:blipFill>
          <a:blip r:embed="rId6"/>
          <a:stretch/>
        </p:blipFill>
        <p:spPr>
          <a:xfrm>
            <a:off x="5292720" y="4724280"/>
            <a:ext cx="1697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3" descr="134A"/>
          <p:cNvPicPr/>
          <p:nvPr/>
        </p:nvPicPr>
        <p:blipFill>
          <a:blip r:embed="rId1"/>
          <a:stretch/>
        </p:blipFill>
        <p:spPr>
          <a:xfrm>
            <a:off x="0" y="0"/>
            <a:ext cx="9144000" cy="25606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5"/>
          <p:cNvSpPr/>
          <p:nvPr/>
        </p:nvSpPr>
        <p:spPr>
          <a:xfrm>
            <a:off x="0" y="2492280"/>
            <a:ext cx="9144000" cy="47260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«ПРАВО КАСАЕТСЯ СВОБОДЫ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САМОГО ДОСТОЙНОГО И СВЯЩЕННОГ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В ЧЕЛОВЕКЕ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И ОН САМ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ПОСКОЛЬКУ ОНО ДЛЯ НЕГО ОБЯЗАТЕЛЬНО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ДОЛЖЕН ЗНАТЬ ЕГО.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                                         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ГЕГЕЛЬ (1770-1831), НЕМЕЦКИЙ ФИЛОСОФ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12"/>
          <p:cNvSpPr txBox="1"/>
          <p:nvPr/>
        </p:nvSpPr>
        <p:spPr>
          <a:xfrm>
            <a:off x="684360" y="1700280"/>
            <a:ext cx="7561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..ИМЕЮ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...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Picture 16" descr="Безымянный"/>
          <p:cNvPicPr/>
          <p:nvPr/>
        </p:nvPicPr>
        <p:blipFill>
          <a:blip r:embed="rId1"/>
          <a:stretch/>
        </p:blipFill>
        <p:spPr>
          <a:xfrm>
            <a:off x="324000" y="189000"/>
            <a:ext cx="2155680" cy="161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x_5d1c8c28"/>
          <p:cNvPicPr/>
          <p:nvPr/>
        </p:nvPicPr>
        <p:blipFill>
          <a:blip r:embed="rId2">
            <a:lum bright="6000"/>
          </a:blip>
          <a:srcRect l="0" t="67489" r="0" b="0"/>
          <a:stretch/>
        </p:blipFill>
        <p:spPr>
          <a:xfrm>
            <a:off x="755640" y="5084640"/>
            <a:ext cx="8388360" cy="1773360"/>
          </a:xfrm>
          <a:prstGeom prst="rect">
            <a:avLst/>
          </a:prstGeom>
          <a:ln w="0">
            <a:noFill/>
          </a:ln>
        </p:spPr>
      </p:pic>
      <p:pic>
        <p:nvPicPr>
          <p:cNvPr id="201" name="Многоточие - Жизнь и свобода (Zvonit_ru).wav" descr=""/>
          <p:cNvPicPr/>
          <p:nvPr/>
        </p:nvPicPr>
        <p:blipFill>
          <a:blip r:embed="rId3"/>
          <a:stretch/>
        </p:blipFill>
        <p:spPr>
          <a:xfrm>
            <a:off x="755640" y="510228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0657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31640" y="260280"/>
            <a:ext cx="506412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 Black"/>
              </a:rPr>
              <a:t>1. Разминка 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203" name="Picture 4" descr="boyво"/>
          <p:cNvPicPr/>
          <p:nvPr/>
        </p:nvPicPr>
        <p:blipFill>
          <a:blip r:embed="rId1"/>
          <a:stretch/>
        </p:blipFill>
        <p:spPr>
          <a:xfrm>
            <a:off x="324000" y="150840"/>
            <a:ext cx="2303280" cy="119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042920" y="1557360"/>
          <a:ext cx="7850160" cy="5124600"/>
        </p:xfrm>
        <a:graphic>
          <a:graphicData uri="http://schemas.openxmlformats.org/drawingml/2006/table">
            <a:tbl>
              <a:tblPr/>
              <a:tblGrid>
                <a:gridCol w="685800"/>
                <a:gridCol w="4714920"/>
                <a:gridCol w="649440"/>
                <a:gridCol w="1800000"/>
              </a:tblGrid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ормативно-правовой акт, содержащий общеобязательные правила поведения по важным вопросам общественной жизни, принятый высшим представительным органом государства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ава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челове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гарантированные государством возможности человека в экономической, социальной, политической и культурной сфера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онституц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лемент правовой нормы, в котором изложены неблагоприятные последствия неправомерного поведе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кон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пособность лица иметь права и обязанност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еступлени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новной закон государства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анкц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едусмотренное уголовным законом виновно совершенное общественно опасное деяние физического лиц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авоспособность 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57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1928880"/>
          <a:ext cx="6691320" cy="928800"/>
        </p:xfrm>
        <a:graphic>
          <a:graphicData uri="http://schemas.openxmlformats.org/drawingml/2006/table">
            <a:tbl>
              <a:tblPr/>
              <a:tblGrid>
                <a:gridCol w="1116000"/>
                <a:gridCol w="1114560"/>
                <a:gridCol w="1116000"/>
                <a:gridCol w="1114560"/>
                <a:gridCol w="1116000"/>
                <a:gridCol w="111420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 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 Ж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 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 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95640" y="228600"/>
            <a:ext cx="671976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 Black"/>
              </a:rPr>
              <a:t>2. “Документы”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6000" y="836640"/>
            <a:ext cx="777240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числите документы, защищающие права ребёнк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1. Международные                 2. Российск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А) Всеобщая декларация прав ребён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Б) Конституция РФ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) Декларация прав ребён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) Семейный кодек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) Конвенция о правах ребён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Е) Гражданский кодек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Ж) Уголовный кодекс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9" name="Picture 7" descr="Risunok1"/>
          <p:cNvPicPr/>
          <p:nvPr/>
        </p:nvPicPr>
        <p:blipFill>
          <a:blip r:embed="rId1"/>
          <a:stretch/>
        </p:blipFill>
        <p:spPr>
          <a:xfrm>
            <a:off x="395280" y="117360"/>
            <a:ext cx="1368360" cy="13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6360" y="260280"/>
            <a:ext cx="578304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3. «Заморочки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6000" y="14839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ецензурная брань учащихся в школе – это издержки культуры или противоправное деяние?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ожет ли быть привлечен к уголовной ответственност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4-летний подросток, вымогавший деньги у одноклассников?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3.       Можно ли расценивать как шалость заведомо ложное сообщение о готовящемся взрыве в школе учащимся, не желающим писать контрольную работу?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66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то пользуется преимущественными правами в отношении детей – отец или мать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66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 какого возраста ребенок приобретает право на уважение его человеческого достоинства?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4" descr="boyво"/>
          <p:cNvPicPr/>
          <p:nvPr/>
        </p:nvPicPr>
        <p:blipFill>
          <a:blip r:embed="rId1"/>
          <a:stretch/>
        </p:blipFill>
        <p:spPr>
          <a:xfrm>
            <a:off x="324000" y="150840"/>
            <a:ext cx="230328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19280" y="115560"/>
            <a:ext cx="50641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4. Сказка -  ложь,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          да в ней намек ….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214" name="Picture 4" descr="boyво"/>
          <p:cNvPicPr/>
          <p:nvPr/>
        </p:nvPicPr>
        <p:blipFill>
          <a:blip r:embed="rId1"/>
          <a:stretch/>
        </p:blipFill>
        <p:spPr>
          <a:xfrm>
            <a:off x="324000" y="0"/>
            <a:ext cx="2303280" cy="1195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NGDI5ku"/>
          <p:cNvPicPr/>
          <p:nvPr/>
        </p:nvPicPr>
        <p:blipFill>
          <a:blip r:embed="rId2"/>
          <a:stretch/>
        </p:blipFill>
        <p:spPr>
          <a:xfrm>
            <a:off x="2484360" y="1125360"/>
            <a:ext cx="4214880" cy="547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b11044"/>
          <p:cNvPicPr/>
          <p:nvPr/>
        </p:nvPicPr>
        <p:blipFill>
          <a:blip r:embed="rId3"/>
          <a:stretch/>
        </p:blipFill>
        <p:spPr>
          <a:xfrm>
            <a:off x="2700360" y="1125360"/>
            <a:ext cx="3978360" cy="5400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bilibin_work_200712102038382jpg"/>
          <p:cNvPicPr/>
          <p:nvPr/>
        </p:nvPicPr>
        <p:blipFill>
          <a:blip r:embed="rId4"/>
          <a:stretch/>
        </p:blipFill>
        <p:spPr>
          <a:xfrm>
            <a:off x="1042920" y="1197000"/>
            <a:ext cx="7848720" cy="5327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4568"/>
          <p:cNvPicPr/>
          <p:nvPr/>
        </p:nvPicPr>
        <p:blipFill>
          <a:blip r:embed="rId5"/>
          <a:srcRect l="0" t="0" r="0" b="6614"/>
          <a:stretch/>
        </p:blipFill>
        <p:spPr>
          <a:xfrm>
            <a:off x="1042920" y="1197000"/>
            <a:ext cx="783432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402920" y="188640"/>
            <a:ext cx="73407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лакат на тему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"Каждый человек имеет право на жизнь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Picture 4" descr="raduga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2182526"/>
          <p:cNvPicPr/>
          <p:nvPr/>
        </p:nvPicPr>
        <p:blipFill>
          <a:blip r:embed="rId1"/>
          <a:stretch/>
        </p:blipFill>
        <p:spPr>
          <a:xfrm>
            <a:off x="1042920" y="189000"/>
            <a:ext cx="7634520" cy="46641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042920" y="50130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Счастье всего мира не стоит одной слезы на щеке невинного ребёнка”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Ф.М.Достоевск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АВА ЧЕЛОВЕ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— права, считаемые прирождёнными и неотъемлемыми для каждого человека независимо от его гражданства, пола, возраста, расы, этнической или религиозной принадлежност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АВО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— система общеобязательных социальных норм, установленных или санкционированных государство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ЕЖДУНАРОДНОЕ ПРАВО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- публичное, совокупность юридических принципов и норм, регулирующих отношения между государствами и другими участниками (субъектами) международного обще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Picture 4" descr="man"/>
          <p:cNvPicPr/>
          <p:nvPr/>
        </p:nvPicPr>
        <p:blipFill>
          <a:blip r:embed="rId1"/>
          <a:stretch/>
        </p:blipFill>
        <p:spPr>
          <a:xfrm rot="455400">
            <a:off x="7667280" y="188640"/>
            <a:ext cx="1260360" cy="1260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195280" y="228600"/>
            <a:ext cx="511308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Verdana"/>
              </a:rPr>
              <a:t>СЛОВАРЬ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27280" y="333000"/>
            <a:ext cx="6121440" cy="63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Права, которые я имею и хочу сохранить"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Права, которых у меня нет, но хочу иметь";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« Права, которые я не хотел бы имет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Если бы я был родителем, то дал бы моим детям право на…";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Если бы мои права были нарушены, я бы сделал…"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0195"/>
          <p:cNvPicPr/>
          <p:nvPr/>
        </p:nvPicPr>
        <p:blipFill>
          <a:blip r:embed="rId1"/>
          <a:stretch/>
        </p:blipFill>
        <p:spPr>
          <a:xfrm>
            <a:off x="216000" y="3645000"/>
            <a:ext cx="2173320" cy="2879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6100863"/>
          <p:cNvPicPr/>
          <p:nvPr/>
        </p:nvPicPr>
        <p:blipFill>
          <a:blip r:embed="rId2"/>
          <a:stretch/>
        </p:blipFill>
        <p:spPr>
          <a:xfrm>
            <a:off x="250920" y="189000"/>
            <a:ext cx="20635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56108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0 декабря 1948 г. Ассамблеей ООН была принята «Всеобщая декларации прав человека» в качестве «задачи, к выполнению которой должны стремиться все народы и все государства»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1950 году Генеральная Ассамблея предложила всем государствам и заинтересованным организациям отмечать 10 декабря в качестве Дня прав человек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058920" y="-360"/>
            <a:ext cx="579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Verdana"/>
              </a:rPr>
              <a:t>«МЫ МОЖЕМ СТАТЬ СВОБОДНЫМИ ТОЛЬКО ТОГДА, КОГДА СТАНЕМ РАБАМИ ЗАКОНА»</a:t>
            </a:r>
            <a:br>
              <a:rPr sz="1600"/>
            </a:br>
            <a:r>
              <a:rPr b="1" i="1" lang="ru-RU" sz="1400" spc="-1" strike="noStrike">
                <a:solidFill>
                  <a:srgbClr val="ccecff"/>
                </a:solidFill>
                <a:latin typeface="Book Antiqua"/>
              </a:rPr>
              <a:t>ЦИЦЕРОН</a:t>
            </a:r>
            <a:endParaRPr b="0" lang="en-US" sz="1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9" name="Picture 6" descr="biglogo"/>
          <p:cNvPicPr/>
          <p:nvPr/>
        </p:nvPicPr>
        <p:blipFill>
          <a:blip r:embed="rId1"/>
          <a:stretch/>
        </p:blipFill>
        <p:spPr>
          <a:xfrm>
            <a:off x="755640" y="0"/>
            <a:ext cx="176364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786720" y="4214880"/>
            <a:ext cx="2357280" cy="26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i="1" lang="ru-RU" sz="1200" spc="-1" strike="noStrike">
                <a:solidFill>
                  <a:srgbClr val="eaeaea"/>
                </a:solidFill>
                <a:latin typeface="Verdana"/>
              </a:rPr>
              <a:t>В 1966 году под эгидой ООН приняты «Международный пакт о гражданских и политических правах» и «Международный пакт об экономических, социальных и культурных правах»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1" name="Diagram 20"/>
          <p:cNvGrpSpPr/>
          <p:nvPr/>
        </p:nvGrpSpPr>
        <p:grpSpPr>
          <a:xfrm>
            <a:off x="1114920" y="428760"/>
            <a:ext cx="6665760" cy="5220720"/>
            <a:chOff x="1114920" y="428760"/>
            <a:chExt cx="6665760" cy="5220720"/>
          </a:xfrm>
        </p:grpSpPr>
        <p:sp>
          <p:nvSpPr>
            <p:cNvPr id="122" name="_s1028"/>
            <p:cNvSpPr/>
            <p:nvPr/>
          </p:nvSpPr>
          <p:spPr>
            <a:xfrm flipH="1" flipV="1">
              <a:off x="3904920" y="2804400"/>
              <a:ext cx="639720" cy="22068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_s1029"/>
            <p:cNvSpPr/>
            <p:nvPr/>
          </p:nvSpPr>
          <p:spPr>
            <a:xfrm>
              <a:off x="2587320" y="1884600"/>
              <a:ext cx="1347840" cy="1406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Verdana"/>
                </a:rPr>
                <a:t>Конституция</a:t>
              </a: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_s1030"/>
            <p:cNvSpPr/>
            <p:nvPr/>
          </p:nvSpPr>
          <p:spPr>
            <a:xfrm flipH="1">
              <a:off x="4394160" y="3809880"/>
              <a:ext cx="396720" cy="56340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_s1031"/>
            <p:cNvSpPr/>
            <p:nvPr/>
          </p:nvSpPr>
          <p:spPr>
            <a:xfrm>
              <a:off x="3322080" y="4242600"/>
              <a:ext cx="1347840" cy="140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1791 год-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Американский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«Билль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о правах»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_s1032"/>
            <p:cNvSpPr/>
            <p:nvPr/>
          </p:nvSpPr>
          <p:spPr>
            <a:xfrm>
              <a:off x="5581440" y="3805920"/>
              <a:ext cx="393840" cy="56736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5698080" y="4242600"/>
              <a:ext cx="1347840" cy="140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1789 год –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французская –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Декларация 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прав человека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и гражданина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_s1034"/>
            <p:cNvSpPr/>
            <p:nvPr/>
          </p:nvSpPr>
          <p:spPr>
            <a:xfrm flipV="1">
              <a:off x="5823360" y="2804400"/>
              <a:ext cx="639720" cy="21564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6432840" y="1884600"/>
              <a:ext cx="1347840" cy="140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1215 год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Английская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«Великая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хартия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вольностей»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_s1036"/>
            <p:cNvSpPr/>
            <p:nvPr/>
          </p:nvSpPr>
          <p:spPr>
            <a:xfrm flipV="1">
              <a:off x="5184720" y="1835280"/>
              <a:ext cx="0" cy="70236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_s1037"/>
            <p:cNvSpPr/>
            <p:nvPr/>
          </p:nvSpPr>
          <p:spPr>
            <a:xfrm>
              <a:off x="4510800" y="428760"/>
              <a:ext cx="1347840" cy="140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10.12.1948 год-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«Всеобщая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декларация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прав человека»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_s1038"/>
            <p:cNvSpPr/>
            <p:nvPr/>
          </p:nvSpPr>
          <p:spPr>
            <a:xfrm>
              <a:off x="4510800" y="2538000"/>
              <a:ext cx="1347840" cy="1406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e6fd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66"/>
                  </a:solidFill>
                  <a:latin typeface="Verdana"/>
                </a:rPr>
                <a:t>Пакты 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66"/>
                  </a:solidFill>
                  <a:latin typeface="Verdana"/>
                </a:rPr>
                <a:t>и 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66"/>
                  </a:solidFill>
                  <a:latin typeface="Verdana"/>
                </a:rPr>
                <a:t>декларации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33" name="Picture 44" descr="Почтовая марка Франции (тип Мушона, «Права человека» 1900 год) и марка-пародия «Права женщин»"/>
            <p:cNvPicPr/>
            <p:nvPr/>
          </p:nvPicPr>
          <p:blipFill>
            <a:blip r:embed="rId7"/>
            <a:stretch/>
          </p:blipFill>
          <p:spPr>
            <a:xfrm>
              <a:off x="1114920" y="428760"/>
              <a:ext cx="1572480" cy="201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34"/>
          <p:cNvSpPr/>
          <p:nvPr/>
        </p:nvSpPr>
        <p:spPr>
          <a:xfrm>
            <a:off x="6300720" y="189000"/>
            <a:ext cx="25923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eaeaea"/>
                </a:solidFill>
                <a:latin typeface="Verdana"/>
              </a:rPr>
              <a:t>С 10 декабря 1950 года отмечается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Verdana"/>
              </a:rPr>
              <a:t>День прав человека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Rectangle 42"/>
          <p:cNvSpPr/>
          <p:nvPr/>
        </p:nvSpPr>
        <p:spPr>
          <a:xfrm>
            <a:off x="971640" y="4508640"/>
            <a:ext cx="252072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aeaea"/>
                </a:solidFill>
                <a:latin typeface="Verdana"/>
              </a:rPr>
              <a:t>Конституция</a:t>
            </a:r>
            <a:r>
              <a:rPr b="0" i="1" lang="ru-RU" sz="1200" spc="-1" strike="noStrike">
                <a:solidFill>
                  <a:srgbClr val="eaeaea"/>
                </a:solidFill>
                <a:latin typeface="Verdana"/>
              </a:rPr>
              <a:t>  - основной закон государства, определяющий его общественное и государственное устройство, порядок и принципы образования представительных органов власти, избирательную систему, основные права и обязанности граждан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43" descr="p00"/>
          <p:cNvPicPr/>
          <p:nvPr/>
        </p:nvPicPr>
        <p:blipFill>
          <a:blip r:embed="rId8"/>
          <a:stretch/>
        </p:blipFill>
        <p:spPr>
          <a:xfrm>
            <a:off x="971640" y="2492280"/>
            <a:ext cx="140472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Organization Chart 5"/>
          <p:cNvGrpSpPr/>
          <p:nvPr/>
        </p:nvGrpSpPr>
        <p:grpSpPr>
          <a:xfrm>
            <a:off x="826920" y="692280"/>
            <a:ext cx="8317080" cy="5831640"/>
            <a:chOff x="826920" y="692280"/>
            <a:chExt cx="8317080" cy="5831640"/>
          </a:xfrm>
        </p:grpSpPr>
        <p:cxnSp>
          <p:nvCxnSpPr>
            <p:cNvPr id="138" name="_s2052"/>
            <p:cNvCxnSpPr>
              <a:stCxn id="139" idx="1"/>
              <a:endCxn id="140" idx="2"/>
            </p:cNvCxnSpPr>
            <p:nvPr/>
          </p:nvCxnSpPr>
          <p:spPr>
            <a:xfrm rot="10800000">
              <a:off x="7651800" y="2774160"/>
              <a:ext cx="212040" cy="3330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1" name="_s2053"/>
            <p:cNvCxnSpPr>
              <a:stCxn id="142" idx="1"/>
              <a:endCxn id="140" idx="2"/>
            </p:cNvCxnSpPr>
            <p:nvPr/>
          </p:nvCxnSpPr>
          <p:spPr>
            <a:xfrm rot="10800000">
              <a:off x="7651800" y="2774160"/>
              <a:ext cx="212040" cy="20833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3" name="_s2054"/>
            <p:cNvCxnSpPr>
              <a:stCxn id="144" idx="1"/>
              <a:endCxn id="140" idx="2"/>
            </p:cNvCxnSpPr>
            <p:nvPr/>
          </p:nvCxnSpPr>
          <p:spPr>
            <a:xfrm rot="10800000">
              <a:off x="7651800" y="2774160"/>
              <a:ext cx="212040" cy="833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5" name="_s2055"/>
            <p:cNvCxnSpPr>
              <a:stCxn id="146" idx="3"/>
              <a:endCxn id="147" idx="2"/>
            </p:cNvCxnSpPr>
            <p:nvPr/>
          </p:nvCxnSpPr>
          <p:spPr>
            <a:xfrm flipV="1">
              <a:off x="4454280" y="2774160"/>
              <a:ext cx="212400" cy="3330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8" name="_s2056"/>
            <p:cNvCxnSpPr>
              <a:stCxn id="149" idx="3"/>
              <a:endCxn id="147" idx="2"/>
            </p:cNvCxnSpPr>
            <p:nvPr/>
          </p:nvCxnSpPr>
          <p:spPr>
            <a:xfrm flipV="1">
              <a:off x="4454280" y="2774160"/>
              <a:ext cx="212400" cy="20833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0" name="_s2057"/>
            <p:cNvCxnSpPr>
              <a:stCxn id="151" idx="3"/>
              <a:endCxn id="147" idx="2"/>
            </p:cNvCxnSpPr>
            <p:nvPr/>
          </p:nvCxnSpPr>
          <p:spPr>
            <a:xfrm flipV="1">
              <a:off x="4454280" y="2774520"/>
              <a:ext cx="212400" cy="833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2" name="_s2058"/>
            <p:cNvCxnSpPr>
              <a:stCxn id="153" idx="0"/>
              <a:endCxn id="154" idx="2"/>
            </p:cNvCxnSpPr>
            <p:nvPr/>
          </p:nvCxnSpPr>
          <p:spPr>
            <a:xfrm flipV="1">
              <a:off x="6158880" y="2774520"/>
              <a:ext cx="1800" cy="420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5" name="_s2059"/>
            <p:cNvCxnSpPr>
              <a:stCxn id="156" idx="3"/>
              <a:endCxn id="157" idx="2"/>
            </p:cNvCxnSpPr>
            <p:nvPr/>
          </p:nvCxnSpPr>
          <p:spPr>
            <a:xfrm flipV="1">
              <a:off x="2746440" y="2774520"/>
              <a:ext cx="213840" cy="3336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8" name="_s2060"/>
            <p:cNvCxnSpPr>
              <a:stCxn id="159" idx="3"/>
              <a:endCxn id="157" idx="2"/>
            </p:cNvCxnSpPr>
            <p:nvPr/>
          </p:nvCxnSpPr>
          <p:spPr>
            <a:xfrm flipV="1">
              <a:off x="2746440" y="2774520"/>
              <a:ext cx="213840" cy="2086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0" name="_s2061"/>
            <p:cNvCxnSpPr>
              <a:stCxn id="161" idx="3"/>
              <a:endCxn id="157" idx="2"/>
            </p:cNvCxnSpPr>
            <p:nvPr/>
          </p:nvCxnSpPr>
          <p:spPr>
            <a:xfrm flipV="1">
              <a:off x="2746440" y="2774520"/>
              <a:ext cx="213840" cy="833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2" name="_s2062"/>
            <p:cNvCxnSpPr>
              <a:stCxn id="140" idx="0"/>
              <a:endCxn id="163" idx="2"/>
            </p:cNvCxnSpPr>
            <p:nvPr/>
          </p:nvCxnSpPr>
          <p:spPr>
            <a:xfrm flipV="1" rot="16200000">
              <a:off x="5896800" y="186480"/>
              <a:ext cx="417240" cy="3093480"/>
            </a:xfrm>
            <a:prstGeom prst="bentConnector3">
              <a:avLst>
                <a:gd name="adj1" fmla="val 50431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4" name="_s2063"/>
            <p:cNvCxnSpPr>
              <a:stCxn id="154" idx="0"/>
              <a:endCxn id="163" idx="2"/>
            </p:cNvCxnSpPr>
            <p:nvPr/>
          </p:nvCxnSpPr>
          <p:spPr>
            <a:xfrm flipV="1" rot="16200000">
              <a:off x="5150520" y="932760"/>
              <a:ext cx="417240" cy="1600560"/>
            </a:xfrm>
            <a:prstGeom prst="bentConnector3">
              <a:avLst>
                <a:gd name="adj1" fmla="val 50431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5" name="_s2064"/>
            <p:cNvCxnSpPr>
              <a:stCxn id="147" idx="0"/>
              <a:endCxn id="163" idx="2"/>
            </p:cNvCxnSpPr>
            <p:nvPr/>
          </p:nvCxnSpPr>
          <p:spPr>
            <a:xfrm flipV="1" rot="16200000">
              <a:off x="4403880" y="1679400"/>
              <a:ext cx="417240" cy="107280"/>
            </a:xfrm>
            <a:prstGeom prst="bentConnector3">
              <a:avLst>
                <a:gd name="adj1" fmla="val 50431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6" name="_s2065"/>
            <p:cNvCxnSpPr>
              <a:stCxn id="157" idx="0"/>
              <a:endCxn id="163" idx="2"/>
            </p:cNvCxnSpPr>
            <p:nvPr/>
          </p:nvCxnSpPr>
          <p:spPr>
            <a:xfrm flipH="1" flipV="1" rot="5400000">
              <a:off x="3551040" y="933120"/>
              <a:ext cx="417240" cy="1600200"/>
            </a:xfrm>
            <a:prstGeom prst="bentConnector3">
              <a:avLst>
                <a:gd name="adj1" fmla="val 50431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7" name="_s2066"/>
            <p:cNvCxnSpPr>
              <a:stCxn id="168" idx="0"/>
              <a:endCxn id="163" idx="2"/>
            </p:cNvCxnSpPr>
            <p:nvPr/>
          </p:nvCxnSpPr>
          <p:spPr>
            <a:xfrm flipH="1" flipV="1" rot="5400000">
              <a:off x="2804400" y="186840"/>
              <a:ext cx="417240" cy="3093120"/>
            </a:xfrm>
            <a:prstGeom prst="bentConnector3">
              <a:avLst>
                <a:gd name="adj1" fmla="val 50431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3" name="_s2067"/>
            <p:cNvSpPr/>
            <p:nvPr/>
          </p:nvSpPr>
          <p:spPr>
            <a:xfrm>
              <a:off x="3918240" y="692280"/>
              <a:ext cx="12798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ОТРАСЛИ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РОССИЙСКОГО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ПРАВА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_s2068"/>
            <p:cNvSpPr/>
            <p:nvPr/>
          </p:nvSpPr>
          <p:spPr>
            <a:xfrm>
              <a:off x="826920" y="1941840"/>
              <a:ext cx="12798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66"/>
                  </a:solidFill>
                  <a:latin typeface="Times New Roman"/>
                </a:rPr>
                <a:t>КОНСТИТУ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66"/>
                  </a:solidFill>
                  <a:latin typeface="Times New Roman"/>
                </a:rPr>
                <a:t>ЦИОННОЕ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_s2069"/>
            <p:cNvSpPr/>
            <p:nvPr/>
          </p:nvSpPr>
          <p:spPr>
            <a:xfrm>
              <a:off x="2319840" y="1941840"/>
              <a:ext cx="12798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66"/>
                  </a:solidFill>
                  <a:latin typeface="Times New Roman"/>
                </a:rPr>
                <a:t>АДМИНИСТРА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66"/>
                  </a:solidFill>
                  <a:latin typeface="Times New Roman"/>
                </a:rPr>
                <a:t>ТИВНОЕ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_s2070"/>
            <p:cNvSpPr/>
            <p:nvPr/>
          </p:nvSpPr>
          <p:spPr>
            <a:xfrm>
              <a:off x="4026240" y="1941840"/>
              <a:ext cx="12798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УГОЛОВНОЕ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_s2071"/>
            <p:cNvSpPr/>
            <p:nvPr/>
          </p:nvSpPr>
          <p:spPr>
            <a:xfrm>
              <a:off x="5519520" y="1941840"/>
              <a:ext cx="12798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ГРАЖДАНСКОЕ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_s2072"/>
            <p:cNvSpPr/>
            <p:nvPr/>
          </p:nvSpPr>
          <p:spPr>
            <a:xfrm>
              <a:off x="7012440" y="1941840"/>
              <a:ext cx="12780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ТРУДОВОЕ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_s2073"/>
            <p:cNvSpPr/>
            <p:nvPr/>
          </p:nvSpPr>
          <p:spPr>
            <a:xfrm>
              <a:off x="1466640" y="3191400"/>
              <a:ext cx="1279800" cy="83304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ПРЕДУПРЕЖДЕ-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НИЕ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_s2074"/>
            <p:cNvSpPr/>
            <p:nvPr/>
          </p:nvSpPr>
          <p:spPr>
            <a:xfrm>
              <a:off x="1466640" y="4441320"/>
              <a:ext cx="1279800" cy="83304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ШТРАФ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_s2075"/>
            <p:cNvSpPr/>
            <p:nvPr/>
          </p:nvSpPr>
          <p:spPr>
            <a:xfrm>
              <a:off x="1466640" y="5690880"/>
              <a:ext cx="1279800" cy="83304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АРЕСТ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_s2076"/>
            <p:cNvSpPr/>
            <p:nvPr/>
          </p:nvSpPr>
          <p:spPr>
            <a:xfrm>
              <a:off x="5519520" y="319140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КОМПЕНСИ-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РОВАТЬ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ПРИЧИНЕН-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НЫЙ УЩЕРБ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_s2077"/>
            <p:cNvSpPr/>
            <p:nvPr/>
          </p:nvSpPr>
          <p:spPr>
            <a:xfrm>
              <a:off x="3173040" y="319140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ШТРАФ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_s2078"/>
            <p:cNvSpPr/>
            <p:nvPr/>
          </p:nvSpPr>
          <p:spPr>
            <a:xfrm>
              <a:off x="3173040" y="444132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КОНФИСКАЦИЯ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ИМУЩЕСТВА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_s2079"/>
            <p:cNvSpPr/>
            <p:nvPr/>
          </p:nvSpPr>
          <p:spPr>
            <a:xfrm>
              <a:off x="3173040" y="569088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ЛИШЕНИЕ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СВОБОДЫ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_s2080"/>
            <p:cNvSpPr/>
            <p:nvPr/>
          </p:nvSpPr>
          <p:spPr>
            <a:xfrm>
              <a:off x="7864200" y="319140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ЗАМЕЧАНИЕ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_s2081"/>
            <p:cNvSpPr/>
            <p:nvPr/>
          </p:nvSpPr>
          <p:spPr>
            <a:xfrm>
              <a:off x="7864200" y="444132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ВЫГОВОР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_s2082"/>
            <p:cNvSpPr/>
            <p:nvPr/>
          </p:nvSpPr>
          <p:spPr>
            <a:xfrm>
              <a:off x="7864200" y="569088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УВОЛЬНЕНИЕ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69" name="Picture 52" descr="man"/>
          <p:cNvPicPr/>
          <p:nvPr/>
        </p:nvPicPr>
        <p:blipFill>
          <a:blip r:embed="rId1"/>
          <a:stretch/>
        </p:blipFill>
        <p:spPr>
          <a:xfrm>
            <a:off x="0" y="0"/>
            <a:ext cx="158436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335772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Гражданские </a:t>
            </a:r>
            <a:br>
              <a:rPr sz="1800"/>
            </a:b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и политические права: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46800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жизнь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защиту от пыток, жестокого, бесчеловечного или унижающего достоинство обращения и наказания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защиту от рабства и принудительного труда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вободу и личную неприкосновенность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свободно передвигаться и выбирать место жительства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покидать свою страну и возвращаться в неё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праведливое судебное разбирательство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защиту от наказания, не предусмотренного законом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равную защиту закона без какой-либо дискриминац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вободу мысли, совести и религ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вободу выражения собственного мнения и получение информац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мирные собрания и ассоциац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уважение частной и семейной жизн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участвовать в ведении государственных дел непосредственно или путем участия в свободных выборах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4" descr="man"/>
          <p:cNvPicPr/>
          <p:nvPr/>
        </p:nvPicPr>
        <p:blipFill>
          <a:blip r:embed="rId1"/>
          <a:stretch/>
        </p:blipFill>
        <p:spPr>
          <a:xfrm rot="455400">
            <a:off x="7596000" y="188640"/>
            <a:ext cx="1260360" cy="1260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5435640" y="2920320"/>
            <a:ext cx="3708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защиту собственности;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труд и справедливые 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 благоприятные условия труда;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социальное обеспечение;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образование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012000" y="1628640"/>
            <a:ext cx="283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Основные экономические, социальные культурные права</a:t>
            </a: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5940360" y="4721760"/>
            <a:ext cx="2957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66"/>
                </a:solidFill>
                <a:latin typeface="Verdana"/>
              </a:rPr>
              <a:t>Права остаются абстрактным понятием, пока граждане их реально не используют. Знание и владение правами - один из первых признаков демократического государства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Picture 8" descr="resB855A78B-2000-44B5-ABB8-DEB8EA322FB5"/>
          <p:cNvPicPr/>
          <p:nvPr/>
        </p:nvPicPr>
        <p:blipFill>
          <a:blip r:embed="rId2"/>
          <a:stretch/>
        </p:blipFill>
        <p:spPr>
          <a:xfrm>
            <a:off x="0" y="260280"/>
            <a:ext cx="1222200" cy="12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онвенцию о правах ребенка называют Великой хартией вольностей для детей. Она состоит из пятидесяти четырех статей, детализирующих индивидуальные права каждого человека в возрасте до 18 лет на полное развитие своих возможностей в условиях, свободных от голода и нужды, жестокости, эксплуатации и других форм злоупотреблени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онвенция, ставшая результатом десяти лет переговоров, была принята Организацией Объединенных Наций 20 ноября 1989 г. и вступила в силу 2 сентября 1990г. после ратификации ее 20 государствами. К настоящему моменту 139 стран либо подписали этот документ, либо стали участниками Конвенции в результате ратификации или присоединения к ней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8" name="Picture 38" descr="boyво"/>
          <p:cNvPicPr/>
          <p:nvPr/>
        </p:nvPicPr>
        <p:blipFill>
          <a:blip r:embed="rId1"/>
          <a:stretch/>
        </p:blipFill>
        <p:spPr>
          <a:xfrm>
            <a:off x="324000" y="0"/>
            <a:ext cx="2663640" cy="1419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6" descr="x_5d1c8c28"/>
          <p:cNvPicPr/>
          <p:nvPr/>
        </p:nvPicPr>
        <p:blipFill>
          <a:blip r:embed="rId2">
            <a:lum bright="6000"/>
          </a:blip>
          <a:srcRect l="0" t="67489" r="0" b="0"/>
          <a:stretch/>
        </p:blipFill>
        <p:spPr>
          <a:xfrm>
            <a:off x="755640" y="5445000"/>
            <a:ext cx="83883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27280" y="188640"/>
            <a:ext cx="374328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Bookman Old Style"/>
              </a:rPr>
              <a:t>ПРАВА РЕБЕНКА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1628280"/>
            <a:ext cx="69120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семью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заботу и защиту со стороны государства, если нет временной или постоянной защиты со стороны родителей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посещать школу и учитьс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равенство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свободно выражать свои мысли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собственное мнени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имя и гражданство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получение информации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защиту от насилия и жестокого обращени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медицинское обслуживани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отдых и досу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дополнительную помощь со стороны государства, если есть особые потребности (например, у детей с ограниченными возможностями)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700000" y="549360"/>
            <a:ext cx="6119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 свод прав детей, зафиксированных в международных документах по правам ребёнка. Согласно Конвенции о правах ребенка ребенок - это лицо, не достигшее 18 лет. Государство взяло на себя обязательство защищать детей, поэтому они имеют такие же права, как и взрослы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3" name="Picture 16" descr="L42_05_p01"/>
          <p:cNvPicPr/>
          <p:nvPr/>
        </p:nvPicPr>
        <p:blipFill>
          <a:blip r:embed="rId1"/>
          <a:stretch/>
        </p:blipFill>
        <p:spPr>
          <a:xfrm>
            <a:off x="324000" y="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Изображение 004"/>
          <p:cNvPicPr/>
          <p:nvPr/>
        </p:nvPicPr>
        <p:blipFill>
          <a:blip r:embed="rId2"/>
          <a:stretch/>
        </p:blipFill>
        <p:spPr>
          <a:xfrm>
            <a:off x="826920" y="5433840"/>
            <a:ext cx="8317080" cy="14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187280" y="2707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бразование является предметом рассмотрения двух важных статей (27 и 28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чальное образование должно быть обязательным, бесплатным и доступным каждому и направленным на развитие личности ребенка, его дарований и природных способностей в условиях соответствующего уважения национальной самобытности, языка и традиционных ценносте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собый акцент делается на равенстве образовательных возможностей для девочек и мальчиков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6" name="Picture 9" descr="Рисунок2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2639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kind-klein"/>
          <p:cNvPicPr/>
          <p:nvPr/>
        </p:nvPicPr>
        <p:blipFill>
          <a:blip r:embed="rId2"/>
          <a:stretch/>
        </p:blipFill>
        <p:spPr>
          <a:xfrm>
            <a:off x="900000" y="404640"/>
            <a:ext cx="2295720" cy="166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0:57:42Z</dcterms:created>
  <dc:creator>b</dc:creator>
  <dc:description/>
  <dc:language>en-US</dc:language>
  <cp:lastModifiedBy>1</cp:lastModifiedBy>
  <dcterms:modified xsi:type="dcterms:W3CDTF">2011-12-13T15:45:31Z</dcterms:modified>
  <cp:revision>18</cp:revision>
  <dc:subject/>
  <dc:title>Слайд 1</dc:title>
</cp:coreProperties>
</file>